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2CEF-CD9D-4E3F-884C-29AB9CDD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E3FE-C205-408B-95A1-534E8C3A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344-626D-4292-B179-9F26DD704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AE4-4051-41DF-A516-C69FC780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D0BD-C556-4F42-9660-A94863D7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65A26-3F72-4EF2-8C92-88F53520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A7C0-A6DF-4B9F-A0D3-BA24AA72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91F2-2388-4F89-8AD2-4DDBEF27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BEC4-3750-42BF-8C81-79A65BC9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1AD0-36B2-4248-A3EC-BDBE8380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DBA0-40B6-47B5-91F4-573064D9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F8FD-C2B3-4D63-95EB-3ED95B05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EB73-3A09-4EE8-AAFE-A9AB5209B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286F-0471-4BA5-B88B-A6FF0C0A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2E97-C4A3-4516-AD68-09B5DE2C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B3B6C-EF82-465E-ABAD-A87D11D0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94CC9-EC55-4B7E-9F78-819EFEE1E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4AA7-3562-4B35-AE69-ECF4FD9B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8461-B50B-4083-B252-2066F9275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977-ECCF-4DD0-B501-062687AB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9C71-00E4-4444-AE03-4EA2ED0C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EDFE-E7E9-417A-A228-4078DB06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5006-8D37-4CAE-8F1F-23A94B5AD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FE1C-C1BF-46A9-B1B1-94E99E8A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1D491-A3BD-405B-A891-275E54C5D0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6" descr="C:\Documents and Settings\Administrator\桌面\33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571644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395280" y="-93600"/>
            <a:ext cx="8353440" cy="59040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Documents and Settings\Administrator\桌面\莲 2(1).png"/>
          <p:cNvPicPr/>
          <p:nvPr/>
        </p:nvPicPr>
        <p:blipFill>
          <a:blip r:embed="rId4"/>
          <a:stretch/>
        </p:blipFill>
        <p:spPr>
          <a:xfrm>
            <a:off x="549360" y="0"/>
            <a:ext cx="1182600" cy="1204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E5A7-E783-48A8-8463-41D8BD59032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89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92" name="矩形 9" descr=""/>
          <p:cNvPicPr/>
          <p:nvPr/>
        </p:nvPicPr>
        <p:blipFill>
          <a:blip r:embed="rId5"/>
          <a:stretch/>
        </p:blipFill>
        <p:spPr>
          <a:xfrm>
            <a:off x="163440" y="650880"/>
            <a:ext cx="3436920" cy="770040"/>
          </a:xfrm>
          <a:prstGeom prst="rect">
            <a:avLst/>
          </a:prstGeom>
          <a:ln w="0">
            <a:noFill/>
          </a:ln>
        </p:spPr>
      </p:pic>
      <p:sp>
        <p:nvSpPr>
          <p:cNvPr id="93" name="矩形 11"/>
          <p:cNvSpPr/>
          <p:nvPr/>
        </p:nvSpPr>
        <p:spPr>
          <a:xfrm>
            <a:off x="469080" y="1316160"/>
            <a:ext cx="2695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文字这是文字这是文字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1"/>
          <p:cNvSpPr/>
          <p:nvPr/>
        </p:nvSpPr>
        <p:spPr>
          <a:xfrm>
            <a:off x="307800" y="2989440"/>
            <a:ext cx="311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国风网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www.zhongguofeng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97" name="Group 4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98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0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8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02" name="Group 9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03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4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5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Group 13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07" name="Group 14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08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09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0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18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12" name="Group 19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13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14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5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5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"/>
                            </p:stCondLst>
                            <p:childTnLst>
                              <p:par>
                                <p:cTn id="3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0" dur="7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" dur="7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5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5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250"/>
                            </p:stCondLst>
                            <p:childTnLst>
                              <p:par>
                                <p:cTn id="5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750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5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2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5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5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1"/>
          <p:cNvSpPr/>
          <p:nvPr/>
        </p:nvSpPr>
        <p:spPr>
          <a:xfrm>
            <a:off x="1130400" y="1562040"/>
            <a:ext cx="688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风，即在歌曲中加入中国古代一些典故作为创作背景，用现代的音乐唱出古典的味道，唱法多样。曲风偏向传统的东方演奏，加入的是一些东方乐器，通曲音调婉转，回环，有一种传统东方的美感。周杰伦的《东风破》是现代流行中国风与古典中国风的分水岭，因为它完全符合“三古三新”标准，是融合古典曲风与西洋曲风的产物。其他之前产生的作品，还是一种近似古风形态，一种探索怀旧的尝试（如《后窗》、《十面埋伏》、《双截棍》等） ；中国风词风注重语言的简洁，精炼及语境的意用，用一些诗词文的化用，通过汉语的一些修辞手法，如比喻，借代等来以表现曲的意境，如《公公偏头痛》、《红尘客栈》等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矩形 10"/>
          <p:cNvSpPr/>
          <p:nvPr/>
        </p:nvSpPr>
        <p:spPr>
          <a:xfrm>
            <a:off x="5006880" y="1413000"/>
            <a:ext cx="79236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57992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2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9280" y="-106200"/>
            <a:ext cx="3017880" cy="3251160"/>
          </a:xfrm>
          <a:prstGeom prst="rect">
            <a:avLst/>
          </a:prstGeom>
          <a:ln w="0">
            <a:noFill/>
          </a:ln>
        </p:spPr>
      </p:pic>
      <p:pic>
        <p:nvPicPr>
          <p:cNvPr id="135" name="矩形 8" descr=""/>
          <p:cNvPicPr/>
          <p:nvPr/>
        </p:nvPicPr>
        <p:blipFill>
          <a:blip r:embed="rId5"/>
          <a:stretch/>
        </p:blipFill>
        <p:spPr>
          <a:xfrm>
            <a:off x="163440" y="863640"/>
            <a:ext cx="2928960" cy="7700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"/>
                            </p:stCondLst>
                            <p:childTnLst>
                              <p:par>
                                <p:cTn id="12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2" dur="2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750"/>
                            </p:stCondLst>
                            <p:childTnLst>
                              <p:par>
                                <p:cTn id="13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组合 20"/>
          <p:cNvGrpSpPr/>
          <p:nvPr/>
        </p:nvGrpSpPr>
        <p:grpSpPr>
          <a:xfrm>
            <a:off x="0" y="2247840"/>
            <a:ext cx="9144000" cy="857160"/>
            <a:chOff x="0" y="2247840"/>
            <a:chExt cx="9144000" cy="857160"/>
          </a:xfrm>
        </p:grpSpPr>
        <p:sp>
          <p:nvSpPr>
            <p:cNvPr id="137" name="矩形 15"/>
            <p:cNvSpPr/>
            <p:nvPr/>
          </p:nvSpPr>
          <p:spPr>
            <a:xfrm>
              <a:off x="311040" y="2247840"/>
              <a:ext cx="8832960" cy="857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矩形 8"/>
            <p:cNvSpPr/>
            <p:nvPr/>
          </p:nvSpPr>
          <p:spPr>
            <a:xfrm>
              <a:off x="1346400" y="2594520"/>
              <a:ext cx="3067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ffffff"/>
                  </a:solidFill>
                  <a:latin typeface="方正清刻本悦宋简体"/>
                  <a:ea typeface="方正清刻本悦宋简体"/>
                </a:rPr>
                <a:t>一心一世界 一生一百年</a:t>
              </a:r>
              <a:endParaRPr b="0" lang="en-US" sz="15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矩形 33"/>
            <p:cNvSpPr/>
            <p:nvPr/>
          </p:nvSpPr>
          <p:spPr>
            <a:xfrm>
              <a:off x="0" y="2247840"/>
              <a:ext cx="325800" cy="85716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0" name="图片 25" descr=""/>
          <p:cNvPicPr/>
          <p:nvPr/>
        </p:nvPicPr>
        <p:blipFill>
          <a:blip r:embed="rId1"/>
          <a:stretch/>
        </p:blipFill>
        <p:spPr>
          <a:xfrm>
            <a:off x="0" y="857160"/>
            <a:ext cx="1393920" cy="22827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4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414680" y="1814400"/>
            <a:ext cx="5072400" cy="361476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7" descr=""/>
          <p:cNvPicPr/>
          <p:nvPr/>
        </p:nvPicPr>
        <p:blipFill>
          <a:blip r:embed="rId3"/>
          <a:stretch/>
        </p:blipFill>
        <p:spPr>
          <a:xfrm>
            <a:off x="7059600" y="722160"/>
            <a:ext cx="1085760" cy="1252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53" descr=""/>
          <p:cNvPicPr/>
          <p:nvPr/>
        </p:nvPicPr>
        <p:blipFill>
          <a:blip r:embed="rId4"/>
          <a:stretch/>
        </p:blipFill>
        <p:spPr>
          <a:xfrm>
            <a:off x="7658280" y="1109520"/>
            <a:ext cx="1333440" cy="15354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54" descr=""/>
          <p:cNvPicPr/>
          <p:nvPr/>
        </p:nvPicPr>
        <p:blipFill>
          <a:blip r:embed="rId5"/>
          <a:srcRect l="0" t="0" r="0" b="-3696"/>
          <a:stretch/>
        </p:blipFill>
        <p:spPr>
          <a:xfrm>
            <a:off x="7261200" y="2136600"/>
            <a:ext cx="876240" cy="1009800"/>
          </a:xfrm>
          <a:prstGeom prst="rect">
            <a:avLst/>
          </a:prstGeom>
          <a:ln w="0">
            <a:noFill/>
          </a:ln>
        </p:spPr>
      </p:pic>
      <p:sp>
        <p:nvSpPr>
          <p:cNvPr id="145" name="矩形 30"/>
          <p:cNvSpPr/>
          <p:nvPr/>
        </p:nvSpPr>
        <p:spPr>
          <a:xfrm>
            <a:off x="1610640" y="1189080"/>
            <a:ext cx="3570120" cy="3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中国风</a:t>
            </a:r>
            <a:r>
              <a:rPr b="0" lang="en-US" sz="1500" spc="-1" strike="noStrike">
                <a:solidFill>
                  <a:srgbClr val="404040"/>
                </a:solidFill>
                <a:latin typeface="微软雅黑"/>
                <a:ea typeface="微软雅黑"/>
              </a:rPr>
              <a:t>-www.zhongguofeng.c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1258920" y="1563840"/>
            <a:ext cx="3274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可以在下列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限次数的用于您个人</a:t>
            </a:r>
            <a:r>
              <a:rPr b="0" lang="en-US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公司、企业的商业演示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拷贝模板中的内容用于其它幻灯片母版中使用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文本框 2"/>
          <p:cNvSpPr/>
          <p:nvPr/>
        </p:nvSpPr>
        <p:spPr>
          <a:xfrm>
            <a:off x="3905280" y="1569960"/>
            <a:ext cx="380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不可以在以下情况使用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用于任何形式的在线付费下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08080"/>
                </a:solidFill>
                <a:latin typeface="微软雅黑"/>
                <a:ea typeface="微软雅黑"/>
              </a:rPr>
              <a:t>收集整理我们发布的免费资源后，刻录光碟销售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图片 4" descr="中国风文件"/>
          <p:cNvPicPr/>
          <p:nvPr/>
        </p:nvPicPr>
        <p:blipFill>
          <a:blip r:embed="rId6"/>
          <a:stretch/>
        </p:blipFill>
        <p:spPr>
          <a:xfrm>
            <a:off x="1781280" y="3139920"/>
            <a:ext cx="1150920" cy="4734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5"/>
          <p:cNvSpPr/>
          <p:nvPr/>
        </p:nvSpPr>
        <p:spPr>
          <a:xfrm>
            <a:off x="68400" y="3699000"/>
            <a:ext cx="39510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PPT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PPT/ 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AI   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DR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sucai/CDR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CAD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CAD/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MAX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MAX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平面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pingmian/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建筑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jianzhu/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装修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zhuangxi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国粹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ocu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摄影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eyi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器物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qiwu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文本框 9"/>
          <p:cNvSpPr/>
          <p:nvPr/>
        </p:nvSpPr>
        <p:spPr>
          <a:xfrm>
            <a:off x="2436840" y="3699000"/>
            <a:ext cx="395136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风水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engshui/         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文玩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： 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wenwa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家具  ：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微软雅黑"/>
                <a:ea typeface="微软雅黑"/>
              </a:rPr>
              <a:t>www.zhongguofeng.com/jiaju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服装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fuzhuang/       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名家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ingjia/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手作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houzuo/  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美食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meishi/ 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素材  ：</a:t>
            </a: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sucai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产品  ：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chanpin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古风  ：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www.zhongguofeng.com/gufeng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佛教   </a:t>
            </a:r>
            <a:r>
              <a:rPr b="1" lang="en-US" sz="700" spc="-1" strike="noStrike">
                <a:solidFill>
                  <a:srgbClr val="eeece1"/>
                </a:solidFill>
                <a:latin typeface="微软雅黑"/>
                <a:ea typeface="微软雅黑"/>
              </a:rPr>
              <a:t>: www.zhongguofeng.com/fojiao/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eeece1"/>
                </a:solidFill>
                <a:latin typeface="微软雅黑"/>
                <a:ea typeface="微软雅黑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 advTm="8000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dur="indefinite" nodeType="withEffect" fill="hold" presetClass="entr" presetID="6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dur="indefinite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06:48:50Z</dcterms:created>
  <dc:creator>user</dc:creator>
  <dc:description/>
  <dc:language>en-US</dc:language>
  <cp:lastModifiedBy>Administrator</cp:lastModifiedBy>
  <dcterms:modified xsi:type="dcterms:W3CDTF">2017-04-05T07:38:28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