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774-A34A-4165-8096-DC320545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EED-0AE7-4162-8C52-39740236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37DF9-1984-4574-B608-3764C2E7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EB89F-66AB-4BF7-B30B-0BE66C41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61289-2F3F-442D-B6D3-4147EF78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D9DB7-B020-4395-AB2C-AA3AA751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DBA82-F4C0-4B2F-A92B-7EF9D1AE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3A83C-F383-440F-94F1-904E3CA5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291B4-934B-4507-BCE7-28CD9A4C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40D0D-7AFA-490C-8B23-78D800E6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12727-A4F0-4021-BD08-2D4BA834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DEFAC-28CD-411C-838B-C047FAD0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FEF-DA5A-4550-A2F8-CDF90849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9FE9D-E5F4-48FC-AA16-CB9CE473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3F94C-A0F6-4E79-98D9-1AA4D57A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B38DE-7FEA-40D8-A137-FC278835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8721D-3800-40FD-ADC0-E5202D91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2847D-2727-46E6-A5AE-4C55FD34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4B32D-A6AA-4823-8246-CBB1471D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82049-ED54-4CA0-9042-01317511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9777A-B649-405A-9F7C-B961F4A1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EEBBB-468A-4ABD-AFEF-97C39599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283E4-C22C-4BDC-B3A9-EB555C30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19D-8ECA-4E78-98D0-21B4C8D6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3C298-353F-465C-B315-E616BB06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92A60-F044-4EC4-BBF5-6BB0F658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AAF65-31B4-48FE-9791-FF69ABEA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0A68B-D978-456A-BC3C-A7925061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5E2DE-D931-4A1A-B124-21AADA62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332D0-9636-4B85-B980-91EC5136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669CA-701B-45A4-8656-70E355C2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1C616-AC85-4A70-8DD0-D91F473E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73A40-695E-459E-A3DD-257F912F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21C8E-2C59-4A75-84B4-895CF9DA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4DF6-B412-4DB3-A456-17317CE9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0E48F-3C40-41BF-8FC0-8FF04A25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66DB2-8942-4BDD-BF5A-B74AFEA3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7AA1C-EA83-45FB-946E-500B1499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C2FD1-97DF-4420-8FC6-2849373F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F1D6F-B24A-4BB6-A131-949897F9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E0ACB-F113-44C2-8E6C-1BA51AFD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AB084-D396-4666-B1DF-7C8FD26E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66CC2-3E84-4CE8-8D51-67B3146E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6AE00-51C5-4E51-80EC-0ABAE968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29941-0BDE-4D98-A8A7-59627E95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C76A-F64A-4288-9593-D187418C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3D341-68AF-4A99-B17E-AE26E9D5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B93DE-B447-45D1-BBD2-FEA1CFE9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62DE6-3862-4416-BEAE-E09B8657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1F216-CFEF-4A89-A1D7-9090D7DD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225F2-53F5-41F1-A623-C321E19A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699BB-1286-426C-B4AC-575EFD2C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F15DD-D68B-40A5-862A-8F3E763E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46BB8-9EFB-4BB4-B710-54A6623B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C2DDD-EA96-49C4-A552-82E45777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9DCC0-4DF5-4D69-A96C-E6D46AE1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FEFD-A94E-4BFB-99F8-D02551C3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C2FBB-48B2-4272-A58F-54700DA6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28240-564F-4BAD-8B68-FA728082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4F1F8-E60E-4158-9634-BE967835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4185B-1FC7-45DC-A510-AAF2022F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62D89-7CFC-4375-96A6-96F94959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36BDB-258D-4E72-A23E-4B21453E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0E789-14FB-4EBC-80C4-FFB6EF3C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E690-4CC4-476B-89A7-2727EAB1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CEF5-61D0-4AB5-A1F2-2CF9921E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AE9C-3EB1-418A-A2DA-DBD47489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80B0-73FC-4918-8E0C-A671671A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FB7-B97B-4E48-B57B-F58B3E07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B3AC-EB2D-46C8-B4B7-A2BC8C19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7D07-5E23-4A6D-B3FD-C3BC85E6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C38C-56B6-42B2-ACDE-E7CD8A98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C885-B869-4422-A671-6615B8C1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1D25-5DC6-4D2E-AD6E-6ED6BDD4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6359B-BE42-442F-A9BF-9C963161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E6B7-E906-4048-8039-700DF7A9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65F4C-88F2-4243-9D5F-CCFAF61B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D9797-AA0D-4A37-98DF-B8A85654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5A42-7836-4BAF-94D4-27AB0F73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437-10D7-40E0-9F30-1AE11141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70BDE-614E-485B-8667-7B4ADE03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1DBF0-B0D9-4F80-AE31-86AB5078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4ED4D-48C3-4862-8F16-7C756058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51B5E-6973-4BE8-A697-D79444D9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79A9-E4BE-4B03-B46E-678B672C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55205-0106-4326-8883-991124B2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6150-1E17-448C-BBF5-80319D42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0C79D-446E-4A57-9550-4D3C13B3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91CB3-E36A-4DB9-82A1-C2C7E47F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486F7-25DC-42C6-B9E4-D123D474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CF3-A5EC-40B1-9F67-B061126F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D97BF-0862-4F1E-92A8-7FF0B0F2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6677D-2768-4009-9BC5-F7E45032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83E89-7E65-4F04-AA73-F2E71C7D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B882F-D1BE-4F44-B0D6-CAB1D35D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5359F-F02F-4859-8419-110AC18E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97867-B966-4D2B-A2CC-DBB01E89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48E79-24C2-42F8-97FC-3A5F3E3E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F8805-AC8A-454E-8DB0-291D8BEC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DBFE7-59C2-410F-9430-93F3D104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D3EDA-37A6-4395-A98A-EBDD4DD9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BFB-8F8C-4D14-9A59-B7D9E88B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4E904-2C3E-4A4E-95BF-A01ED599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C06E8-BDAC-41AD-9D25-353994C3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2F4EC-0093-4A09-A1A2-5AD22A15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4E548-1F3D-4081-86F0-57798995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BA1FA-B135-4F06-B045-4C2A7A71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6978A-D35A-4544-B9C4-14C94712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113B6-330F-4C15-B5DD-CE3F0027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220C5-2DA1-4AEF-8FDB-F14E0AAD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3E4F8-5AE8-434A-AC40-EC9DD692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3A1C7-03C8-4D31-8DC2-8D5AAD4E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2A9-7690-4DD6-A26F-EC9097F6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8E360-2990-4E70-B52D-27411892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48E9F-081A-4999-8351-33C902F2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73A81-74C1-4C97-BA2E-8DDC9B45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63E5D-B840-4524-8AC9-369A01FA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B77AA-2F05-4FFB-8F87-5EB58A91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F5AA6-5EFA-4148-A662-9FCE80AE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14147-BAF7-47AB-80E8-497ABABF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15A12-A200-43E3-AD77-75FE03E5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0AEA3-64EA-43CE-8597-37417C16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2FDF4-15AB-4F9C-B55B-83F4A7F7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D5F-FAEE-4FA9-A4D5-353FAF85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27CBB-95DB-47FF-A321-6F5D41C4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7036B-C84F-4586-ADAD-7BABBE65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E6DB4-9994-4F3E-AF02-73091240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48C33-0C4D-4A0A-9E63-D93F8B6F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DC7FE-4A25-43B4-8689-C7FB533E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E1BB9-BDD7-41AC-822C-F19FD81A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1D0CE-21BF-4842-9B1D-2B693217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DEFB8-CD5F-4018-8DD7-03D85B06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D0F42-C4EC-409C-9E58-FF6C2CD3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71A3B-DEB3-4952-9B7C-F9F98A41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28B-2212-4976-A268-E21664EC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F9B4B-4A36-4621-8F17-58E89E49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40727-9E40-450A-B713-8E1D1B05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38127-F45A-468A-BDD3-D569057D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5708D-BEEB-41AD-939B-1A5F2FE7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711C0-6ABB-4EC0-8405-DBAE991C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BF3A3-46D1-4EC3-A55D-4A673D29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C2610-2FA1-4EDD-9CC0-D4DCEBBC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15B8B-3E27-4C26-8DCE-0BC8BBB4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1DF98-79A8-43E6-A8CB-6891B451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21A8B-5ABA-4FE6-AA67-69C519D5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546-2E15-4169-ADFD-ADFC5F93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F5525-CD1B-4F2E-8C98-2E39FEA3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DC01C-2C89-4EC7-A7CA-03ACC295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CA20D-6230-404A-9609-F477184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35D14-2329-4CBE-A82F-F26D6804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B6A10-C171-4D36-B73F-272BFEAC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93E9E-6C90-490D-99CF-F00D1C21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B2F72-1441-4948-860A-7B720051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BB236-CB41-4659-ABE8-13DF3200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47DEB-5D17-4ADD-9328-C0FF1542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30460-8C90-49B3-90D6-CCD35F1A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0112-66C2-438D-937B-7E2AE2E8766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03B5-9D6F-4B6E-BAA0-E9AE7B4651BE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6C5A-EBDA-477D-A56C-31994452AD5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9F7A-B61B-45BC-AD18-0BBF4C132BE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321A-E771-4A5E-8760-26B3AB05AF1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29AC-19B4-4C82-9E19-B552560DC5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6631-B918-4AE3-94C2-64B0B68D277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D557-069C-4CF7-ADA7-17C3F84708B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5AC4-CC86-436C-8107-07921340B59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9039-5A7E-43EE-AD77-4D65E46B943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5800-840D-4033-B7D9-FA90A895DBA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5462-26F8-4BBA-857E-5D48F72DAC72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FC54-CAA3-42FE-9F9B-4E1A1BC2463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1"/>
          <p:cNvSpPr/>
          <p:nvPr/>
        </p:nvSpPr>
        <p:spPr>
          <a:xfrm>
            <a:off x="3629880" y="1940040"/>
            <a:ext cx="13993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</a:t>
            </a: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艺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2"/>
          <p:cNvSpPr/>
          <p:nvPr/>
        </p:nvSpPr>
        <p:spPr>
          <a:xfrm>
            <a:off x="2340000" y="5229360"/>
            <a:ext cx="40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mulu"/>
          <p:cNvPicPr/>
          <p:nvPr/>
        </p:nvPicPr>
        <p:blipFill>
          <a:blip r:embed="rId1"/>
          <a:stretch/>
        </p:blipFill>
        <p:spPr>
          <a:xfrm>
            <a:off x="-169920" y="-87480"/>
            <a:ext cx="9423360" cy="704556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"/>
          <p:cNvSpPr/>
          <p:nvPr/>
        </p:nvSpPr>
        <p:spPr>
          <a:xfrm>
            <a:off x="239040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2"/>
          <p:cNvSpPr/>
          <p:nvPr/>
        </p:nvSpPr>
        <p:spPr>
          <a:xfrm>
            <a:off x="329508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渊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3"/>
          <p:cNvSpPr/>
          <p:nvPr/>
        </p:nvSpPr>
        <p:spPr>
          <a:xfrm>
            <a:off x="42271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艺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51523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历代刺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5"/>
          <p:cNvSpPr/>
          <p:nvPr/>
        </p:nvSpPr>
        <p:spPr>
          <a:xfrm>
            <a:off x="60541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四大名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325080" cy="69595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过度 花圈-01"/>
          <p:cNvPicPr/>
          <p:nvPr/>
        </p:nvPicPr>
        <p:blipFill>
          <a:blip r:embed="rId2"/>
          <a:stretch/>
        </p:blipFill>
        <p:spPr>
          <a:xfrm>
            <a:off x="1495440" y="-17640"/>
            <a:ext cx="5813280" cy="30942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过度鸟2-01-01-01"/>
          <p:cNvPicPr/>
          <p:nvPr/>
        </p:nvPicPr>
        <p:blipFill>
          <a:blip r:embed="rId3"/>
          <a:stretch/>
        </p:blipFill>
        <p:spPr>
          <a:xfrm>
            <a:off x="1496880" y="-19080"/>
            <a:ext cx="5811840" cy="3092400"/>
          </a:xfrm>
          <a:prstGeom prst="rect">
            <a:avLst/>
          </a:prstGeom>
          <a:ln w="0">
            <a:noFill/>
          </a:ln>
        </p:spPr>
      </p:pic>
      <p:grpSp>
        <p:nvGrpSpPr>
          <p:cNvPr id="545" name="组合 3"/>
          <p:cNvGrpSpPr/>
          <p:nvPr/>
        </p:nvGrpSpPr>
        <p:grpSpPr>
          <a:xfrm>
            <a:off x="4308480" y="2946240"/>
            <a:ext cx="641520" cy="3095640"/>
            <a:chOff x="4308480" y="2946240"/>
            <a:chExt cx="641520" cy="3095640"/>
          </a:xfrm>
        </p:grpSpPr>
        <p:sp>
          <p:nvSpPr>
            <p:cNvPr id="546" name="文本框 1"/>
            <p:cNvSpPr/>
            <p:nvPr/>
          </p:nvSpPr>
          <p:spPr>
            <a:xfrm>
              <a:off x="4342680" y="3165120"/>
              <a:ext cx="606960" cy="24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刺绣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2"/>
            <p:cNvSpPr/>
            <p:nvPr/>
          </p:nvSpPr>
          <p:spPr>
            <a:xfrm>
              <a:off x="4308480" y="2946240"/>
              <a:ext cx="641520" cy="3095640"/>
            </a:xfrm>
            <a:prstGeom prst="rect">
              <a:avLst/>
            </a:prstGeom>
            <a:noFill/>
            <a:ln w="34920">
              <a:solidFill>
                <a:srgbClr val="f5a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253440" cy="6959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xian"/>
          <p:cNvPicPr/>
          <p:nvPr/>
        </p:nvPicPr>
        <p:blipFill>
          <a:blip r:embed="rId2"/>
          <a:stretch/>
        </p:blipFill>
        <p:spPr>
          <a:xfrm>
            <a:off x="1495440" y="814320"/>
            <a:ext cx="6767640" cy="311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xian2"/>
          <p:cNvPicPr/>
          <p:nvPr/>
        </p:nvPicPr>
        <p:blipFill>
          <a:blip r:embed="rId3"/>
          <a:stretch/>
        </p:blipFill>
        <p:spPr>
          <a:xfrm>
            <a:off x="1495440" y="5589720"/>
            <a:ext cx="6769080" cy="312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鸟1-01"/>
          <p:cNvPicPr/>
          <p:nvPr/>
        </p:nvPicPr>
        <p:blipFill>
          <a:blip r:embed="rId4"/>
          <a:stretch/>
        </p:blipFill>
        <p:spPr>
          <a:xfrm>
            <a:off x="6753240" y="4005360"/>
            <a:ext cx="1922400" cy="2808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7" descr="文字-01"/>
          <p:cNvPicPr/>
          <p:nvPr/>
        </p:nvPicPr>
        <p:blipFill>
          <a:blip r:embed="rId5"/>
          <a:stretch/>
        </p:blipFill>
        <p:spPr>
          <a:xfrm>
            <a:off x="1487520" y="1424160"/>
            <a:ext cx="7137360" cy="3949560"/>
          </a:xfrm>
          <a:prstGeom prst="rect">
            <a:avLst/>
          </a:prstGeom>
          <a:ln w="0">
            <a:noFill/>
          </a:ln>
        </p:spPr>
      </p:pic>
      <p:grpSp>
        <p:nvGrpSpPr>
          <p:cNvPr id="553" name="组合 3"/>
          <p:cNvGrpSpPr/>
          <p:nvPr/>
        </p:nvGrpSpPr>
        <p:grpSpPr>
          <a:xfrm>
            <a:off x="423720" y="1779480"/>
            <a:ext cx="640080" cy="3095640"/>
            <a:chOff x="423720" y="1779480"/>
            <a:chExt cx="640080" cy="3095640"/>
          </a:xfrm>
        </p:grpSpPr>
        <p:sp>
          <p:nvSpPr>
            <p:cNvPr id="554" name="文本框 1"/>
            <p:cNvSpPr/>
            <p:nvPr/>
          </p:nvSpPr>
          <p:spPr>
            <a:xfrm>
              <a:off x="456840" y="1998360"/>
              <a:ext cx="606960" cy="24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刺绣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2"/>
            <p:cNvSpPr/>
            <p:nvPr/>
          </p:nvSpPr>
          <p:spPr>
            <a:xfrm>
              <a:off x="423720" y="1779480"/>
              <a:ext cx="640080" cy="3095640"/>
            </a:xfrm>
            <a:prstGeom prst="rect">
              <a:avLst/>
            </a:prstGeom>
            <a:noFill/>
            <a:ln w="34920">
              <a:solidFill>
                <a:srgbClr val="f5a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谢谢-01-01"/>
          <p:cNvPicPr/>
          <p:nvPr/>
        </p:nvPicPr>
        <p:blipFill>
          <a:blip r:embed="rId2"/>
          <a:stretch/>
        </p:blipFill>
        <p:spPr>
          <a:xfrm>
            <a:off x="3851280" y="1611360"/>
            <a:ext cx="142704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559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2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567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571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04-05T07:55:27Z</dcterms:modified>
  <cp:revision>1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