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8AC-46DC-44E6-AC61-AB678DF3C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E587-D8D0-469A-A466-6EA2361C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0EE1C-6E46-4B18-AFDF-D71DA52D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42206E-4804-48C8-B188-7770951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B900D4-EA76-4D5D-9299-0DB0019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C96FD-2616-4E47-9457-8A7F3C16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B2AB88-82E5-43FB-8AA6-C23D3703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B8CB7-DE17-46B2-B54C-C8CD1D2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E9E5C-04CA-4DB8-B8C5-0A2B7176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93F68-AEC4-480F-9127-44C8888E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05F6B-FC92-4AD8-8E6B-C27A493A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51946-91A4-4A1B-A5B4-B0C6581D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C786-99AA-4785-AB4D-B203D65A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38FEA-7B68-4FD6-B1A2-F97B7ED0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F2E59-9C0A-4713-AEB8-2A389D69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5F72A-936A-43AD-B054-12D0C3A0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2989D-384B-4D48-AAFE-F5ECC3B1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E1788-6947-4F20-98C4-7231A38A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FE78B-884A-4A8D-9DEF-F8FE2B1A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B0A18-BA23-49CA-8D22-F5BEA96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DB1DD5-79A0-4799-B3F7-5D1A0E2F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75CF8-9E34-4527-8507-CA5EC48D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EB5A1-7966-4739-9FE0-13FDD26F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F0AD-A00D-4340-80B7-44B1CD45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7469F-42BF-488F-8FA2-D3F29749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6DF95-D3E8-4B69-9F4C-9BC84A8F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E4E51C-8706-458E-A7AD-C3E5E0D6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02ABC-3D4C-463A-B973-B7C2DB33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C667F-1BAD-4ED8-9BBE-D90A0020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52DF0-66C1-4024-9945-6B842EEF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5B1F5-3108-4377-9AA9-1BC531DB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2BEB75-CBF2-495E-8D8D-CB84272B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01C7F-DE50-433B-8678-35F61AD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D55D6-ADD4-44B7-A4E3-F7D8D682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71BB-F37C-48A2-9F2F-A0834D774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BEE17-1595-4F22-B00B-3C3B6FAE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F5CA6-95A6-4D4E-85FD-01E3F558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14B26-60AD-4381-81AB-7D062F33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3917-876F-4C99-B737-E82CD4B9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FF161-3024-4AC9-93B9-A24E1DF5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9C88D-C261-4637-BEAD-0AC31F12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654B6-86BE-4611-9185-BFDB7411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22E0D-6004-4637-B335-3139EA72D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C2451-FFD7-477B-94CC-65218966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E514A-2CE3-4373-BF4B-477E07AA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ED72-2333-4302-B2E5-9169598C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F5551-FBAF-4FF5-865E-F205C623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C5067-16CC-4435-86E5-2B10B40C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49FF8-E9EE-4CC5-8489-DE9586EB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11E911-4629-4B8B-91FD-498EA2BF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039CC-19E4-4DFB-BF5A-BF4B8378F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CAE060-24FF-4E66-9B06-A7DEC7D0C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6255BE-6056-415A-B6E9-D354ECA8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4826B0-C2B6-42CD-AF69-24830E06D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8E6FF1-9BC3-4997-B9C2-23E9F65E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25E1A-D634-44A4-BFF9-E8315602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D8F3-A174-4FB5-ADB2-31A7F527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64C7B-2929-4207-A4BE-CAD6906A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01639-84F3-41D4-B8F4-375D9E44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7C503-95C0-40A1-B01C-9DEC9C2C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9EBBD-2192-4ABA-BBA1-8672AD2A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64F53A-9A3E-45E1-AA28-F7082A90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0A8CD-F3AA-4984-B68D-83B4144D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16B7A-D975-434F-A034-A27FA6B8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A154-A039-41A8-9872-F3698993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794-570E-42C7-B995-22F4F8B8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DB7C9-7FC2-46C4-BE4E-EACF09F6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8B1C-81BA-4E06-B767-92F75FE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C61-DBB9-4FC9-894B-8EE6486E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507A-393D-4567-9848-D868186A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0D3C-8B37-4A9F-A822-E55F5836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B1CD-7467-40E6-8403-429C7943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CB68-CAFC-466F-A985-2807ABBC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CC43-5911-474D-9C31-8D5E96D0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2AD7E-D2AD-4546-A67A-9E2534968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97068-2E9E-43CC-BB98-56989D09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15CC-9ED7-4A28-A523-E9B162F3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4AAA7-7334-45BA-AF53-ED3BC47C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E28ED-ACCD-4404-B711-FB15A5EF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3CCF-0FBA-4545-A150-0BD50E33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52EFC-F64E-472C-B68F-3B89C700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1B9C-6665-4AAC-8141-401C742A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BFA5-F89B-46EA-98A3-00EC10C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60540-7B6B-4B9E-A4C4-56CCE289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215C-8CD7-4D02-98AE-12A87154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0DD2-F310-4446-965D-434375CE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68A47-E0A3-4688-8A6F-77119043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AF5B2-A248-4FDC-87D9-64B33079D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815BF-B5A4-4EFD-A57C-C4FEE8C8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BEE77-05C2-4EE6-8A52-D7515FB8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0021-BC8B-4237-82F3-DAEE60FFE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BB5A-5034-4B2A-A319-1DE549FF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F214-DA87-465C-8358-80455714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B00C9-0627-416D-B289-680C188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DF029-4F04-4E83-87F7-77D34A6A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D9414-A693-4253-A175-3DFAAB8B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AB800-B9D1-45CE-9261-6DDD23BC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257D7-3144-4A6D-BDFD-944AE437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654EF-A610-4442-BE36-CED71FF3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C02D-2FAC-4F2E-A589-26FA62FA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87F1E-E70F-4A19-B39A-B0CC0E203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A94-0390-4400-A63D-67D6A227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9465-FCCA-4652-82CE-D1AF275D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C462C-8CF3-4E55-992C-5A048735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F143-E521-4A93-A731-2AC0C8AD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13579-93C0-44AB-A146-B7E79F18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68808-7BC0-4F7C-8E7C-C7AE4992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D698-1DC1-48BD-B119-F4B46F4A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44430-AAB6-473C-B818-A0E15D5B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330B-4AAE-454B-8D2A-9AD4FC4A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19ABB-45DF-43A5-979E-AEF2C4F6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EA7F9-4E4D-44C4-AEFF-1D660089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A9D-421C-4124-9640-C7E94DEA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46002-F17C-4053-999F-7C5BB0BC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23FEC-F24D-41AF-8601-63B1B9F3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F5805-F0E9-4208-842A-A903B46A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5DC2B-2956-4CA8-A945-1F32CB70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FCA97-A3DB-4255-A328-6789C17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058D2-409F-44F2-81A2-C4DA702E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A64BB-3D54-45A6-9A09-2DE9B210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7D2F0-2EC6-4442-B5F2-030E469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A990-E294-47BB-8C23-24C14877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24519-0644-45FB-98D6-C4492973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BACB-D604-4DED-99FF-9C2DA911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6B887-0854-4EA2-B27F-807A710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6DEB5-863E-4BC5-997C-1C37FC13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D856A-01CC-4D04-A064-1E0F3152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88BDE-11B6-4493-85A3-B1DF6B732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A54E7-8DC4-455E-8637-6C7D4A28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7F4FE-7692-4036-BE06-E83D920B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85289-94CB-4FA3-9D38-7CE7AF96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53FDE-C4A4-4DFB-AD7A-8E293F4D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D7624-1170-4482-BFFF-2C119EDD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D68C6-7B33-4EED-80E7-A5803606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23D-855C-4C9F-A211-0FB45B3E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493C1-41D4-4F71-A4A1-1CB546C2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40617-79DD-4796-B5E7-8B575266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1059A-2156-42DC-94D4-B4A3EF8C1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DE61F-1B79-428B-9E35-4A891BC1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DF99B-FE90-4976-AB0C-9B8E0F61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F668E-8858-4D0C-B944-A2A76EF5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03BEC-EFAA-4167-943F-FFDBF852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E9593-CB8D-4EF8-8248-4A1E8B89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F6A97-CB95-40EB-B9AB-AEA20DD0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45E0F-5FA6-4487-895B-2B9C389F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EAD-FBEE-4B8F-A777-4271DE8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C7752-E938-4A82-93AB-8DF60F6D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FB06F-0A3D-40D9-B5D7-62131510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AF1733-7898-4E64-8E17-5764C26D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BABF6-8695-4B17-82B4-B017E1E1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2A920-663E-4C19-89CD-B5650D30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2FF19-C318-42E0-9A3B-27E3DD19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A2663-715E-4AA4-9802-7384DB500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4CC88-2913-480B-BDE2-8F2567DF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3A5BE-025B-4B91-8C2E-8CA83459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8E08D-A5D3-4733-86C9-C52BB3C4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1B49-1893-43F7-A06B-7FCFDFB61EE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C06-013A-406B-B04B-873939F03D34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09D0-A9F0-4693-A2A9-86788CD4F53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D0BB-4073-4AD0-8260-FC285988458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5FAD-57FF-44DA-A91B-6CA6F3F7C91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66C6-38AA-4EB9-AC05-D57B59339A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7259-0155-4B52-9E88-BA0E020FD8AA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B6E2-E00D-4B7D-806B-4ED765AE06ED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7E84-B878-4B81-8D7A-F0435EFB169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21C8-26E7-4890-A40C-C842EE723C4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0F4D-1DC1-47FD-8DE2-06647D6F51A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E454-D72D-446D-AF8C-374E5B089C7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865E-93A3-46C8-834F-633BFC39EB4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sp>
        <p:nvSpPr>
          <p:cNvPr id="534" name="文本框 1"/>
          <p:cNvSpPr/>
          <p:nvPr/>
        </p:nvSpPr>
        <p:spPr>
          <a:xfrm>
            <a:off x="3629880" y="1940040"/>
            <a:ext cx="13993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·</a:t>
            </a:r>
            <a:r>
              <a:rPr b="0" lang="zh-CN" sz="4000" spc="-1" strike="noStrike">
                <a:solidFill>
                  <a:srgbClr val="d9d9d9"/>
                </a:solidFill>
                <a:latin typeface="微软雅黑"/>
                <a:ea typeface="微软雅黑"/>
              </a:rPr>
              <a:t>艺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2"/>
          <p:cNvSpPr/>
          <p:nvPr/>
        </p:nvSpPr>
        <p:spPr>
          <a:xfrm>
            <a:off x="2340000" y="5229360"/>
            <a:ext cx="40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mulu"/>
          <p:cNvPicPr/>
          <p:nvPr/>
        </p:nvPicPr>
        <p:blipFill>
          <a:blip r:embed="rId1"/>
          <a:stretch/>
        </p:blipFill>
        <p:spPr>
          <a:xfrm>
            <a:off x="-169920" y="-87480"/>
            <a:ext cx="9423360" cy="704556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"/>
          <p:cNvSpPr/>
          <p:nvPr/>
        </p:nvSpPr>
        <p:spPr>
          <a:xfrm>
            <a:off x="239040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2"/>
          <p:cNvSpPr/>
          <p:nvPr/>
        </p:nvSpPr>
        <p:spPr>
          <a:xfrm>
            <a:off x="329508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刺绣渊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3"/>
          <p:cNvSpPr/>
          <p:nvPr/>
        </p:nvSpPr>
        <p:spPr>
          <a:xfrm>
            <a:off x="4227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工艺要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4"/>
          <p:cNvSpPr/>
          <p:nvPr/>
        </p:nvSpPr>
        <p:spPr>
          <a:xfrm>
            <a:off x="51523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历代刺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5"/>
          <p:cNvSpPr/>
          <p:nvPr/>
        </p:nvSpPr>
        <p:spPr>
          <a:xfrm>
            <a:off x="6054120" y="2440080"/>
            <a:ext cx="60696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9d9d9"/>
                </a:solidFill>
                <a:latin typeface="微软雅黑"/>
                <a:ea typeface="微软雅黑"/>
              </a:rPr>
              <a:t>四大名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325080" cy="69595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过度 花圈-01"/>
          <p:cNvPicPr/>
          <p:nvPr/>
        </p:nvPicPr>
        <p:blipFill>
          <a:blip r:embed="rId2"/>
          <a:stretch/>
        </p:blipFill>
        <p:spPr>
          <a:xfrm>
            <a:off x="1495440" y="-17640"/>
            <a:ext cx="5813280" cy="30942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过度鸟2-01-01-01"/>
          <p:cNvPicPr/>
          <p:nvPr/>
        </p:nvPicPr>
        <p:blipFill>
          <a:blip r:embed="rId3"/>
          <a:stretch/>
        </p:blipFill>
        <p:spPr>
          <a:xfrm>
            <a:off x="1496880" y="-19080"/>
            <a:ext cx="5811840" cy="3092400"/>
          </a:xfrm>
          <a:prstGeom prst="rect">
            <a:avLst/>
          </a:prstGeom>
          <a:ln w="0">
            <a:noFill/>
          </a:ln>
        </p:spPr>
      </p:pic>
      <p:grpSp>
        <p:nvGrpSpPr>
          <p:cNvPr id="545" name="组合 3"/>
          <p:cNvGrpSpPr/>
          <p:nvPr/>
        </p:nvGrpSpPr>
        <p:grpSpPr>
          <a:xfrm>
            <a:off x="4308480" y="2946240"/>
            <a:ext cx="641520" cy="3095640"/>
            <a:chOff x="4308480" y="2946240"/>
            <a:chExt cx="641520" cy="3095640"/>
          </a:xfrm>
        </p:grpSpPr>
        <p:sp>
          <p:nvSpPr>
            <p:cNvPr id="546" name="文本框 1"/>
            <p:cNvSpPr/>
            <p:nvPr/>
          </p:nvSpPr>
          <p:spPr>
            <a:xfrm>
              <a:off x="4342680" y="316512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矩形 2"/>
            <p:cNvSpPr/>
            <p:nvPr/>
          </p:nvSpPr>
          <p:spPr>
            <a:xfrm>
              <a:off x="4308480" y="2946240"/>
              <a:ext cx="64152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背景-01"/>
          <p:cNvPicPr/>
          <p:nvPr/>
        </p:nvPicPr>
        <p:blipFill>
          <a:blip r:embed="rId1"/>
          <a:stretch/>
        </p:blipFill>
        <p:spPr>
          <a:xfrm>
            <a:off x="0" y="-19080"/>
            <a:ext cx="9253440" cy="6959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xian"/>
          <p:cNvPicPr/>
          <p:nvPr/>
        </p:nvPicPr>
        <p:blipFill>
          <a:blip r:embed="rId2"/>
          <a:stretch/>
        </p:blipFill>
        <p:spPr>
          <a:xfrm>
            <a:off x="1495440" y="814320"/>
            <a:ext cx="6767640" cy="3110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xian2"/>
          <p:cNvPicPr/>
          <p:nvPr/>
        </p:nvPicPr>
        <p:blipFill>
          <a:blip r:embed="rId3"/>
          <a:stretch/>
        </p:blipFill>
        <p:spPr>
          <a:xfrm>
            <a:off x="1495440" y="5589720"/>
            <a:ext cx="6769080" cy="3124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鸟1-01"/>
          <p:cNvPicPr/>
          <p:nvPr/>
        </p:nvPicPr>
        <p:blipFill>
          <a:blip r:embed="rId4"/>
          <a:stretch/>
        </p:blipFill>
        <p:spPr>
          <a:xfrm>
            <a:off x="6753240" y="4005360"/>
            <a:ext cx="1922400" cy="28083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7" descr="文字-01"/>
          <p:cNvPicPr/>
          <p:nvPr/>
        </p:nvPicPr>
        <p:blipFill>
          <a:blip r:embed="rId5"/>
          <a:stretch/>
        </p:blipFill>
        <p:spPr>
          <a:xfrm>
            <a:off x="1487520" y="1424160"/>
            <a:ext cx="7137360" cy="394956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3"/>
          <p:cNvGrpSpPr/>
          <p:nvPr/>
        </p:nvGrpSpPr>
        <p:grpSpPr>
          <a:xfrm>
            <a:off x="423720" y="1779480"/>
            <a:ext cx="640080" cy="3095640"/>
            <a:chOff x="423720" y="1779480"/>
            <a:chExt cx="640080" cy="3095640"/>
          </a:xfrm>
        </p:grpSpPr>
        <p:sp>
          <p:nvSpPr>
            <p:cNvPr id="554" name="文本框 1"/>
            <p:cNvSpPr/>
            <p:nvPr/>
          </p:nvSpPr>
          <p:spPr>
            <a:xfrm>
              <a:off x="456840" y="1998360"/>
              <a:ext cx="606960" cy="242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刺绣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矩形 2"/>
            <p:cNvSpPr/>
            <p:nvPr/>
          </p:nvSpPr>
          <p:spPr>
            <a:xfrm>
              <a:off x="423720" y="1779480"/>
              <a:ext cx="640080" cy="3095640"/>
            </a:xfrm>
            <a:prstGeom prst="rect">
              <a:avLst/>
            </a:prstGeom>
            <a:noFill/>
            <a:ln w="34920">
              <a:solidFill>
                <a:srgbClr val="f5aa4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未标题-1"/>
          <p:cNvPicPr/>
          <p:nvPr/>
        </p:nvPicPr>
        <p:blipFill>
          <a:blip r:embed="rId1"/>
          <a:stretch/>
        </p:blipFill>
        <p:spPr>
          <a:xfrm>
            <a:off x="-168120" y="-88920"/>
            <a:ext cx="9491400" cy="7093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谢谢-01-01"/>
          <p:cNvPicPr/>
          <p:nvPr/>
        </p:nvPicPr>
        <p:blipFill>
          <a:blip r:embed="rId2"/>
          <a:stretch/>
        </p:blipFill>
        <p:spPr>
          <a:xfrm>
            <a:off x="3851280" y="1611360"/>
            <a:ext cx="142704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559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2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564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565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567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571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8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istrator</cp:lastModifiedBy>
  <dcterms:modified xsi:type="dcterms:W3CDTF">2017-04-05T07:55:27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