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207-2E61-44DF-A4E9-2610EAF1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ED5-3F52-4AC2-A481-F19938DF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35875-D1BF-4C98-A767-78C6E749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0A435-0250-47AF-A8D6-FB028FAB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7F278-4152-469C-96CC-BE9EA1BD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A81EF-EC5D-46D5-8D81-799A3F57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A7F4F-381A-48E0-944E-B2AD46C2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7017C-9300-49DD-A536-ED9EADAE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97100-3492-48B5-ACE7-08DBC860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D2D9D-CAA2-45DC-8628-5B36EE29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ABE92-4938-4A59-9870-3114AD95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5A78C-DE00-4FE6-A4BB-48B6ADFA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439-1268-4534-BD9C-6D721BB8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AB541-D448-4E80-BA04-F29D589B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4E64D-D867-4910-8735-C72E188F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77D32-30AF-4E53-81B1-238A5309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3D513-39F1-458E-B12E-3C5CA0B8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DE4CC-F91F-477D-8C00-F5397BB0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E0AEC-2409-4CBB-ABCE-7A1A94E7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6899A-CFD8-408B-A82B-12946EEE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C8DFD-3F66-49A7-A8A9-1E0433F9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706F6-B895-4D27-A3F6-4FD320C9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FB8E0-1B0A-4F90-BFF2-3076EF2B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4DB-3DAF-456E-8A4B-B2E43AC9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E9755-EE57-46F6-82B1-98BC4D51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99A36-7B77-4276-906A-F1E2AAB4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446C7-4574-491A-904B-A94D9067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E3B7F-8769-43F4-98C6-212E7E08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176B0-6D30-4330-A8CA-D5B11E05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83A14-03CE-41B7-BFA6-B7EC7FA2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98AB7-F479-4B5B-A2EA-3058E85D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9506F-0EFB-4A04-B952-1883AA49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CC75F-7788-47BC-9C9A-42DC3B84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2EFFE-D2FC-475B-9502-39FDBCA5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5472-332C-4B70-8D8D-DC44852F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430D2-79EA-441D-AB32-58231F2E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9065E-BA1A-4C93-A6F7-81797974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59603-ACD7-4496-B68B-3101F231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7B965-3119-40D6-AC85-97A34058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4F1A3-48B2-4E4C-90F1-37EA4F8D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3344F-3662-4FCC-9313-40EFAC7E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9C77E-8240-48D4-9BC9-82B1043E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AEFDB-A90E-48F8-8C50-4C6F22E1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B7856-16B8-4FF2-8F75-A5F88CDE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4868B-04BF-460B-8163-3D526C3C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31CA-AA32-4D97-AFE1-7B68B194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7D944-AB05-43E8-AAD7-9E80CCC0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BA972-27A1-451A-BF31-A6E4B75B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204A6-DB3D-4133-922D-8240F680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4EDA4-D52C-488E-82F6-8B3DDBE7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4B251-2762-4442-83D6-2FB103B4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F2D9E-7729-4311-8A73-5BE8352A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C08FC-EC59-4829-810F-AF96C0A8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81AF1-1304-4083-A37E-91B83E5A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EE5E6-D008-4ECA-9346-EF73D4A5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69C5A-137A-4C84-97C9-876A3B4E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4AFB-1F8E-4346-9BB8-8D9213E7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478A7-38AD-436B-B17F-76277C2F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E4B31-3D96-4C05-8E77-F1867927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BD885-1CFD-4983-AAC7-90F10600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608A9-1DCE-434F-BB3C-363291DA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D4A235-689C-47BF-8B76-B4A9A5D0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B4106-D99C-464E-A247-C378018B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991DB-13FE-470F-9B4B-9C4C6B56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0744-47F4-417E-883F-67DF2894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C2AD-8085-4FE1-89C1-90BD1839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4D4D-D299-485A-A5CE-055C8003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A95D-B4E5-497E-9B9B-A2CDF27F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B07-128B-4A98-B37F-1B32B82F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71BC-7AC7-4BE1-963D-013CF33B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1344-1F89-46BB-945E-FB28825C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046F-B94A-49E7-9E84-51B3B99F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6514-540D-48D9-BCDD-93D2617E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448D-69AA-4153-92A3-91B6D29C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9521-A639-449B-A365-49838B15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B7CF5-5A1A-4FFC-ADB8-FB4A034C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384A-A73D-4ABD-8CF4-60E5E157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6D28-C770-4ED1-B59F-56B803B8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CC182-3117-47C4-9E47-FEF3F99E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AB8-98AA-4FFF-BA71-179FE907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BD811-7E91-4CFC-B8CB-0706DC71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B6DBD-B154-4D58-A572-B76AAB01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2E84-9B34-47AC-BBD1-77F9475E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1EBB-D70A-498D-9EED-759056AD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F326-B4CF-4074-B936-03FBBA74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8199D-1D85-4B07-9DE6-02CF0EE2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4F698-0447-43FC-B83A-17601A31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50DBA-7647-4D95-A0A3-26415C6B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97C7C-1A41-4CDB-A19E-5E39E34E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7E66A-80C5-4C35-AC0A-AAC489F8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81E-CB28-4E4C-A376-4B4296C3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4C60A-E906-47B1-A38D-71F928A2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24620-B64A-40EE-B141-7F173CC7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9D72-2169-4D36-B82A-2AAFBEC6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D5ACC-3853-4FD2-8F3F-9E8D7515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68F5E-8600-4D44-A581-2521CA49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BD139-B8DA-430C-B6A3-93BA317C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80D23-5049-429B-B4BA-B82B7B55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BE2E-F40D-44D7-B0EC-15D6727A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CD5D4-8CD5-44E0-B53A-631C8395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972C4-A77B-461A-8172-D2E41831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CCC9-738C-4052-8253-3511F2DC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4D188-82BD-4452-A4AF-FEB9AE90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38A6B-8212-4451-9A84-D3559E9A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94C42-2558-4C41-B304-77B78DFE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50CF1-931C-4047-8293-C6A8765F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AD154-AFCD-4CF6-9F49-781B8B4C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3F42D-6B58-41FE-90FA-A3157A8E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9AC3E-2B5F-4A4F-B5EC-4F10614B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788FB-5267-4F2B-80D9-1CF6AA0F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04805-9ABF-42DD-B993-C3E32F48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7E28A-01B0-4FD7-AE8F-65FCD66C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50F-E153-4D8D-A1AC-31C59066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2AF7C-621E-4AAA-BAC3-ADC53E92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2F135-71EC-4080-8E77-540812F9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A32E5-5F81-48FC-8113-B95D4EC2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90EF2-7B46-407C-B4AE-F1FF520D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0495A-9819-43B5-A612-E8D80EC0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2F3FB-6089-4AAF-8F00-180382F2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CCD25-07AF-4FC7-B94A-C5CCB105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47FCC-15C1-44B8-A20E-DA3053AF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BAE4C-ECAD-4E48-B5F4-DEF5FADA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27504-142F-4F5F-ACE0-EF69BE3B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54CD-2086-49EB-B130-4154822D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DBC13-5019-4DDD-8E68-07FB3743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69232-0A97-4151-893B-0C90ACCB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A9CE8-59D2-4E0C-B52B-A23327A0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3A137-C4E4-4D29-B4D6-2CD83D92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4DC3D-677E-41C5-B210-B0F21482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A8E4E-E1DF-4719-997B-27E09200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0A0AB-7D29-43B1-8302-C1562168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C159F-7A87-4938-B0CD-12DEF40F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B89C4-F62D-4C33-BC28-21759D87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4CE0A-B461-45C2-B95B-14B08E2C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9E2-42C1-411E-B63E-9ED73E63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8493A-9DEB-44DD-98C7-B67456DD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412B2-0DC6-4A5D-B461-C62DC497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3E82D-9033-4A98-AA6F-84C53A6B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A8205-EAB4-4837-9DDB-263C33F6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890BC-8936-44F2-8241-8DEC8304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7F679-99D0-4AFD-B65D-03F6EB3C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56755-2083-4DC0-B89B-96335FBF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C41C1-458C-4347-865F-092B3F56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DC7E4-404D-43E5-8E6B-7DB130C1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64CA9-C954-490A-BA43-9387E4CD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135-5802-4AB6-A4F9-0E4CBEF7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A585A-D3CF-48A9-ABD9-F2E2C5CE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6BE1D-27A4-402E-BEB6-EFE8CAC3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5B005-2684-4438-8EC8-7AC22D09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161FF-51FB-4162-802D-39173A88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DBD46-2715-41FF-A9CC-189F4D54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8A631-1A91-4AA7-8CC0-7E81E771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2495A-6059-4081-8CF2-6A8C6C5D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7C2CA-1AC4-4419-B898-1E04382D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FDC2C-FD5A-41FF-BE38-81915CA4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32815-D940-465C-92C1-BE36AB30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B868-89F6-4800-B4C1-39A3F24C679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36E1-0CA8-4AEF-893E-772C5155C2F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073C-FF16-4168-8D64-836058BF536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7339-E48A-4E17-95E5-FEEAD91B333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4884-2749-431F-9ED5-5A23E2C46E0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A8B3-2D5B-4B73-B41B-F07B6170B6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6406-0F2D-4C54-9066-91F9FA163C5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5E3F-9F59-459C-8EE9-5CD6CF97BB6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2ED0-CDC4-478A-8B05-A14812AB15A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EB22-30BF-4CB8-AD4A-DE9F69A83D1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9672-3554-4CA7-B00A-69B1037EF6EC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C6D5-7318-4A4D-9505-E242DEAD1FD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1D56-0CDC-4D7B-A8B1-D286BE89620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1"/>
          <p:cNvSpPr/>
          <p:nvPr/>
        </p:nvSpPr>
        <p:spPr>
          <a:xfrm>
            <a:off x="3629880" y="1940040"/>
            <a:ext cx="13993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</a:t>
            </a: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艺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2"/>
          <p:cNvSpPr/>
          <p:nvPr/>
        </p:nvSpPr>
        <p:spPr>
          <a:xfrm>
            <a:off x="2340000" y="5229360"/>
            <a:ext cx="40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mulu"/>
          <p:cNvPicPr/>
          <p:nvPr/>
        </p:nvPicPr>
        <p:blipFill>
          <a:blip r:embed="rId1"/>
          <a:stretch/>
        </p:blipFill>
        <p:spPr>
          <a:xfrm>
            <a:off x="-169920" y="-87480"/>
            <a:ext cx="9423360" cy="704556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"/>
          <p:cNvSpPr/>
          <p:nvPr/>
        </p:nvSpPr>
        <p:spPr>
          <a:xfrm>
            <a:off x="239040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2"/>
          <p:cNvSpPr/>
          <p:nvPr/>
        </p:nvSpPr>
        <p:spPr>
          <a:xfrm>
            <a:off x="329508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渊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3"/>
          <p:cNvSpPr/>
          <p:nvPr/>
        </p:nvSpPr>
        <p:spPr>
          <a:xfrm>
            <a:off x="42271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艺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51523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历代刺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5"/>
          <p:cNvSpPr/>
          <p:nvPr/>
        </p:nvSpPr>
        <p:spPr>
          <a:xfrm>
            <a:off x="60541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四大名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325080" cy="69595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过度 花圈-01"/>
          <p:cNvPicPr/>
          <p:nvPr/>
        </p:nvPicPr>
        <p:blipFill>
          <a:blip r:embed="rId2"/>
          <a:stretch/>
        </p:blipFill>
        <p:spPr>
          <a:xfrm>
            <a:off x="1495440" y="-17640"/>
            <a:ext cx="5813280" cy="30942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过度鸟2-01-01-01"/>
          <p:cNvPicPr/>
          <p:nvPr/>
        </p:nvPicPr>
        <p:blipFill>
          <a:blip r:embed="rId3"/>
          <a:stretch/>
        </p:blipFill>
        <p:spPr>
          <a:xfrm>
            <a:off x="1496880" y="-19080"/>
            <a:ext cx="5811840" cy="3092400"/>
          </a:xfrm>
          <a:prstGeom prst="rect">
            <a:avLst/>
          </a:prstGeom>
          <a:ln w="0">
            <a:noFill/>
          </a:ln>
        </p:spPr>
      </p:pic>
      <p:grpSp>
        <p:nvGrpSpPr>
          <p:cNvPr id="545" name="组合 3"/>
          <p:cNvGrpSpPr/>
          <p:nvPr/>
        </p:nvGrpSpPr>
        <p:grpSpPr>
          <a:xfrm>
            <a:off x="4308480" y="2946240"/>
            <a:ext cx="641520" cy="3095640"/>
            <a:chOff x="4308480" y="2946240"/>
            <a:chExt cx="641520" cy="3095640"/>
          </a:xfrm>
        </p:grpSpPr>
        <p:sp>
          <p:nvSpPr>
            <p:cNvPr id="546" name="文本框 1"/>
            <p:cNvSpPr/>
            <p:nvPr/>
          </p:nvSpPr>
          <p:spPr>
            <a:xfrm>
              <a:off x="4342680" y="3165120"/>
              <a:ext cx="606960" cy="24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刺绣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2"/>
            <p:cNvSpPr/>
            <p:nvPr/>
          </p:nvSpPr>
          <p:spPr>
            <a:xfrm>
              <a:off x="4308480" y="2946240"/>
              <a:ext cx="641520" cy="3095640"/>
            </a:xfrm>
            <a:prstGeom prst="rect">
              <a:avLst/>
            </a:prstGeom>
            <a:noFill/>
            <a:ln w="34920">
              <a:solidFill>
                <a:srgbClr val="f5a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253440" cy="6959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xian"/>
          <p:cNvPicPr/>
          <p:nvPr/>
        </p:nvPicPr>
        <p:blipFill>
          <a:blip r:embed="rId2"/>
          <a:stretch/>
        </p:blipFill>
        <p:spPr>
          <a:xfrm>
            <a:off x="1495440" y="814320"/>
            <a:ext cx="6767640" cy="311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xian2"/>
          <p:cNvPicPr/>
          <p:nvPr/>
        </p:nvPicPr>
        <p:blipFill>
          <a:blip r:embed="rId3"/>
          <a:stretch/>
        </p:blipFill>
        <p:spPr>
          <a:xfrm>
            <a:off x="1495440" y="5589720"/>
            <a:ext cx="6769080" cy="312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鸟1-01"/>
          <p:cNvPicPr/>
          <p:nvPr/>
        </p:nvPicPr>
        <p:blipFill>
          <a:blip r:embed="rId4"/>
          <a:stretch/>
        </p:blipFill>
        <p:spPr>
          <a:xfrm>
            <a:off x="6753240" y="4005360"/>
            <a:ext cx="1922400" cy="2808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7" descr="文字-01"/>
          <p:cNvPicPr/>
          <p:nvPr/>
        </p:nvPicPr>
        <p:blipFill>
          <a:blip r:embed="rId5"/>
          <a:stretch/>
        </p:blipFill>
        <p:spPr>
          <a:xfrm>
            <a:off x="1487520" y="1424160"/>
            <a:ext cx="7137360" cy="3949560"/>
          </a:xfrm>
          <a:prstGeom prst="rect">
            <a:avLst/>
          </a:prstGeom>
          <a:ln w="0">
            <a:noFill/>
          </a:ln>
        </p:spPr>
      </p:pic>
      <p:grpSp>
        <p:nvGrpSpPr>
          <p:cNvPr id="553" name="组合 3"/>
          <p:cNvGrpSpPr/>
          <p:nvPr/>
        </p:nvGrpSpPr>
        <p:grpSpPr>
          <a:xfrm>
            <a:off x="423720" y="1779480"/>
            <a:ext cx="640080" cy="3095640"/>
            <a:chOff x="423720" y="1779480"/>
            <a:chExt cx="640080" cy="3095640"/>
          </a:xfrm>
        </p:grpSpPr>
        <p:sp>
          <p:nvSpPr>
            <p:cNvPr id="554" name="文本框 1"/>
            <p:cNvSpPr/>
            <p:nvPr/>
          </p:nvSpPr>
          <p:spPr>
            <a:xfrm>
              <a:off x="456840" y="1998360"/>
              <a:ext cx="606960" cy="24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刺绣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2"/>
            <p:cNvSpPr/>
            <p:nvPr/>
          </p:nvSpPr>
          <p:spPr>
            <a:xfrm>
              <a:off x="423720" y="1779480"/>
              <a:ext cx="640080" cy="3095640"/>
            </a:xfrm>
            <a:prstGeom prst="rect">
              <a:avLst/>
            </a:prstGeom>
            <a:noFill/>
            <a:ln w="34920">
              <a:solidFill>
                <a:srgbClr val="f5a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谢谢-01-01"/>
          <p:cNvPicPr/>
          <p:nvPr/>
        </p:nvPicPr>
        <p:blipFill>
          <a:blip r:embed="rId2"/>
          <a:stretch/>
        </p:blipFill>
        <p:spPr>
          <a:xfrm>
            <a:off x="3851280" y="1611360"/>
            <a:ext cx="142704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559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2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567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571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04-05T07:55:27Z</dcterms:modified>
  <cp:revision>1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