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E3404-4548-4787-81B7-D494B47B0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AF838-D4A4-4814-8390-F2407D91A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D7838-D778-4EB5-8209-F1834816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A381B-38C8-4C78-A41C-B68426D0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8A7B-5996-4A3E-A7F3-11C5573F4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E828-6E10-4CEC-A224-49B131CB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523A-6308-4A76-AE10-131C0D26C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7A022-F568-47D6-BFC2-42569892E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EDF5-5644-4AE7-83E9-8A0AD2B7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AAED-CD99-4388-87E9-B579449D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9862-9320-4B5C-98E2-E34E8A7F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C8D4-6BCD-454D-A3EB-E1FD580CF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A10E-B68F-43AB-BD05-4FD1054DF5D4}" type="datetime">
              <a:rPr b="0" lang="zh-CN" sz="1200" spc="-1" strike="noStrike">
                <a:solidFill>
                  <a:srgbClr val="898989"/>
                </a:solidFill>
                <a:latin typeface="Calibri"/>
                <a:ea typeface="宋体"/>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14B6-CF15-4887-A9FC-526353A569C2}"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