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CC242-4EE6-4F05-983A-9F30BDCAD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6DC4-281F-485B-92E6-33B3BD6C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70E91-F6F4-4B94-A8AC-5E7176640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5CCE7-482F-4C10-8F97-B7DDFA354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419ED-ABB9-4A6C-8F42-E64C3EBE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BDBD1-1298-4BB6-8D66-E796F7A2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1712-234C-43AB-AE53-04E33CE58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FE69-2039-4A46-91EF-806DF762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DA06-867A-474D-A32F-754BC08D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51A2-1D3F-4E79-8D04-E55A5A1D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455B-91EE-4AAA-B105-56D1E286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ACE5-EA1F-44E6-B96E-3C5F29A0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822A-16E9-448A-AEA8-09E1C98ADB6F}" type="datetime">
              <a:rPr b="0" lang="zh-CN" sz="1200" spc="-1" strike="noStrike">
                <a:solidFill>
                  <a:srgbClr val="898989"/>
                </a:solidFill>
                <a:latin typeface="Calibri"/>
                <a:ea typeface="宋体"/>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3696-90A8-4B62-82A3-EDC7F8DFFCDF}"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