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jpeg" ContentType="image/jpeg"/>
  <Override PartName="/ppt/media/image30.jpeg" ContentType="image/jpe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D20-19E6-40BB-88FD-00EB36D2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DD1-D876-4E14-86BD-47B75BE8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8D3-547E-4C42-A2C5-8538CD3A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6A1-7571-436C-8259-B29A8DDD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B35-343C-4542-A775-A69221DE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6EF-0E51-475A-AB6D-70BB9ABF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B6A-9A4E-4F00-8F69-72151320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BD3-1024-4307-8DBD-B9B5DFFB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ED9-1D2A-4D5A-AE21-286CDDAF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FCA-C75C-41C9-9788-AAA9EA47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BB5-3683-421F-AEA5-42756BBC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6E5-5CF8-426C-9520-332A8B1C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4C87-0B73-4171-92E1-CA95F193171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2F09-E7B6-4909-A470-DB2BDBAC35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-604800"/>
            <a:ext cx="12211200" cy="74628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"/>
          <p:cNvSpPr/>
          <p:nvPr/>
        </p:nvSpPr>
        <p:spPr>
          <a:xfrm>
            <a:off x="379440" y="141120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水墨呈现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4"/>
          <p:cNvSpPr/>
          <p:nvPr/>
        </p:nvSpPr>
        <p:spPr>
          <a:xfrm>
            <a:off x="3652920" y="140796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匠心独运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5"/>
          <p:cNvSpPr/>
          <p:nvPr/>
        </p:nvSpPr>
        <p:spPr>
          <a:xfrm>
            <a:off x="2001960" y="141912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品位高雅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1979640" y="155592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椭圆 7"/>
          <p:cNvSpPr/>
          <p:nvPr/>
        </p:nvSpPr>
        <p:spPr>
          <a:xfrm>
            <a:off x="3625920" y="1555920"/>
            <a:ext cx="12060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1" descr=""/>
          <p:cNvPicPr/>
          <p:nvPr/>
        </p:nvPicPr>
        <p:blipFill>
          <a:blip r:embed="rId2"/>
          <a:stretch/>
        </p:blipFill>
        <p:spPr>
          <a:xfrm>
            <a:off x="8675640" y="4119480"/>
            <a:ext cx="3110040" cy="238752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4"/>
          <p:cNvSpPr/>
          <p:nvPr/>
        </p:nvSpPr>
        <p:spPr>
          <a:xfrm>
            <a:off x="480960" y="450720"/>
            <a:ext cx="478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雅中国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2822400" y="1854360"/>
            <a:ext cx="60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63@|1FFC:0|FBC:0|LFC:16777215|LBC:16777215"/>
          <p:cNvSpPr/>
          <p:nvPr/>
        </p:nvSpPr>
        <p:spPr>
          <a:xfrm>
            <a:off x="5413320" y="3057480"/>
            <a:ext cx="1244520" cy="12416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3@|1FFC:0|FBC:0|LFC:16777215|LBC:16777215"/>
          <p:cNvSpPr/>
          <p:nvPr/>
        </p:nvSpPr>
        <p:spPr>
          <a:xfrm>
            <a:off x="5793120" y="3354480"/>
            <a:ext cx="532800" cy="657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700" spc="-1" strike="noStrike">
                <a:solidFill>
                  <a:srgbClr val="808080"/>
                </a:solidFill>
                <a:latin typeface="Arial"/>
                <a:ea typeface="微软雅黑"/>
              </a:rPr>
              <a:t>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69@|9FFC:0|FBC:0|LFC:9868950|LBC:16777215"/>
          <p:cNvSpPr/>
          <p:nvPr/>
        </p:nvSpPr>
        <p:spPr>
          <a:xfrm flipH="1" flipV="1">
            <a:off x="4973760" y="1848960"/>
            <a:ext cx="295200" cy="2667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72@|9FFC:0|FBC:0|LFC:9868950|LBC:16777215"/>
          <p:cNvSpPr/>
          <p:nvPr/>
        </p:nvSpPr>
        <p:spPr>
          <a:xfrm flipH="1">
            <a:off x="3844800" y="1854360"/>
            <a:ext cx="11289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5@|9FFC:0|FBC:0|LFC:9868950|LBC:16777215"/>
          <p:cNvSpPr/>
          <p:nvPr/>
        </p:nvSpPr>
        <p:spPr>
          <a:xfrm flipV="1">
            <a:off x="6751800" y="1839960"/>
            <a:ext cx="295200" cy="2714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82@|9FFC:0|FBC:0|LFC:9868950|LBC:16777215"/>
          <p:cNvSpPr/>
          <p:nvPr/>
        </p:nvSpPr>
        <p:spPr>
          <a:xfrm flipH="1">
            <a:off x="4994280" y="5227560"/>
            <a:ext cx="295200" cy="268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83@|9FFC:0|FBC:0|LFC:9868950|LBC:16777215"/>
          <p:cNvSpPr/>
          <p:nvPr/>
        </p:nvSpPr>
        <p:spPr>
          <a:xfrm flipH="1">
            <a:off x="3844440" y="5491080"/>
            <a:ext cx="11494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5@|9FFC:0|FBC:0|LFC:9868950|LBC:16777215"/>
          <p:cNvSpPr/>
          <p:nvPr/>
        </p:nvSpPr>
        <p:spPr>
          <a:xfrm>
            <a:off x="6721560" y="5245200"/>
            <a:ext cx="295200" cy="27288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76@|9FFC:0|FBC:0|LFC:9868950|LBC:16777215"/>
          <p:cNvSpPr/>
          <p:nvPr/>
        </p:nvSpPr>
        <p:spPr>
          <a:xfrm>
            <a:off x="7059600" y="1844640"/>
            <a:ext cx="11890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@|9FFC:0|FBC:0|LFC:9868950|LBC:16777215"/>
          <p:cNvSpPr/>
          <p:nvPr/>
        </p:nvSpPr>
        <p:spPr>
          <a:xfrm>
            <a:off x="7016760" y="5513400"/>
            <a:ext cx="11905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87"/>
          <p:cNvSpPr/>
          <p:nvPr/>
        </p:nvSpPr>
        <p:spPr>
          <a:xfrm flipH="1">
            <a:off x="3844440" y="30560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89"/>
          <p:cNvSpPr/>
          <p:nvPr/>
        </p:nvSpPr>
        <p:spPr>
          <a:xfrm flipH="1">
            <a:off x="7675200" y="30686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traight Connector 92"/>
          <p:cNvSpPr/>
          <p:nvPr/>
        </p:nvSpPr>
        <p:spPr>
          <a:xfrm flipH="1">
            <a:off x="3857400" y="43178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93"/>
          <p:cNvSpPr/>
          <p:nvPr/>
        </p:nvSpPr>
        <p:spPr>
          <a:xfrm flipH="1">
            <a:off x="7662600" y="433080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7@|5FFC:0|FBC:0|LFC:16777215|LBC:16777215"/>
          <p:cNvSpPr/>
          <p:nvPr/>
        </p:nvSpPr>
        <p:spPr>
          <a:xfrm>
            <a:off x="6043680" y="1949400"/>
            <a:ext cx="1220760" cy="1182600"/>
          </a:xfrm>
          <a:custGeom>
            <a:avLst/>
            <a:gdLst/>
            <a:ahLst/>
            <a:rect l="l" t="t" r="r" b="b"/>
            <a:pathLst>
              <a:path w="276" h="268">
                <a:moveTo>
                  <a:pt x="228" y="162"/>
                </a:moveTo>
                <a:cubicBezTo>
                  <a:pt x="276" y="114"/>
                  <a:pt x="276" y="114"/>
                  <a:pt x="276" y="114"/>
                </a:cubicBezTo>
                <a:cubicBezTo>
                  <a:pt x="276" y="114"/>
                  <a:pt x="276" y="114"/>
                  <a:pt x="276" y="114"/>
                </a:cubicBezTo>
                <a:cubicBezTo>
                  <a:pt x="200" y="38"/>
                  <a:pt x="100" y="0"/>
                  <a:pt x="0" y="0"/>
                </a:cubicBezTo>
                <a:cubicBezTo>
                  <a:pt x="0" y="217"/>
                  <a:pt x="0" y="217"/>
                  <a:pt x="0" y="217"/>
                </a:cubicBezTo>
                <a:cubicBezTo>
                  <a:pt x="44" y="217"/>
                  <a:pt x="88" y="234"/>
                  <a:pt x="122" y="268"/>
                </a:cubicBezTo>
                <a:cubicBezTo>
                  <a:pt x="122" y="268"/>
                  <a:pt x="122" y="268"/>
                  <a:pt x="122" y="268"/>
                </a:cubicBezTo>
                <a:cubicBezTo>
                  <a:pt x="181" y="209"/>
                  <a:pt x="181" y="209"/>
                  <a:pt x="181" y="209"/>
                </a:cubicBezTo>
                <a:cubicBezTo>
                  <a:pt x="226" y="208"/>
                  <a:pt x="226" y="208"/>
                  <a:pt x="226" y="208"/>
                </a:cubicBezTo>
                <a:lnTo>
                  <a:pt x="228" y="16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4@|1FFC:0|FBC:0|LFC:16777215|LBC:16777215"/>
          <p:cNvSpPr/>
          <p:nvPr/>
        </p:nvSpPr>
        <p:spPr>
          <a:xfrm>
            <a:off x="6316200" y="22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9@|5FFC:2381804|FBC:16777215|LFC:16777215|LBC:16777215"/>
          <p:cNvSpPr/>
          <p:nvPr/>
        </p:nvSpPr>
        <p:spPr>
          <a:xfrm>
            <a:off x="4822920" y="1949400"/>
            <a:ext cx="1358640" cy="1182600"/>
          </a:xfrm>
          <a:custGeom>
            <a:avLst/>
            <a:gdLst/>
            <a:ahLst/>
            <a:rect l="l" t="t" r="r" b="b"/>
            <a:pathLst>
              <a:path w="307" h="268">
                <a:moveTo>
                  <a:pt x="276" y="67"/>
                </a:moveTo>
                <a:cubicBezTo>
                  <a:pt x="276" y="0"/>
                  <a:pt x="276" y="0"/>
                  <a:pt x="276" y="0"/>
                </a:cubicBezTo>
                <a:cubicBezTo>
                  <a:pt x="276" y="0"/>
                  <a:pt x="276" y="0"/>
                  <a:pt x="276" y="0"/>
                </a:cubicBezTo>
                <a:cubicBezTo>
                  <a:pt x="168" y="0"/>
                  <a:pt x="70" y="43"/>
                  <a:pt x="0" y="114"/>
                </a:cubicBezTo>
                <a:cubicBezTo>
                  <a:pt x="153" y="268"/>
                  <a:pt x="153" y="268"/>
                  <a:pt x="153" y="268"/>
                </a:cubicBezTo>
                <a:cubicBezTo>
                  <a:pt x="185" y="236"/>
                  <a:pt x="228" y="217"/>
                  <a:pt x="276" y="217"/>
                </a:cubicBezTo>
                <a:cubicBezTo>
                  <a:pt x="276" y="217"/>
                  <a:pt x="276" y="217"/>
                  <a:pt x="276" y="217"/>
                </a:cubicBezTo>
                <a:cubicBezTo>
                  <a:pt x="276" y="134"/>
                  <a:pt x="276" y="134"/>
                  <a:pt x="276" y="134"/>
                </a:cubicBezTo>
                <a:cubicBezTo>
                  <a:pt x="307" y="101"/>
                  <a:pt x="307" y="101"/>
                  <a:pt x="307" y="101"/>
                </a:cubicBezTo>
                <a:lnTo>
                  <a:pt x="276" y="67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2@|1FFC:16777215|FBC:16777215|LFC:16777215|LBC:16777215"/>
          <p:cNvSpPr/>
          <p:nvPr/>
        </p:nvSpPr>
        <p:spPr>
          <a:xfrm>
            <a:off x="5422680" y="2165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0@|5FFC:1554685|FBC:16777215|LFC:16777215|LBC:16777215"/>
          <p:cNvSpPr/>
          <p:nvPr/>
        </p:nvSpPr>
        <p:spPr>
          <a:xfrm>
            <a:off x="4314960" y="2451240"/>
            <a:ext cx="1185840" cy="122076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0" y="276"/>
                </a:moveTo>
                <a:cubicBezTo>
                  <a:pt x="218" y="276"/>
                  <a:pt x="218" y="276"/>
                  <a:pt x="218" y="276"/>
                </a:cubicBezTo>
                <a:cubicBezTo>
                  <a:pt x="218" y="232"/>
                  <a:pt x="234" y="187"/>
                  <a:pt x="268" y="154"/>
                </a:cubicBezTo>
                <a:cubicBezTo>
                  <a:pt x="209" y="95"/>
                  <a:pt x="209" y="95"/>
                  <a:pt x="209" y="95"/>
                </a:cubicBezTo>
                <a:cubicBezTo>
                  <a:pt x="208" y="48"/>
                  <a:pt x="208" y="48"/>
                  <a:pt x="208" y="48"/>
                </a:cubicBezTo>
                <a:cubicBezTo>
                  <a:pt x="162" y="48"/>
                  <a:pt x="162" y="48"/>
                  <a:pt x="162" y="48"/>
                </a:cubicBezTo>
                <a:cubicBezTo>
                  <a:pt x="115" y="0"/>
                  <a:pt x="115" y="0"/>
                  <a:pt x="115" y="0"/>
                </a:cubicBezTo>
                <a:cubicBezTo>
                  <a:pt x="38" y="76"/>
                  <a:pt x="0" y="176"/>
                  <a:pt x="0" y="27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77@|1FFC:16777215|FBC:16777215|LFC:16777215|LBC:16777215"/>
          <p:cNvSpPr/>
          <p:nvPr/>
        </p:nvSpPr>
        <p:spPr>
          <a:xfrm>
            <a:off x="4674960" y="2841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1@|5FFC:0|FBC:0|LFC:16777215|LBC:16777215"/>
          <p:cNvSpPr/>
          <p:nvPr/>
        </p:nvSpPr>
        <p:spPr>
          <a:xfrm>
            <a:off x="4316400" y="3530520"/>
            <a:ext cx="1185840" cy="1360440"/>
          </a:xfrm>
          <a:custGeom>
            <a:avLst/>
            <a:gdLst/>
            <a:ahLst/>
            <a:rect l="l" t="t" r="r" b="b"/>
            <a:pathLst>
              <a:path w="268" h="308">
                <a:moveTo>
                  <a:pt x="114" y="308"/>
                </a:moveTo>
                <a:cubicBezTo>
                  <a:pt x="268" y="155"/>
                  <a:pt x="268" y="155"/>
                  <a:pt x="268" y="155"/>
                </a:cubicBezTo>
                <a:cubicBezTo>
                  <a:pt x="237" y="123"/>
                  <a:pt x="217" y="80"/>
                  <a:pt x="217" y="32"/>
                </a:cubicBezTo>
                <a:cubicBezTo>
                  <a:pt x="134" y="32"/>
                  <a:pt x="134" y="32"/>
                  <a:pt x="134" y="32"/>
                </a:cubicBezTo>
                <a:cubicBezTo>
                  <a:pt x="100" y="0"/>
                  <a:pt x="100" y="0"/>
                  <a:pt x="100" y="0"/>
                </a:cubicBezTo>
                <a:cubicBezTo>
                  <a:pt x="67" y="32"/>
                  <a:pt x="67" y="32"/>
                  <a:pt x="67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140"/>
                  <a:pt x="44" y="237"/>
                  <a:pt x="114" y="308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3@|1FFC:0|FBC:0|LFC:16777215|LBC:16777215"/>
          <p:cNvSpPr/>
          <p:nvPr/>
        </p:nvSpPr>
        <p:spPr>
          <a:xfrm>
            <a:off x="4635360" y="3720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2@|5FFC:14657585|FBC:16777215|LFC:16777215|LBC:16777215"/>
          <p:cNvSpPr/>
          <p:nvPr/>
        </p:nvSpPr>
        <p:spPr>
          <a:xfrm>
            <a:off x="4822920" y="4214880"/>
            <a:ext cx="1220760" cy="1179360"/>
          </a:xfrm>
          <a:custGeom>
            <a:avLst/>
            <a:gdLst/>
            <a:ahLst/>
            <a:rect l="l" t="t" r="r" b="b"/>
            <a:pathLst>
              <a:path w="276" h="267">
                <a:moveTo>
                  <a:pt x="276" y="267"/>
                </a:moveTo>
                <a:cubicBezTo>
                  <a:pt x="276" y="50"/>
                  <a:pt x="276" y="50"/>
                  <a:pt x="276" y="50"/>
                </a:cubicBezTo>
                <a:cubicBezTo>
                  <a:pt x="231" y="50"/>
                  <a:pt x="187" y="33"/>
                  <a:pt x="153" y="0"/>
                </a:cubicBezTo>
                <a:cubicBezTo>
                  <a:pt x="94" y="58"/>
                  <a:pt x="94" y="58"/>
                  <a:pt x="94" y="58"/>
                </a:cubicBezTo>
                <a:cubicBezTo>
                  <a:pt x="48" y="60"/>
                  <a:pt x="48" y="60"/>
                  <a:pt x="48" y="60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0" y="153"/>
                  <a:pt x="0" y="153"/>
                  <a:pt x="0" y="153"/>
                </a:cubicBezTo>
                <a:cubicBezTo>
                  <a:pt x="76" y="229"/>
                  <a:pt x="176" y="267"/>
                  <a:pt x="276" y="267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62@|1FFC:16777215|FBC:16777215|LFC:16777215|LBC:16777215"/>
          <p:cNvSpPr/>
          <p:nvPr/>
        </p:nvSpPr>
        <p:spPr>
          <a:xfrm>
            <a:off x="5303520" y="4449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3@|5FFC:0|FBC:0|LFC:16777215|LBC:16777215"/>
          <p:cNvSpPr/>
          <p:nvPr/>
        </p:nvSpPr>
        <p:spPr>
          <a:xfrm>
            <a:off x="5902200" y="4214880"/>
            <a:ext cx="1362240" cy="1179360"/>
          </a:xfrm>
          <a:custGeom>
            <a:avLst/>
            <a:gdLst/>
            <a:ahLst/>
            <a:rect l="l" t="t" r="r" b="b"/>
            <a:pathLst>
              <a:path w="308" h="267">
                <a:moveTo>
                  <a:pt x="308" y="153"/>
                </a:moveTo>
                <a:cubicBezTo>
                  <a:pt x="154" y="0"/>
                  <a:pt x="154" y="0"/>
                  <a:pt x="154" y="0"/>
                </a:cubicBezTo>
                <a:cubicBezTo>
                  <a:pt x="123" y="31"/>
                  <a:pt x="80" y="50"/>
                  <a:pt x="32" y="50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0" y="168"/>
                  <a:pt x="0" y="168"/>
                  <a:pt x="0" y="168"/>
                </a:cubicBezTo>
                <a:cubicBezTo>
                  <a:pt x="32" y="200"/>
                  <a:pt x="32" y="200"/>
                  <a:pt x="32" y="200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140" y="267"/>
                  <a:pt x="237" y="224"/>
                  <a:pt x="308" y="153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0@|1FFC:0|FBC:0|LFC:16777215|LBC:16777215"/>
          <p:cNvSpPr/>
          <p:nvPr/>
        </p:nvSpPr>
        <p:spPr>
          <a:xfrm>
            <a:off x="6264000" y="4456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4@|5FFC:0|FBC:0|LFC:16777215|LBC:16777215"/>
          <p:cNvSpPr/>
          <p:nvPr/>
        </p:nvSpPr>
        <p:spPr>
          <a:xfrm>
            <a:off x="6583320" y="3672000"/>
            <a:ext cx="1185840" cy="121896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106" y="228"/>
                </a:moveTo>
                <a:cubicBezTo>
                  <a:pt x="154" y="276"/>
                  <a:pt x="154" y="276"/>
                  <a:pt x="154" y="276"/>
                </a:cubicBezTo>
                <a:cubicBezTo>
                  <a:pt x="154" y="276"/>
                  <a:pt x="154" y="276"/>
                  <a:pt x="154" y="276"/>
                </a:cubicBezTo>
                <a:cubicBezTo>
                  <a:pt x="230" y="200"/>
                  <a:pt x="268" y="100"/>
                  <a:pt x="26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4"/>
                  <a:pt x="34" y="89"/>
                  <a:pt x="0" y="123"/>
                </a:cubicBezTo>
                <a:cubicBezTo>
                  <a:pt x="0" y="123"/>
                  <a:pt x="0" y="123"/>
                  <a:pt x="0" y="123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60" y="227"/>
                  <a:pt x="60" y="227"/>
                  <a:pt x="60" y="227"/>
                </a:cubicBezTo>
                <a:lnTo>
                  <a:pt x="106" y="228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8@|1FFC:0|FBC:0|LFC:16777215|LBC:16777215"/>
          <p:cNvSpPr/>
          <p:nvPr/>
        </p:nvSpPr>
        <p:spPr>
          <a:xfrm>
            <a:off x="6983280" y="3835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5@|5FFC:0|FBC:0|LFC:16777215|LBC:16777215"/>
          <p:cNvSpPr/>
          <p:nvPr/>
        </p:nvSpPr>
        <p:spPr>
          <a:xfrm>
            <a:off x="6583320" y="2451240"/>
            <a:ext cx="1185840" cy="1361880"/>
          </a:xfrm>
          <a:custGeom>
            <a:avLst/>
            <a:gdLst/>
            <a:ahLst/>
            <a:rect l="l" t="t" r="r" b="b"/>
            <a:pathLst>
              <a:path w="268" h="308">
                <a:moveTo>
                  <a:pt x="201" y="276"/>
                </a:moveTo>
                <a:cubicBezTo>
                  <a:pt x="268" y="276"/>
                  <a:pt x="268" y="276"/>
                  <a:pt x="268" y="276"/>
                </a:cubicBezTo>
                <a:cubicBezTo>
                  <a:pt x="268" y="276"/>
                  <a:pt x="268" y="276"/>
                  <a:pt x="268" y="276"/>
                </a:cubicBezTo>
                <a:cubicBezTo>
                  <a:pt x="268" y="168"/>
                  <a:pt x="224" y="71"/>
                  <a:pt x="154" y="0"/>
                </a:cubicBezTo>
                <a:cubicBezTo>
                  <a:pt x="0" y="154"/>
                  <a:pt x="0" y="154"/>
                  <a:pt x="0" y="154"/>
                </a:cubicBezTo>
                <a:cubicBezTo>
                  <a:pt x="32" y="185"/>
                  <a:pt x="51" y="228"/>
                  <a:pt x="51" y="276"/>
                </a:cubicBezTo>
                <a:cubicBezTo>
                  <a:pt x="51" y="276"/>
                  <a:pt x="51" y="276"/>
                  <a:pt x="51" y="276"/>
                </a:cubicBezTo>
                <a:cubicBezTo>
                  <a:pt x="134" y="276"/>
                  <a:pt x="134" y="276"/>
                  <a:pt x="134" y="276"/>
                </a:cubicBezTo>
                <a:cubicBezTo>
                  <a:pt x="166" y="308"/>
                  <a:pt x="166" y="308"/>
                  <a:pt x="166" y="308"/>
                </a:cubicBezTo>
                <a:lnTo>
                  <a:pt x="201" y="27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9@|1FFC:0|FBC:0|LFC:16777215|LBC:16777215"/>
          <p:cNvSpPr/>
          <p:nvPr/>
        </p:nvSpPr>
        <p:spPr>
          <a:xfrm>
            <a:off x="7012440" y="29480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6"/>
          <p:cNvSpPr/>
          <p:nvPr/>
        </p:nvSpPr>
        <p:spPr>
          <a:xfrm>
            <a:off x="6831000" y="2658960"/>
            <a:ext cx="208080" cy="2080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106" y="0"/>
                </a:moveTo>
                <a:lnTo>
                  <a:pt x="102" y="106"/>
                </a:lnTo>
                <a:lnTo>
                  <a:pt x="0" y="106"/>
                </a:lnTo>
                <a:lnTo>
                  <a:pt x="106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@|17FFC:16777215|FBC:16777215|LFC:16777215|LBC:16777215"/>
          <p:cNvSpPr/>
          <p:nvPr/>
        </p:nvSpPr>
        <p:spPr>
          <a:xfrm>
            <a:off x="8464680" y="16160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3@|17FFC:16777215|FBC:16777215|LFC:16777215|LBC:16777215"/>
          <p:cNvSpPr/>
          <p:nvPr/>
        </p:nvSpPr>
        <p:spPr>
          <a:xfrm>
            <a:off x="8464680" y="19018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3@|17FFC:16777215|FBC:16777215|LFC:16777215|LBC:16777215"/>
          <p:cNvSpPr/>
          <p:nvPr/>
        </p:nvSpPr>
        <p:spPr>
          <a:xfrm>
            <a:off x="8464680" y="279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@|17FFC:16777215|FBC:16777215|LFC:16777215|LBC:16777215"/>
          <p:cNvSpPr/>
          <p:nvPr/>
        </p:nvSpPr>
        <p:spPr>
          <a:xfrm>
            <a:off x="8464680" y="30844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3@|17FFC:16777215|FBC:16777215|LFC:16777215|LBC:16777215"/>
          <p:cNvSpPr/>
          <p:nvPr/>
        </p:nvSpPr>
        <p:spPr>
          <a:xfrm>
            <a:off x="8464680" y="40957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@|17FFC:16777215|FBC:16777215|LFC:16777215|LBC:16777215"/>
          <p:cNvSpPr/>
          <p:nvPr/>
        </p:nvSpPr>
        <p:spPr>
          <a:xfrm>
            <a:off x="8464680" y="438156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@|17FFC:16777215|FBC:16777215|LFC:16777215|LBC:16777215"/>
          <p:cNvSpPr/>
          <p:nvPr/>
        </p:nvSpPr>
        <p:spPr>
          <a:xfrm>
            <a:off x="8464680" y="52275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3@|17FFC:16777215|FBC:16777215|LFC:16777215|LBC:16777215"/>
          <p:cNvSpPr/>
          <p:nvPr/>
        </p:nvSpPr>
        <p:spPr>
          <a:xfrm>
            <a:off x="8464680" y="551340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@|17FFC:16777215|FBC:16777215|LFC:16777215|LBC:16777215"/>
          <p:cNvSpPr/>
          <p:nvPr/>
        </p:nvSpPr>
        <p:spPr>
          <a:xfrm>
            <a:off x="2306520" y="158112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@|17FFC:16777215|FBC:16777215|LFC:16777215|LBC:16777215"/>
          <p:cNvSpPr/>
          <p:nvPr/>
        </p:nvSpPr>
        <p:spPr>
          <a:xfrm>
            <a:off x="2065320" y="186696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3@|17FFC:16777215|FBC:16777215|LFC:16777215|LBC:16777215"/>
          <p:cNvSpPr/>
          <p:nvPr/>
        </p:nvSpPr>
        <p:spPr>
          <a:xfrm>
            <a:off x="2306520" y="276372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3@|17FFC:16777215|FBC:16777215|LFC:16777215|LBC:16777215"/>
          <p:cNvSpPr/>
          <p:nvPr/>
        </p:nvSpPr>
        <p:spPr>
          <a:xfrm>
            <a:off x="2065320" y="304956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3@|17FFC:16777215|FBC:16777215|LFC:16777215|LBC:16777215"/>
          <p:cNvSpPr/>
          <p:nvPr/>
        </p:nvSpPr>
        <p:spPr>
          <a:xfrm>
            <a:off x="2306520" y="406080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3@|17FFC:16777215|FBC:16777215|LFC:16777215|LBC:16777215"/>
          <p:cNvSpPr/>
          <p:nvPr/>
        </p:nvSpPr>
        <p:spPr>
          <a:xfrm>
            <a:off x="2065320" y="434664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3@|17FFC:16777215|FBC:16777215|LFC:16777215|LBC:16777215"/>
          <p:cNvSpPr/>
          <p:nvPr/>
        </p:nvSpPr>
        <p:spPr>
          <a:xfrm>
            <a:off x="2306520" y="519264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3@|17FFC:16777215|FBC:16777215|LFC:16777215|LBC:16777215"/>
          <p:cNvSpPr/>
          <p:nvPr/>
        </p:nvSpPr>
        <p:spPr>
          <a:xfrm>
            <a:off x="2065320" y="547848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221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4" name="图片 8" descr=""/>
          <p:cNvPicPr/>
          <p:nvPr/>
        </p:nvPicPr>
        <p:blipFill>
          <a:blip r:embed="rId3"/>
          <a:stretch/>
        </p:blipFill>
        <p:spPr>
          <a:xfrm>
            <a:off x="6075360" y="1614600"/>
            <a:ext cx="4056120" cy="439740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合 9"/>
          <p:cNvGrpSpPr/>
          <p:nvPr/>
        </p:nvGrpSpPr>
        <p:grpSpPr>
          <a:xfrm>
            <a:off x="5353200" y="3467160"/>
            <a:ext cx="1458720" cy="2392200"/>
            <a:chOff x="5353200" y="3467160"/>
            <a:chExt cx="1458720" cy="2392200"/>
          </a:xfrm>
        </p:grpSpPr>
        <p:sp>
          <p:nvSpPr>
            <p:cNvPr id="226" name="Freeform 126"/>
            <p:cNvSpPr/>
            <p:nvPr/>
          </p:nvSpPr>
          <p:spPr>
            <a:xfrm>
              <a:off x="5473080" y="3602880"/>
              <a:ext cx="1036800" cy="1133640"/>
            </a:xfrm>
            <a:custGeom>
              <a:avLst/>
              <a:gdLst/>
              <a:ahLst/>
              <a:rect l="l" t="t" r="r" b="b"/>
              <a:pathLst>
                <a:path w="628" h="734">
                  <a:moveTo>
                    <a:pt x="411" y="695"/>
                  </a:moveTo>
                  <a:cubicBezTo>
                    <a:pt x="411" y="706"/>
                    <a:pt x="411" y="706"/>
                    <a:pt x="411" y="706"/>
                  </a:cubicBezTo>
                  <a:cubicBezTo>
                    <a:pt x="411" y="706"/>
                    <a:pt x="424" y="716"/>
                    <a:pt x="442" y="725"/>
                  </a:cubicBezTo>
                  <a:cubicBezTo>
                    <a:pt x="460" y="734"/>
                    <a:pt x="470" y="734"/>
                    <a:pt x="475" y="734"/>
                  </a:cubicBezTo>
                  <a:cubicBezTo>
                    <a:pt x="479" y="733"/>
                    <a:pt x="480" y="727"/>
                    <a:pt x="480" y="727"/>
                  </a:cubicBezTo>
                  <a:cubicBezTo>
                    <a:pt x="480" y="727"/>
                    <a:pt x="461" y="725"/>
                    <a:pt x="437" y="711"/>
                  </a:cubicBezTo>
                  <a:cubicBezTo>
                    <a:pt x="412" y="698"/>
                    <a:pt x="411" y="695"/>
                    <a:pt x="411" y="695"/>
                  </a:cubicBezTo>
                  <a:close/>
                  <a:moveTo>
                    <a:pt x="238" y="340"/>
                  </a:moveTo>
                  <a:cubicBezTo>
                    <a:pt x="238" y="340"/>
                    <a:pt x="249" y="358"/>
                    <a:pt x="244" y="380"/>
                  </a:cubicBezTo>
                  <a:cubicBezTo>
                    <a:pt x="240" y="401"/>
                    <a:pt x="231" y="409"/>
                    <a:pt x="231" y="409"/>
                  </a:cubicBezTo>
                  <a:cubicBezTo>
                    <a:pt x="233" y="413"/>
                    <a:pt x="233" y="413"/>
                    <a:pt x="233" y="413"/>
                  </a:cubicBezTo>
                  <a:cubicBezTo>
                    <a:pt x="253" y="416"/>
                    <a:pt x="253" y="416"/>
                    <a:pt x="253" y="416"/>
                  </a:cubicBezTo>
                  <a:cubicBezTo>
                    <a:pt x="253" y="416"/>
                    <a:pt x="264" y="391"/>
                    <a:pt x="260" y="366"/>
                  </a:cubicBezTo>
                  <a:cubicBezTo>
                    <a:pt x="255" y="341"/>
                    <a:pt x="249" y="340"/>
                    <a:pt x="249" y="340"/>
                  </a:cubicBezTo>
                  <a:cubicBezTo>
                    <a:pt x="238" y="340"/>
                    <a:pt x="238" y="340"/>
                    <a:pt x="238" y="340"/>
                  </a:cubicBezTo>
                  <a:close/>
                  <a:moveTo>
                    <a:pt x="486" y="79"/>
                  </a:moveTo>
                  <a:cubicBezTo>
                    <a:pt x="487" y="112"/>
                    <a:pt x="487" y="112"/>
                    <a:pt x="487" y="112"/>
                  </a:cubicBezTo>
                  <a:cubicBezTo>
                    <a:pt x="487" y="112"/>
                    <a:pt x="515" y="78"/>
                    <a:pt x="542" y="58"/>
                  </a:cubicBezTo>
                  <a:cubicBezTo>
                    <a:pt x="570" y="38"/>
                    <a:pt x="590" y="20"/>
                    <a:pt x="609" y="17"/>
                  </a:cubicBezTo>
                  <a:cubicBezTo>
                    <a:pt x="628" y="14"/>
                    <a:pt x="628" y="14"/>
                    <a:pt x="628" y="14"/>
                  </a:cubicBezTo>
                  <a:cubicBezTo>
                    <a:pt x="625" y="3"/>
                    <a:pt x="625" y="3"/>
                    <a:pt x="625" y="3"/>
                  </a:cubicBezTo>
                  <a:cubicBezTo>
                    <a:pt x="625" y="3"/>
                    <a:pt x="622" y="0"/>
                    <a:pt x="600" y="6"/>
                  </a:cubicBezTo>
                  <a:cubicBezTo>
                    <a:pt x="578" y="12"/>
                    <a:pt x="560" y="15"/>
                    <a:pt x="546" y="25"/>
                  </a:cubicBezTo>
                  <a:cubicBezTo>
                    <a:pt x="532" y="34"/>
                    <a:pt x="530" y="32"/>
                    <a:pt x="512" y="50"/>
                  </a:cubicBezTo>
                  <a:cubicBezTo>
                    <a:pt x="493" y="69"/>
                    <a:pt x="486" y="79"/>
                    <a:pt x="486" y="79"/>
                  </a:cubicBezTo>
                  <a:close/>
                  <a:moveTo>
                    <a:pt x="0" y="285"/>
                  </a:moveTo>
                  <a:cubicBezTo>
                    <a:pt x="0" y="285"/>
                    <a:pt x="14" y="306"/>
                    <a:pt x="18" y="312"/>
                  </a:cubicBezTo>
                  <a:cubicBezTo>
                    <a:pt x="22" y="318"/>
                    <a:pt x="24" y="326"/>
                    <a:pt x="24" y="326"/>
                  </a:cubicBezTo>
                  <a:cubicBezTo>
                    <a:pt x="28" y="316"/>
                    <a:pt x="28" y="316"/>
                    <a:pt x="28" y="316"/>
                  </a:cubicBezTo>
                  <a:cubicBezTo>
                    <a:pt x="6" y="258"/>
                    <a:pt x="6" y="258"/>
                    <a:pt x="6" y="258"/>
                  </a:cubicBezTo>
                  <a:lnTo>
                    <a:pt x="0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AutoShape 266"/>
            <p:cNvSpPr/>
            <p:nvPr/>
          </p:nvSpPr>
          <p:spPr>
            <a:xfrm>
              <a:off x="5353200" y="3495600"/>
              <a:ext cx="145872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68"/>
            <p:cNvSpPr/>
            <p:nvPr/>
          </p:nvSpPr>
          <p:spPr>
            <a:xfrm>
              <a:off x="5695560" y="3778560"/>
              <a:ext cx="200520" cy="140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5"/>
                  </a:move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" y="0"/>
                    <a:pt x="0" y="1"/>
                  </a:cubicBezTo>
                  <a:cubicBezTo>
                    <a:pt x="0" y="1"/>
                    <a:pt x="1" y="9"/>
                    <a:pt x="3" y="9"/>
                  </a:cubicBezTo>
                  <a:cubicBezTo>
                    <a:pt x="5" y="10"/>
                    <a:pt x="13" y="5"/>
                    <a:pt x="14" y="5"/>
                  </a:cubicBez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69"/>
            <p:cNvSpPr/>
            <p:nvPr/>
          </p:nvSpPr>
          <p:spPr>
            <a:xfrm>
              <a:off x="6582960" y="3805920"/>
              <a:ext cx="213480" cy="2408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" y="16"/>
                  </a:moveTo>
                  <a:cubicBezTo>
                    <a:pt x="1" y="16"/>
                    <a:pt x="3" y="17"/>
                    <a:pt x="4" y="17"/>
                  </a:cubicBezTo>
                  <a:cubicBezTo>
                    <a:pt x="5" y="16"/>
                    <a:pt x="10" y="13"/>
                    <a:pt x="10" y="13"/>
                  </a:cubicBezTo>
                  <a:cubicBezTo>
                    <a:pt x="10" y="13"/>
                    <a:pt x="10" y="11"/>
                    <a:pt x="11" y="10"/>
                  </a:cubicBezTo>
                  <a:cubicBezTo>
                    <a:pt x="12" y="9"/>
                    <a:pt x="14" y="7"/>
                    <a:pt x="13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6"/>
                    <a:pt x="13" y="5"/>
                  </a:cubicBezTo>
                  <a:cubicBezTo>
                    <a:pt x="13" y="5"/>
                    <a:pt x="15" y="2"/>
                    <a:pt x="15" y="1"/>
                  </a:cubicBezTo>
                  <a:cubicBezTo>
                    <a:pt x="15" y="0"/>
                    <a:pt x="14" y="1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0" y="3"/>
                    <a:pt x="10" y="3"/>
                  </a:cubicBezTo>
                  <a:cubicBezTo>
                    <a:pt x="9" y="5"/>
                    <a:pt x="8" y="7"/>
                    <a:pt x="7" y="8"/>
                  </a:cubicBezTo>
                  <a:cubicBezTo>
                    <a:pt x="7" y="8"/>
                    <a:pt x="5" y="9"/>
                    <a:pt x="3" y="11"/>
                  </a:cubicBezTo>
                  <a:cubicBezTo>
                    <a:pt x="1" y="13"/>
                    <a:pt x="0" y="12"/>
                    <a:pt x="0" y="12"/>
                  </a:cubicBezTo>
                  <a:cubicBezTo>
                    <a:pt x="0" y="12"/>
                    <a:pt x="0" y="15"/>
                    <a:pt x="1" y="1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70"/>
            <p:cNvSpPr/>
            <p:nvPr/>
          </p:nvSpPr>
          <p:spPr>
            <a:xfrm>
              <a:off x="6597000" y="3819960"/>
              <a:ext cx="199080" cy="2264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cubicBezTo>
                    <a:pt x="14" y="0"/>
                    <a:pt x="14" y="0"/>
                    <a:pt x="13" y="0"/>
                  </a:cubicBezTo>
                  <a:cubicBezTo>
                    <a:pt x="14" y="1"/>
                    <a:pt x="11" y="4"/>
                    <a:pt x="11" y="4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7"/>
                    <a:pt x="11" y="6"/>
                    <a:pt x="11" y="7"/>
                  </a:cubicBezTo>
                  <a:cubicBezTo>
                    <a:pt x="10" y="8"/>
                    <a:pt x="8" y="11"/>
                    <a:pt x="8" y="11"/>
                  </a:cubicBezTo>
                  <a:cubicBezTo>
                    <a:pt x="8" y="11"/>
                    <a:pt x="6" y="13"/>
                    <a:pt x="3" y="14"/>
                  </a:cubicBezTo>
                  <a:cubicBezTo>
                    <a:pt x="1" y="16"/>
                    <a:pt x="0" y="13"/>
                    <a:pt x="0" y="1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2" y="16"/>
                    <a:pt x="3" y="16"/>
                  </a:cubicBezTo>
                  <a:cubicBezTo>
                    <a:pt x="4" y="15"/>
                    <a:pt x="9" y="12"/>
                    <a:pt x="9" y="12"/>
                  </a:cubicBezTo>
                  <a:cubicBezTo>
                    <a:pt x="9" y="12"/>
                    <a:pt x="9" y="10"/>
                    <a:pt x="10" y="9"/>
                  </a:cubicBezTo>
                  <a:cubicBezTo>
                    <a:pt x="11" y="8"/>
                    <a:pt x="13" y="6"/>
                    <a:pt x="12" y="5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6"/>
                    <a:pt x="11" y="5"/>
                    <a:pt x="12" y="4"/>
                  </a:cubicBezTo>
                  <a:cubicBezTo>
                    <a:pt x="12" y="4"/>
                    <a:pt x="14" y="1"/>
                    <a:pt x="14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71"/>
            <p:cNvSpPr/>
            <p:nvPr/>
          </p:nvSpPr>
          <p:spPr>
            <a:xfrm>
              <a:off x="6711840" y="3891960"/>
              <a:ext cx="42840" cy="55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2" y="2"/>
                    <a:pt x="3" y="2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72"/>
            <p:cNvSpPr/>
            <p:nvPr/>
          </p:nvSpPr>
          <p:spPr>
            <a:xfrm>
              <a:off x="6711840" y="3834360"/>
              <a:ext cx="57240" cy="57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cubicBezTo>
                    <a:pt x="0" y="4"/>
                    <a:pt x="1" y="3"/>
                    <a:pt x="2" y="2"/>
                  </a:cubicBezTo>
                  <a:cubicBezTo>
                    <a:pt x="2" y="2"/>
                    <a:pt x="4" y="0"/>
                    <a:pt x="4" y="0"/>
                  </a:cubicBezTo>
                  <a:cubicBezTo>
                    <a:pt x="2" y="2"/>
                    <a:pt x="2" y="2"/>
                    <a:pt x="2" y="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73"/>
            <p:cNvSpPr/>
            <p:nvPr/>
          </p:nvSpPr>
          <p:spPr>
            <a:xfrm>
              <a:off x="6625800" y="3919320"/>
              <a:ext cx="57240" cy="1274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4" y="4"/>
                    <a:pt x="3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74"/>
            <p:cNvSpPr/>
            <p:nvPr/>
          </p:nvSpPr>
          <p:spPr>
            <a:xfrm>
              <a:off x="5467680" y="4584960"/>
              <a:ext cx="114480" cy="1692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cubicBezTo>
                    <a:pt x="0" y="0"/>
                    <a:pt x="0" y="9"/>
                    <a:pt x="0" y="10"/>
                  </a:cubicBezTo>
                  <a:cubicBezTo>
                    <a:pt x="1" y="11"/>
                    <a:pt x="8" y="12"/>
                    <a:pt x="8" y="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75"/>
            <p:cNvSpPr/>
            <p:nvPr/>
          </p:nvSpPr>
          <p:spPr>
            <a:xfrm>
              <a:off x="5695560" y="3679560"/>
              <a:ext cx="171720" cy="212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7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7" y="14"/>
                    <a:pt x="6" y="15"/>
                  </a:cubicBezTo>
                  <a:cubicBezTo>
                    <a:pt x="5" y="15"/>
                    <a:pt x="2" y="13"/>
                    <a:pt x="2" y="1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4"/>
                    <a:pt x="0" y="2"/>
                  </a:cubicBezTo>
                  <a:cubicBezTo>
                    <a:pt x="0" y="0"/>
                    <a:pt x="9" y="6"/>
                    <a:pt x="12" y="7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76"/>
            <p:cNvSpPr/>
            <p:nvPr/>
          </p:nvSpPr>
          <p:spPr>
            <a:xfrm>
              <a:off x="5709960" y="3749760"/>
              <a:ext cx="128880" cy="141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0"/>
                  </a:moveTo>
                  <a:cubicBezTo>
                    <a:pt x="1" y="0"/>
                    <a:pt x="3" y="3"/>
                    <a:pt x="3" y="4"/>
                  </a:cubicBezTo>
                  <a:cubicBezTo>
                    <a:pt x="4" y="5"/>
                    <a:pt x="7" y="6"/>
                    <a:pt x="9" y="6"/>
                  </a:cubicBezTo>
                  <a:cubicBezTo>
                    <a:pt x="7" y="8"/>
                    <a:pt x="6" y="9"/>
                    <a:pt x="5" y="10"/>
                  </a:cubicBezTo>
                  <a:cubicBezTo>
                    <a:pt x="4" y="10"/>
                    <a:pt x="1" y="8"/>
                    <a:pt x="1" y="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277"/>
            <p:cNvSpPr/>
            <p:nvPr/>
          </p:nvSpPr>
          <p:spPr>
            <a:xfrm>
              <a:off x="5652720" y="3467160"/>
              <a:ext cx="243360" cy="253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6"/>
                  </a:moveTo>
                  <a:cubicBezTo>
                    <a:pt x="16" y="6"/>
                    <a:pt x="17" y="5"/>
                    <a:pt x="17" y="4"/>
                  </a:cubicBezTo>
                  <a:cubicBezTo>
                    <a:pt x="17" y="4"/>
                    <a:pt x="15" y="1"/>
                    <a:pt x="13" y="1"/>
                  </a:cubicBezTo>
                  <a:cubicBezTo>
                    <a:pt x="11" y="0"/>
                    <a:pt x="6" y="1"/>
                    <a:pt x="6" y="1"/>
                  </a:cubicBezTo>
                  <a:cubicBezTo>
                    <a:pt x="6" y="1"/>
                    <a:pt x="2" y="3"/>
                    <a:pt x="1" y="5"/>
                  </a:cubicBezTo>
                  <a:cubicBezTo>
                    <a:pt x="0" y="8"/>
                    <a:pt x="0" y="10"/>
                    <a:pt x="0" y="10"/>
                  </a:cubicBezTo>
                  <a:cubicBezTo>
                    <a:pt x="0" y="10"/>
                    <a:pt x="0" y="14"/>
                    <a:pt x="2" y="16"/>
                  </a:cubicBezTo>
                  <a:cubicBezTo>
                    <a:pt x="2" y="16"/>
                    <a:pt x="7" y="18"/>
                    <a:pt x="16" y="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278"/>
            <p:cNvSpPr/>
            <p:nvPr/>
          </p:nvSpPr>
          <p:spPr>
            <a:xfrm>
              <a:off x="5652720" y="3537360"/>
              <a:ext cx="272160" cy="268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5" y="18"/>
                  </a:moveTo>
                  <a:cubicBezTo>
                    <a:pt x="15" y="18"/>
                    <a:pt x="13" y="19"/>
                    <a:pt x="13" y="19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5" y="14"/>
                    <a:pt x="5" y="13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3"/>
                    <a:pt x="2" y="11"/>
                    <a:pt x="2" y="10"/>
                  </a:cubicBezTo>
                  <a:cubicBezTo>
                    <a:pt x="1" y="10"/>
                    <a:pt x="0" y="8"/>
                    <a:pt x="1" y="7"/>
                  </a:cubicBezTo>
                  <a:cubicBezTo>
                    <a:pt x="2" y="6"/>
                    <a:pt x="4" y="7"/>
                    <a:pt x="4" y="7"/>
                  </a:cubicBezTo>
                  <a:cubicBezTo>
                    <a:pt x="4" y="8"/>
                    <a:pt x="5" y="10"/>
                    <a:pt x="5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5" y="8"/>
                    <a:pt x="5" y="7"/>
                  </a:cubicBezTo>
                  <a:cubicBezTo>
                    <a:pt x="6" y="7"/>
                    <a:pt x="8" y="4"/>
                    <a:pt x="8" y="4"/>
                  </a:cubicBezTo>
                  <a:cubicBezTo>
                    <a:pt x="8" y="4"/>
                    <a:pt x="7" y="3"/>
                    <a:pt x="7" y="3"/>
                  </a:cubicBezTo>
                  <a:cubicBezTo>
                    <a:pt x="7" y="3"/>
                    <a:pt x="9" y="1"/>
                    <a:pt x="9" y="1"/>
                  </a:cubicBezTo>
                  <a:cubicBezTo>
                    <a:pt x="10" y="0"/>
                    <a:pt x="14" y="0"/>
                    <a:pt x="16" y="1"/>
                  </a:cubicBezTo>
                  <a:cubicBezTo>
                    <a:pt x="16" y="1"/>
                    <a:pt x="18" y="3"/>
                    <a:pt x="18" y="5"/>
                  </a:cubicBezTo>
                  <a:cubicBezTo>
                    <a:pt x="18" y="5"/>
                    <a:pt x="18" y="6"/>
                    <a:pt x="17" y="7"/>
                  </a:cubicBezTo>
                  <a:cubicBezTo>
                    <a:pt x="17" y="7"/>
                    <a:pt x="19" y="8"/>
                    <a:pt x="18" y="11"/>
                  </a:cubicBezTo>
                  <a:cubicBezTo>
                    <a:pt x="18" y="13"/>
                    <a:pt x="17" y="15"/>
                    <a:pt x="16" y="16"/>
                  </a:cubicBezTo>
                  <a:cubicBezTo>
                    <a:pt x="16" y="17"/>
                    <a:pt x="16" y="18"/>
                    <a:pt x="15" y="18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79"/>
            <p:cNvSpPr/>
            <p:nvPr/>
          </p:nvSpPr>
          <p:spPr>
            <a:xfrm>
              <a:off x="5652720" y="3537360"/>
              <a:ext cx="228960" cy="2682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" y="7"/>
                  </a:moveTo>
                  <a:cubicBezTo>
                    <a:pt x="2" y="6"/>
                    <a:pt x="4" y="7"/>
                    <a:pt x="4" y="7"/>
                  </a:cubicBezTo>
                  <a:cubicBezTo>
                    <a:pt x="4" y="8"/>
                    <a:pt x="5" y="10"/>
                    <a:pt x="5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5" y="8"/>
                    <a:pt x="5" y="7"/>
                  </a:cubicBezTo>
                  <a:cubicBezTo>
                    <a:pt x="6" y="7"/>
                    <a:pt x="8" y="4"/>
                    <a:pt x="8" y="4"/>
                  </a:cubicBezTo>
                  <a:cubicBezTo>
                    <a:pt x="8" y="4"/>
                    <a:pt x="7" y="3"/>
                    <a:pt x="7" y="3"/>
                  </a:cubicBezTo>
                  <a:cubicBezTo>
                    <a:pt x="7" y="3"/>
                    <a:pt x="9" y="1"/>
                    <a:pt x="9" y="1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1" y="2"/>
                    <a:pt x="12" y="5"/>
                    <a:pt x="12" y="5"/>
                  </a:cubicBezTo>
                  <a:cubicBezTo>
                    <a:pt x="11" y="5"/>
                    <a:pt x="10" y="6"/>
                    <a:pt x="10" y="6"/>
                  </a:cubicBezTo>
                  <a:cubicBezTo>
                    <a:pt x="10" y="6"/>
                    <a:pt x="10" y="7"/>
                    <a:pt x="10" y="7"/>
                  </a:cubicBezTo>
                  <a:cubicBezTo>
                    <a:pt x="9" y="8"/>
                    <a:pt x="8" y="8"/>
                    <a:pt x="8" y="8"/>
                  </a:cubicBezTo>
                  <a:cubicBezTo>
                    <a:pt x="8" y="8"/>
                    <a:pt x="8" y="10"/>
                    <a:pt x="9" y="11"/>
                  </a:cubicBezTo>
                  <a:cubicBezTo>
                    <a:pt x="10" y="12"/>
                    <a:pt x="11" y="11"/>
                    <a:pt x="11" y="11"/>
                  </a:cubicBezTo>
                  <a:cubicBezTo>
                    <a:pt x="10" y="12"/>
                    <a:pt x="11" y="14"/>
                    <a:pt x="11" y="15"/>
                  </a:cubicBezTo>
                  <a:cubicBezTo>
                    <a:pt x="11" y="16"/>
                    <a:pt x="12" y="17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6" y="18"/>
                    <a:pt x="16" y="18"/>
                    <a:pt x="15" y="18"/>
                  </a:cubicBezTo>
                  <a:cubicBezTo>
                    <a:pt x="15" y="18"/>
                    <a:pt x="13" y="19"/>
                    <a:pt x="13" y="19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5" y="14"/>
                    <a:pt x="5" y="13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3"/>
                    <a:pt x="2" y="11"/>
                    <a:pt x="2" y="10"/>
                  </a:cubicBezTo>
                  <a:cubicBezTo>
                    <a:pt x="1" y="10"/>
                    <a:pt x="0" y="8"/>
                    <a:pt x="1" y="7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80"/>
            <p:cNvSpPr/>
            <p:nvPr/>
          </p:nvSpPr>
          <p:spPr>
            <a:xfrm>
              <a:off x="5524920" y="5236560"/>
              <a:ext cx="156240" cy="702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5" y="5"/>
                  </a:moveTo>
                  <a:cubicBezTo>
                    <a:pt x="10" y="5"/>
                    <a:pt x="11" y="0"/>
                    <a:pt x="6" y="0"/>
                  </a:cubicBezTo>
                  <a:cubicBezTo>
                    <a:pt x="2" y="0"/>
                    <a:pt x="0" y="5"/>
                    <a:pt x="5" y="5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81"/>
            <p:cNvSpPr/>
            <p:nvPr/>
          </p:nvSpPr>
          <p:spPr>
            <a:xfrm>
              <a:off x="5453280" y="5703120"/>
              <a:ext cx="184680" cy="1562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4" y="0"/>
                  </a:moveTo>
                  <a:cubicBezTo>
                    <a:pt x="4" y="0"/>
                    <a:pt x="0" y="6"/>
                    <a:pt x="0" y="10"/>
                  </a:cubicBezTo>
                  <a:cubicBezTo>
                    <a:pt x="0" y="10"/>
                    <a:pt x="11" y="11"/>
                    <a:pt x="11" y="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5"/>
                    <a:pt x="13" y="7"/>
                    <a:pt x="13" y="1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82"/>
            <p:cNvSpPr/>
            <p:nvPr/>
          </p:nvSpPr>
          <p:spPr>
            <a:xfrm>
              <a:off x="5953680" y="5675760"/>
              <a:ext cx="214920" cy="1836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2"/>
                  </a:moveTo>
                  <a:cubicBezTo>
                    <a:pt x="1" y="2"/>
                    <a:pt x="0" y="6"/>
                    <a:pt x="1" y="7"/>
                  </a:cubicBezTo>
                  <a:cubicBezTo>
                    <a:pt x="1" y="7"/>
                    <a:pt x="3" y="9"/>
                    <a:pt x="5" y="9"/>
                  </a:cubicBezTo>
                  <a:cubicBezTo>
                    <a:pt x="5" y="9"/>
                    <a:pt x="5" y="11"/>
                    <a:pt x="6" y="12"/>
                  </a:cubicBezTo>
                  <a:cubicBezTo>
                    <a:pt x="6" y="12"/>
                    <a:pt x="5" y="11"/>
                    <a:pt x="5" y="11"/>
                  </a:cubicBezTo>
                  <a:cubicBezTo>
                    <a:pt x="5" y="11"/>
                    <a:pt x="13" y="13"/>
                    <a:pt x="15" y="12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1" y="5"/>
                    <a:pt x="10" y="2"/>
                  </a:cubicBezTo>
                  <a:cubicBezTo>
                    <a:pt x="9" y="0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83"/>
            <p:cNvSpPr/>
            <p:nvPr/>
          </p:nvSpPr>
          <p:spPr>
            <a:xfrm>
              <a:off x="5467680" y="4443120"/>
              <a:ext cx="672120" cy="1331640"/>
            </a:xfrm>
            <a:custGeom>
              <a:avLst/>
              <a:gdLst/>
              <a:ahLst/>
              <a:rect l="l" t="t" r="r" b="b"/>
              <a:pathLst>
                <a:path w="47" h="94">
                  <a:moveTo>
                    <a:pt x="3" y="90"/>
                  </a:moveTo>
                  <a:cubicBezTo>
                    <a:pt x="3" y="90"/>
                    <a:pt x="12" y="92"/>
                    <a:pt x="13" y="89"/>
                  </a:cubicBezTo>
                  <a:cubicBezTo>
                    <a:pt x="14" y="86"/>
                    <a:pt x="12" y="79"/>
                    <a:pt x="12" y="79"/>
                  </a:cubicBezTo>
                  <a:cubicBezTo>
                    <a:pt x="12" y="79"/>
                    <a:pt x="17" y="49"/>
                    <a:pt x="17" y="48"/>
                  </a:cubicBezTo>
                  <a:cubicBezTo>
                    <a:pt x="18" y="48"/>
                    <a:pt x="21" y="36"/>
                    <a:pt x="23" y="27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9" y="83"/>
                    <a:pt x="35" y="89"/>
                  </a:cubicBezTo>
                  <a:cubicBezTo>
                    <a:pt x="35" y="89"/>
                    <a:pt x="41" y="94"/>
                    <a:pt x="45" y="91"/>
                  </a:cubicBezTo>
                  <a:cubicBezTo>
                    <a:pt x="45" y="91"/>
                    <a:pt x="47" y="89"/>
                    <a:pt x="45" y="82"/>
                  </a:cubicBezTo>
                  <a:cubicBezTo>
                    <a:pt x="45" y="82"/>
                    <a:pt x="46" y="71"/>
                    <a:pt x="44" y="66"/>
                  </a:cubicBezTo>
                  <a:cubicBezTo>
                    <a:pt x="44" y="66"/>
                    <a:pt x="43" y="48"/>
                    <a:pt x="43" y="44"/>
                  </a:cubicBezTo>
                  <a:cubicBezTo>
                    <a:pt x="43" y="40"/>
                    <a:pt x="41" y="21"/>
                    <a:pt x="42" y="18"/>
                  </a:cubicBezTo>
                  <a:cubicBezTo>
                    <a:pt x="42" y="15"/>
                    <a:pt x="42" y="15"/>
                    <a:pt x="42" y="15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9" y="2"/>
                    <a:pt x="28" y="5"/>
                    <a:pt x="22" y="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4" y="11"/>
                    <a:pt x="3" y="13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3" y="36"/>
                    <a:pt x="5" y="41"/>
                  </a:cubicBezTo>
                  <a:cubicBezTo>
                    <a:pt x="5" y="41"/>
                    <a:pt x="2" y="65"/>
                    <a:pt x="3" y="70"/>
                  </a:cubicBezTo>
                  <a:cubicBezTo>
                    <a:pt x="3" y="70"/>
                    <a:pt x="0" y="81"/>
                    <a:pt x="1" y="83"/>
                  </a:cubicBezTo>
                  <a:cubicBezTo>
                    <a:pt x="2" y="86"/>
                    <a:pt x="3" y="90"/>
                    <a:pt x="3" y="90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Rectangle 284"/>
            <p:cNvSpPr/>
            <p:nvPr/>
          </p:nvSpPr>
          <p:spPr>
            <a:xfrm>
              <a:off x="5896440" y="4642560"/>
              <a:ext cx="1080" cy="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85"/>
            <p:cNvSpPr/>
            <p:nvPr/>
          </p:nvSpPr>
          <p:spPr>
            <a:xfrm>
              <a:off x="5982120" y="4698360"/>
              <a:ext cx="140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86"/>
            <p:cNvSpPr/>
            <p:nvPr/>
          </p:nvSpPr>
          <p:spPr>
            <a:xfrm>
              <a:off x="5982120" y="4797360"/>
              <a:ext cx="140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87"/>
            <p:cNvSpPr/>
            <p:nvPr/>
          </p:nvSpPr>
          <p:spPr>
            <a:xfrm>
              <a:off x="5510520" y="4556520"/>
              <a:ext cx="557280" cy="1189440"/>
            </a:xfrm>
            <a:custGeom>
              <a:avLst/>
              <a:gdLst/>
              <a:ahLst/>
              <a:rect l="l" t="t" r="r" b="b"/>
              <a:pathLst>
                <a:path w="39" h="84">
                  <a:moveTo>
                    <a:pt x="39" y="84"/>
                  </a:moveTo>
                  <a:cubicBezTo>
                    <a:pt x="38" y="80"/>
                    <a:pt x="38" y="76"/>
                    <a:pt x="37" y="74"/>
                  </a:cubicBezTo>
                  <a:cubicBezTo>
                    <a:pt x="35" y="71"/>
                    <a:pt x="35" y="66"/>
                    <a:pt x="35" y="66"/>
                  </a:cubicBezTo>
                  <a:cubicBezTo>
                    <a:pt x="38" y="65"/>
                    <a:pt x="39" y="54"/>
                    <a:pt x="39" y="54"/>
                  </a:cubicBezTo>
                  <a:cubicBezTo>
                    <a:pt x="39" y="54"/>
                    <a:pt x="35" y="59"/>
                    <a:pt x="34" y="58"/>
                  </a:cubicBezTo>
                  <a:cubicBezTo>
                    <a:pt x="32" y="58"/>
                    <a:pt x="33" y="56"/>
                    <a:pt x="34" y="51"/>
                  </a:cubicBezTo>
                  <a:cubicBezTo>
                    <a:pt x="34" y="46"/>
                    <a:pt x="32" y="32"/>
                    <a:pt x="32" y="32"/>
                  </a:cubicBezTo>
                  <a:cubicBezTo>
                    <a:pt x="32" y="37"/>
                    <a:pt x="32" y="44"/>
                    <a:pt x="32" y="44"/>
                  </a:cubicBezTo>
                  <a:cubicBezTo>
                    <a:pt x="32" y="44"/>
                    <a:pt x="28" y="30"/>
                    <a:pt x="27" y="25"/>
                  </a:cubicBezTo>
                  <a:cubicBezTo>
                    <a:pt x="27" y="22"/>
                    <a:pt x="32" y="18"/>
                    <a:pt x="33" y="17"/>
                  </a:cubicBezTo>
                  <a:cubicBezTo>
                    <a:pt x="28" y="20"/>
                    <a:pt x="24" y="17"/>
                    <a:pt x="24" y="17"/>
                  </a:cubicBezTo>
                  <a:cubicBezTo>
                    <a:pt x="26" y="16"/>
                    <a:pt x="31" y="12"/>
                    <a:pt x="33" y="10"/>
                  </a:cubicBezTo>
                  <a:cubicBezTo>
                    <a:pt x="30" y="12"/>
                    <a:pt x="23" y="14"/>
                    <a:pt x="23" y="14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5" y="10"/>
                    <a:pt x="20" y="12"/>
                    <a:pt x="18" y="8"/>
                  </a:cubicBezTo>
                  <a:cubicBezTo>
                    <a:pt x="15" y="4"/>
                    <a:pt x="10" y="0"/>
                    <a:pt x="10" y="0"/>
                  </a:cubicBezTo>
                  <a:cubicBezTo>
                    <a:pt x="12" y="3"/>
                    <a:pt x="13" y="11"/>
                    <a:pt x="13" y="11"/>
                  </a:cubicBezTo>
                  <a:cubicBezTo>
                    <a:pt x="13" y="11"/>
                    <a:pt x="13" y="10"/>
                    <a:pt x="7" y="7"/>
                  </a:cubicBezTo>
                  <a:cubicBezTo>
                    <a:pt x="4" y="6"/>
                    <a:pt x="3" y="3"/>
                    <a:pt x="3" y="1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3" y="17"/>
                    <a:pt x="18" y="15"/>
                    <a:pt x="16" y="17"/>
                  </a:cubicBezTo>
                  <a:cubicBezTo>
                    <a:pt x="13" y="19"/>
                    <a:pt x="5" y="15"/>
                    <a:pt x="5" y="15"/>
                  </a:cubicBezTo>
                  <a:cubicBezTo>
                    <a:pt x="7" y="19"/>
                    <a:pt x="13" y="20"/>
                    <a:pt x="13" y="20"/>
                  </a:cubicBezTo>
                  <a:cubicBezTo>
                    <a:pt x="13" y="20"/>
                    <a:pt x="13" y="26"/>
                    <a:pt x="9" y="34"/>
                  </a:cubicBezTo>
                  <a:cubicBezTo>
                    <a:pt x="5" y="43"/>
                    <a:pt x="9" y="50"/>
                    <a:pt x="9" y="50"/>
                  </a:cubicBezTo>
                  <a:cubicBezTo>
                    <a:pt x="6" y="49"/>
                    <a:pt x="5" y="40"/>
                    <a:pt x="5" y="40"/>
                  </a:cubicBezTo>
                  <a:cubicBezTo>
                    <a:pt x="5" y="40"/>
                    <a:pt x="5" y="53"/>
                    <a:pt x="4" y="58"/>
                  </a:cubicBezTo>
                  <a:cubicBezTo>
                    <a:pt x="3" y="63"/>
                    <a:pt x="7" y="73"/>
                    <a:pt x="7" y="73"/>
                  </a:cubicBezTo>
                  <a:cubicBezTo>
                    <a:pt x="3" y="73"/>
                    <a:pt x="2" y="63"/>
                    <a:pt x="2" y="63"/>
                  </a:cubicBezTo>
                  <a:cubicBezTo>
                    <a:pt x="1" y="64"/>
                    <a:pt x="3" y="73"/>
                    <a:pt x="4" y="76"/>
                  </a:cubicBezTo>
                  <a:cubicBezTo>
                    <a:pt x="5" y="78"/>
                    <a:pt x="5" y="81"/>
                    <a:pt x="4" y="83"/>
                  </a:cubicBezTo>
                  <a:cubicBezTo>
                    <a:pt x="7" y="83"/>
                    <a:pt x="10" y="83"/>
                    <a:pt x="10" y="81"/>
                  </a:cubicBezTo>
                  <a:cubicBezTo>
                    <a:pt x="11" y="78"/>
                    <a:pt x="9" y="71"/>
                    <a:pt x="9" y="71"/>
                  </a:cubicBezTo>
                  <a:cubicBezTo>
                    <a:pt x="9" y="71"/>
                    <a:pt x="14" y="41"/>
                    <a:pt x="14" y="40"/>
                  </a:cubicBezTo>
                  <a:cubicBezTo>
                    <a:pt x="15" y="40"/>
                    <a:pt x="18" y="28"/>
                    <a:pt x="20" y="19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2"/>
                    <a:pt x="26" y="75"/>
                    <a:pt x="32" y="81"/>
                  </a:cubicBezTo>
                  <a:cubicBezTo>
                    <a:pt x="32" y="81"/>
                    <a:pt x="35" y="84"/>
                    <a:pt x="39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88"/>
            <p:cNvSpPr/>
            <p:nvPr/>
          </p:nvSpPr>
          <p:spPr>
            <a:xfrm>
              <a:off x="5496480" y="4584960"/>
              <a:ext cx="85680" cy="1274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4"/>
                  </a:moveTo>
                  <a:cubicBezTo>
                    <a:pt x="0" y="4"/>
                    <a:pt x="1" y="8"/>
                    <a:pt x="3" y="9"/>
                  </a:cubicBezTo>
                  <a:cubicBezTo>
                    <a:pt x="3" y="9"/>
                    <a:pt x="3" y="6"/>
                    <a:pt x="3" y="4"/>
                  </a:cubicBezTo>
                  <a:cubicBezTo>
                    <a:pt x="3" y="4"/>
                    <a:pt x="6" y="2"/>
                    <a:pt x="5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89"/>
            <p:cNvSpPr/>
            <p:nvPr/>
          </p:nvSpPr>
          <p:spPr>
            <a:xfrm>
              <a:off x="5539320" y="3792600"/>
              <a:ext cx="500040" cy="7074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11" y="0"/>
                  </a:moveTo>
                  <a:cubicBezTo>
                    <a:pt x="11" y="0"/>
                    <a:pt x="13" y="5"/>
                    <a:pt x="15" y="5"/>
                  </a:cubicBezTo>
                  <a:cubicBezTo>
                    <a:pt x="15" y="5"/>
                    <a:pt x="19" y="7"/>
                    <a:pt x="22" y="4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5" y="49"/>
                    <a:pt x="35" y="49"/>
                    <a:pt x="35" y="49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90"/>
            <p:cNvSpPr/>
            <p:nvPr/>
          </p:nvSpPr>
          <p:spPr>
            <a:xfrm>
              <a:off x="5638320" y="3877560"/>
              <a:ext cx="100080" cy="990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0" y="54"/>
                  </a:moveTo>
                  <a:lnTo>
                    <a:pt x="77" y="0"/>
                  </a:lnTo>
                  <a:lnTo>
                    <a:pt x="0" y="7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91"/>
            <p:cNvSpPr/>
            <p:nvPr/>
          </p:nvSpPr>
          <p:spPr>
            <a:xfrm>
              <a:off x="5781600" y="3891960"/>
              <a:ext cx="228960" cy="56556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0" y="0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7" y="40"/>
                    <a:pt x="4" y="37"/>
                  </a:cubicBezTo>
                  <a:cubicBezTo>
                    <a:pt x="4" y="37"/>
                    <a:pt x="10" y="39"/>
                    <a:pt x="10" y="33"/>
                  </a:cubicBezTo>
                  <a:cubicBezTo>
                    <a:pt x="9" y="27"/>
                    <a:pt x="6" y="28"/>
                    <a:pt x="4" y="25"/>
                  </a:cubicBezTo>
                  <a:cubicBezTo>
                    <a:pt x="4" y="25"/>
                    <a:pt x="6" y="25"/>
                    <a:pt x="6" y="21"/>
                  </a:cubicBezTo>
                  <a:cubicBezTo>
                    <a:pt x="6" y="16"/>
                    <a:pt x="5" y="7"/>
                    <a:pt x="5" y="7"/>
                  </a:cubicBezTo>
                  <a:cubicBezTo>
                    <a:pt x="5" y="7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92"/>
            <p:cNvSpPr/>
            <p:nvPr/>
          </p:nvSpPr>
          <p:spPr>
            <a:xfrm>
              <a:off x="5367240" y="3805920"/>
              <a:ext cx="313920" cy="8924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9" y="63"/>
                  </a:moveTo>
                  <a:cubicBezTo>
                    <a:pt x="9" y="63"/>
                    <a:pt x="10" y="58"/>
                    <a:pt x="15" y="56"/>
                  </a:cubicBezTo>
                  <a:cubicBezTo>
                    <a:pt x="15" y="56"/>
                    <a:pt x="20" y="44"/>
                    <a:pt x="20" y="33"/>
                  </a:cubicBezTo>
                  <a:cubicBezTo>
                    <a:pt x="21" y="21"/>
                    <a:pt x="20" y="4"/>
                    <a:pt x="22" y="0"/>
                  </a:cubicBezTo>
                  <a:cubicBezTo>
                    <a:pt x="22" y="0"/>
                    <a:pt x="20" y="1"/>
                    <a:pt x="18" y="4"/>
                  </a:cubicBezTo>
                  <a:cubicBezTo>
                    <a:pt x="18" y="4"/>
                    <a:pt x="8" y="5"/>
                    <a:pt x="5" y="7"/>
                  </a:cubicBezTo>
                  <a:cubicBezTo>
                    <a:pt x="5" y="7"/>
                    <a:pt x="1" y="17"/>
                    <a:pt x="0" y="35"/>
                  </a:cubicBezTo>
                  <a:cubicBezTo>
                    <a:pt x="0" y="35"/>
                    <a:pt x="2" y="45"/>
                    <a:pt x="2" y="47"/>
                  </a:cubicBezTo>
                  <a:cubicBezTo>
                    <a:pt x="3" y="48"/>
                    <a:pt x="6" y="56"/>
                    <a:pt x="9" y="63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93"/>
            <p:cNvSpPr/>
            <p:nvPr/>
          </p:nvSpPr>
          <p:spPr>
            <a:xfrm>
              <a:off x="5638320" y="4457520"/>
              <a:ext cx="358200" cy="846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4" y="0"/>
                  </a:moveTo>
                  <a:cubicBezTo>
                    <a:pt x="15" y="3"/>
                    <a:pt x="5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5" y="6"/>
                    <a:pt x="25" y="2"/>
                  </a:cubicBez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94"/>
            <p:cNvSpPr/>
            <p:nvPr/>
          </p:nvSpPr>
          <p:spPr>
            <a:xfrm>
              <a:off x="5553720" y="3891960"/>
              <a:ext cx="113040" cy="49500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6" y="35"/>
                  </a:moveTo>
                  <a:cubicBezTo>
                    <a:pt x="7" y="32"/>
                    <a:pt x="7" y="29"/>
                    <a:pt x="7" y="27"/>
                  </a:cubicBezTo>
                  <a:cubicBezTo>
                    <a:pt x="7" y="26"/>
                    <a:pt x="7" y="26"/>
                    <a:pt x="8" y="25"/>
                  </a:cubicBezTo>
                  <a:cubicBezTo>
                    <a:pt x="5" y="17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2"/>
                    <a:pt x="1" y="0"/>
                    <a:pt x="1" y="0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4" y="17"/>
                    <a:pt x="6" y="28"/>
                    <a:pt x="6" y="3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95"/>
            <p:cNvSpPr/>
            <p:nvPr/>
          </p:nvSpPr>
          <p:spPr>
            <a:xfrm>
              <a:off x="5568120" y="4118400"/>
              <a:ext cx="14040" cy="558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cubicBezTo>
                    <a:pt x="0" y="0"/>
                    <a:pt x="0" y="2"/>
                    <a:pt x="0" y="4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96"/>
            <p:cNvSpPr/>
            <p:nvPr/>
          </p:nvSpPr>
          <p:spPr>
            <a:xfrm>
              <a:off x="5410440" y="3962160"/>
              <a:ext cx="186120" cy="63720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2"/>
                  </a:moveTo>
                  <a:cubicBezTo>
                    <a:pt x="12" y="38"/>
                    <a:pt x="12" y="33"/>
                    <a:pt x="12" y="33"/>
                  </a:cubicBezTo>
                  <a:cubicBezTo>
                    <a:pt x="12" y="27"/>
                    <a:pt x="11" y="20"/>
                    <a:pt x="11" y="15"/>
                  </a:cubicBezTo>
                  <a:cubicBezTo>
                    <a:pt x="11" y="20"/>
                    <a:pt x="10" y="28"/>
                    <a:pt x="10" y="28"/>
                  </a:cubicBezTo>
                  <a:cubicBezTo>
                    <a:pt x="10" y="24"/>
                    <a:pt x="9" y="12"/>
                    <a:pt x="9" y="12"/>
                  </a:cubicBezTo>
                  <a:cubicBezTo>
                    <a:pt x="9" y="12"/>
                    <a:pt x="9" y="33"/>
                    <a:pt x="9" y="33"/>
                  </a:cubicBezTo>
                  <a:cubicBezTo>
                    <a:pt x="6" y="29"/>
                    <a:pt x="5" y="20"/>
                    <a:pt x="5" y="20"/>
                  </a:cubicBezTo>
                  <a:cubicBezTo>
                    <a:pt x="6" y="14"/>
                    <a:pt x="4" y="0"/>
                    <a:pt x="4" y="0"/>
                  </a:cubicBezTo>
                  <a:cubicBezTo>
                    <a:pt x="4" y="0"/>
                    <a:pt x="6" y="17"/>
                    <a:pt x="4" y="19"/>
                  </a:cubicBezTo>
                  <a:cubicBezTo>
                    <a:pt x="2" y="20"/>
                    <a:pt x="0" y="14"/>
                    <a:pt x="0" y="14"/>
                  </a:cubicBezTo>
                  <a:cubicBezTo>
                    <a:pt x="0" y="19"/>
                    <a:pt x="3" y="20"/>
                    <a:pt x="3" y="20"/>
                  </a:cubicBezTo>
                  <a:cubicBezTo>
                    <a:pt x="3" y="20"/>
                    <a:pt x="2" y="22"/>
                    <a:pt x="2" y="22"/>
                  </a:cubicBezTo>
                  <a:cubicBezTo>
                    <a:pt x="4" y="22"/>
                    <a:pt x="4" y="24"/>
                    <a:pt x="4" y="24"/>
                  </a:cubicBezTo>
                  <a:cubicBezTo>
                    <a:pt x="3" y="24"/>
                    <a:pt x="0" y="26"/>
                    <a:pt x="0" y="26"/>
                  </a:cubicBezTo>
                  <a:cubicBezTo>
                    <a:pt x="2" y="25"/>
                    <a:pt x="4" y="26"/>
                    <a:pt x="4" y="26"/>
                  </a:cubicBezTo>
                  <a:cubicBezTo>
                    <a:pt x="3" y="25"/>
                    <a:pt x="1" y="27"/>
                    <a:pt x="1" y="27"/>
                  </a:cubicBezTo>
                  <a:cubicBezTo>
                    <a:pt x="4" y="26"/>
                    <a:pt x="5" y="29"/>
                    <a:pt x="6" y="30"/>
                  </a:cubicBezTo>
                  <a:cubicBezTo>
                    <a:pt x="6" y="31"/>
                    <a:pt x="10" y="40"/>
                    <a:pt x="12" y="45"/>
                  </a:cubicBezTo>
                  <a:cubicBezTo>
                    <a:pt x="12" y="45"/>
                    <a:pt x="13" y="44"/>
                    <a:pt x="13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97"/>
            <p:cNvSpPr/>
            <p:nvPr/>
          </p:nvSpPr>
          <p:spPr>
            <a:xfrm>
              <a:off x="5838840" y="3834360"/>
              <a:ext cx="843840" cy="9486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0" y="2"/>
                  </a:moveTo>
                  <a:cubicBezTo>
                    <a:pt x="0" y="2"/>
                    <a:pt x="0" y="19"/>
                    <a:pt x="2" y="28"/>
                  </a:cubicBezTo>
                  <a:cubicBezTo>
                    <a:pt x="2" y="28"/>
                    <a:pt x="11" y="61"/>
                    <a:pt x="21" y="67"/>
                  </a:cubicBezTo>
                  <a:cubicBezTo>
                    <a:pt x="21" y="67"/>
                    <a:pt x="25" y="65"/>
                    <a:pt x="25" y="64"/>
                  </a:cubicBezTo>
                  <a:cubicBezTo>
                    <a:pt x="25" y="63"/>
                    <a:pt x="20" y="34"/>
                    <a:pt x="20" y="31"/>
                  </a:cubicBezTo>
                  <a:cubicBezTo>
                    <a:pt x="19" y="29"/>
                    <a:pt x="18" y="18"/>
                    <a:pt x="18" y="18"/>
                  </a:cubicBezTo>
                  <a:cubicBezTo>
                    <a:pt x="18" y="18"/>
                    <a:pt x="27" y="19"/>
                    <a:pt x="29" y="20"/>
                  </a:cubicBezTo>
                  <a:cubicBezTo>
                    <a:pt x="29" y="20"/>
                    <a:pt x="29" y="21"/>
                    <a:pt x="31" y="21"/>
                  </a:cubicBezTo>
                  <a:cubicBezTo>
                    <a:pt x="33" y="21"/>
                    <a:pt x="41" y="19"/>
                    <a:pt x="42" y="19"/>
                  </a:cubicBezTo>
                  <a:cubicBezTo>
                    <a:pt x="44" y="19"/>
                    <a:pt x="57" y="16"/>
                    <a:pt x="58" y="16"/>
                  </a:cubicBezTo>
                  <a:cubicBezTo>
                    <a:pt x="59" y="15"/>
                    <a:pt x="57" y="8"/>
                    <a:pt x="56" y="7"/>
                  </a:cubicBezTo>
                  <a:cubicBezTo>
                    <a:pt x="56" y="6"/>
                    <a:pt x="37" y="8"/>
                    <a:pt x="33" y="9"/>
                  </a:cubicBezTo>
                  <a:cubicBezTo>
                    <a:pt x="33" y="9"/>
                    <a:pt x="25" y="8"/>
                    <a:pt x="24" y="8"/>
                  </a:cubicBezTo>
                  <a:cubicBezTo>
                    <a:pt x="23" y="8"/>
                    <a:pt x="20" y="8"/>
                    <a:pt x="20" y="8"/>
                  </a:cubicBezTo>
                  <a:cubicBezTo>
                    <a:pt x="20" y="8"/>
                    <a:pt x="20" y="6"/>
                    <a:pt x="19" y="6"/>
                  </a:cubicBezTo>
                  <a:cubicBezTo>
                    <a:pt x="19" y="6"/>
                    <a:pt x="17" y="6"/>
                    <a:pt x="17" y="6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3" y="1"/>
                    <a:pt x="8" y="1"/>
                    <a:pt x="7" y="1"/>
                  </a:cubicBezTo>
                  <a:cubicBezTo>
                    <a:pt x="6" y="0"/>
                    <a:pt x="2" y="0"/>
                    <a:pt x="2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98"/>
            <p:cNvSpPr/>
            <p:nvPr/>
          </p:nvSpPr>
          <p:spPr>
            <a:xfrm>
              <a:off x="5838840" y="3848760"/>
              <a:ext cx="815400" cy="863640"/>
            </a:xfrm>
            <a:custGeom>
              <a:avLst/>
              <a:gdLst/>
              <a:ahLst/>
              <a:rect l="l" t="t" r="r" b="b"/>
              <a:pathLst>
                <a:path w="57" h="61">
                  <a:moveTo>
                    <a:pt x="55" y="7"/>
                  </a:moveTo>
                  <a:cubicBezTo>
                    <a:pt x="54" y="6"/>
                    <a:pt x="33" y="9"/>
                    <a:pt x="33" y="9"/>
                  </a:cubicBezTo>
                  <a:cubicBezTo>
                    <a:pt x="33" y="9"/>
                    <a:pt x="26" y="15"/>
                    <a:pt x="23" y="15"/>
                  </a:cubicBezTo>
                  <a:cubicBezTo>
                    <a:pt x="23" y="15"/>
                    <a:pt x="31" y="11"/>
                    <a:pt x="29" y="9"/>
                  </a:cubicBezTo>
                  <a:cubicBezTo>
                    <a:pt x="28" y="7"/>
                    <a:pt x="22" y="15"/>
                    <a:pt x="22" y="15"/>
                  </a:cubicBezTo>
                  <a:cubicBezTo>
                    <a:pt x="22" y="15"/>
                    <a:pt x="23" y="11"/>
                    <a:pt x="26" y="9"/>
                  </a:cubicBezTo>
                  <a:cubicBezTo>
                    <a:pt x="26" y="9"/>
                    <a:pt x="23" y="8"/>
                    <a:pt x="20" y="15"/>
                  </a:cubicBezTo>
                  <a:cubicBezTo>
                    <a:pt x="20" y="15"/>
                    <a:pt x="20" y="11"/>
                    <a:pt x="21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3" y="8"/>
                    <a:pt x="21" y="8"/>
                    <a:pt x="20" y="9"/>
                  </a:cubicBezTo>
                  <a:cubicBezTo>
                    <a:pt x="19" y="10"/>
                    <a:pt x="18" y="13"/>
                    <a:pt x="18" y="13"/>
                  </a:cubicBezTo>
                  <a:cubicBezTo>
                    <a:pt x="18" y="13"/>
                    <a:pt x="17" y="8"/>
                    <a:pt x="19" y="8"/>
                  </a:cubicBezTo>
                  <a:cubicBezTo>
                    <a:pt x="19" y="8"/>
                    <a:pt x="16" y="6"/>
                    <a:pt x="16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7" y="15"/>
                    <a:pt x="12" y="4"/>
                    <a:pt x="16" y="1"/>
                  </a:cubicBezTo>
                  <a:cubicBezTo>
                    <a:pt x="16" y="1"/>
                    <a:pt x="15" y="1"/>
                    <a:pt x="15" y="1"/>
                  </a:cubicBezTo>
                  <a:cubicBezTo>
                    <a:pt x="14" y="0"/>
                    <a:pt x="13" y="0"/>
                    <a:pt x="12" y="0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7" y="1"/>
                    <a:pt x="7" y="1"/>
                  </a:cubicBezTo>
                  <a:cubicBezTo>
                    <a:pt x="8" y="1"/>
                    <a:pt x="9" y="3"/>
                    <a:pt x="10" y="3"/>
                  </a:cubicBezTo>
                  <a:cubicBezTo>
                    <a:pt x="10" y="3"/>
                    <a:pt x="4" y="2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2"/>
                    <a:pt x="4" y="4"/>
                    <a:pt x="4" y="4"/>
                  </a:cubicBezTo>
                  <a:cubicBezTo>
                    <a:pt x="5" y="5"/>
                    <a:pt x="2" y="8"/>
                    <a:pt x="2" y="16"/>
                  </a:cubicBezTo>
                  <a:cubicBezTo>
                    <a:pt x="2" y="19"/>
                    <a:pt x="2" y="22"/>
                    <a:pt x="1" y="24"/>
                  </a:cubicBezTo>
                  <a:cubicBezTo>
                    <a:pt x="1" y="25"/>
                    <a:pt x="2" y="26"/>
                    <a:pt x="2" y="27"/>
                  </a:cubicBezTo>
                  <a:cubicBezTo>
                    <a:pt x="2" y="27"/>
                    <a:pt x="2" y="28"/>
                    <a:pt x="3" y="30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5" y="30"/>
                    <a:pt x="6" y="31"/>
                  </a:cubicBezTo>
                  <a:cubicBezTo>
                    <a:pt x="8" y="32"/>
                    <a:pt x="15" y="54"/>
                    <a:pt x="16" y="55"/>
                  </a:cubicBezTo>
                  <a:cubicBezTo>
                    <a:pt x="17" y="55"/>
                    <a:pt x="21" y="61"/>
                    <a:pt x="21" y="61"/>
                  </a:cubicBezTo>
                  <a:cubicBezTo>
                    <a:pt x="21" y="61"/>
                    <a:pt x="19" y="39"/>
                    <a:pt x="19" y="38"/>
                  </a:cubicBezTo>
                  <a:cubicBezTo>
                    <a:pt x="19" y="36"/>
                    <a:pt x="18" y="17"/>
                    <a:pt x="18" y="17"/>
                  </a:cubicBezTo>
                  <a:cubicBezTo>
                    <a:pt x="18" y="17"/>
                    <a:pt x="24" y="17"/>
                    <a:pt x="25" y="16"/>
                  </a:cubicBezTo>
                  <a:cubicBezTo>
                    <a:pt x="26" y="16"/>
                    <a:pt x="31" y="15"/>
                    <a:pt x="32" y="15"/>
                  </a:cubicBezTo>
                  <a:cubicBezTo>
                    <a:pt x="32" y="15"/>
                    <a:pt x="30" y="16"/>
                    <a:pt x="31" y="17"/>
                  </a:cubicBezTo>
                  <a:cubicBezTo>
                    <a:pt x="32" y="18"/>
                    <a:pt x="37" y="17"/>
                    <a:pt x="39" y="16"/>
                  </a:cubicBezTo>
                  <a:cubicBezTo>
                    <a:pt x="40" y="16"/>
                    <a:pt x="57" y="14"/>
                    <a:pt x="57" y="14"/>
                  </a:cubicBezTo>
                  <a:cubicBezTo>
                    <a:pt x="57" y="14"/>
                    <a:pt x="57" y="8"/>
                    <a:pt x="55" y="7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99"/>
            <p:cNvSpPr/>
            <p:nvPr/>
          </p:nvSpPr>
          <p:spPr>
            <a:xfrm>
              <a:off x="5681160" y="3848760"/>
              <a:ext cx="128880" cy="58104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0" y="37"/>
                  </a:moveTo>
                  <a:cubicBezTo>
                    <a:pt x="5" y="41"/>
                    <a:pt x="5" y="41"/>
                    <a:pt x="5" y="41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9" y="36"/>
                    <a:pt x="8" y="10"/>
                    <a:pt x="8" y="9"/>
                  </a:cubicBezTo>
                  <a:cubicBezTo>
                    <a:pt x="8" y="8"/>
                    <a:pt x="6" y="5"/>
                    <a:pt x="6" y="5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0"/>
                    <a:pt x="5" y="1"/>
                  </a:cubicBezTo>
                  <a:cubicBezTo>
                    <a:pt x="3" y="2"/>
                    <a:pt x="3" y="5"/>
                    <a:pt x="3" y="5"/>
                  </a:cubicBezTo>
                  <a:cubicBezTo>
                    <a:pt x="1" y="9"/>
                    <a:pt x="1" y="9"/>
                    <a:pt x="1" y="9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0"/>
          <p:cNvGrpSpPr/>
          <p:nvPr/>
        </p:nvGrpSpPr>
        <p:grpSpPr>
          <a:xfrm>
            <a:off x="9896400" y="3481560"/>
            <a:ext cx="1541520" cy="2377800"/>
            <a:chOff x="9896400" y="3481560"/>
            <a:chExt cx="1541520" cy="2377800"/>
          </a:xfrm>
        </p:grpSpPr>
        <p:sp>
          <p:nvSpPr>
            <p:cNvPr id="261" name="AutoShape 69"/>
            <p:cNvSpPr/>
            <p:nvPr/>
          </p:nvSpPr>
          <p:spPr>
            <a:xfrm>
              <a:off x="9909360" y="3494520"/>
              <a:ext cx="1528560" cy="23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71"/>
            <p:cNvSpPr/>
            <p:nvPr/>
          </p:nvSpPr>
          <p:spPr>
            <a:xfrm>
              <a:off x="10630080" y="3740760"/>
              <a:ext cx="149760" cy="1472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72"/>
            <p:cNvSpPr/>
            <p:nvPr/>
          </p:nvSpPr>
          <p:spPr>
            <a:xfrm>
              <a:off x="9909360" y="3888000"/>
              <a:ext cx="99000" cy="856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73"/>
            <p:cNvSpPr/>
            <p:nvPr/>
          </p:nvSpPr>
          <p:spPr>
            <a:xfrm>
              <a:off x="11325960" y="3937320"/>
              <a:ext cx="87120" cy="9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74"/>
            <p:cNvSpPr/>
            <p:nvPr/>
          </p:nvSpPr>
          <p:spPr>
            <a:xfrm>
              <a:off x="10344600" y="4355640"/>
              <a:ext cx="720720" cy="356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75"/>
            <p:cNvSpPr/>
            <p:nvPr/>
          </p:nvSpPr>
          <p:spPr>
            <a:xfrm>
              <a:off x="10456560" y="4418280"/>
              <a:ext cx="521280" cy="131724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76"/>
            <p:cNvSpPr/>
            <p:nvPr/>
          </p:nvSpPr>
          <p:spPr>
            <a:xfrm>
              <a:off x="10456560" y="4418280"/>
              <a:ext cx="222840" cy="183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7"/>
            <p:cNvSpPr/>
            <p:nvPr/>
          </p:nvSpPr>
          <p:spPr>
            <a:xfrm>
              <a:off x="10542600" y="4430160"/>
              <a:ext cx="435240" cy="1305360"/>
            </a:xfrm>
            <a:custGeom>
              <a:avLst/>
              <a:gdLst/>
              <a:ahLst/>
              <a:rect l="l" t="t" r="r" b="b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8"/>
            <p:cNvSpPr/>
            <p:nvPr/>
          </p:nvSpPr>
          <p:spPr>
            <a:xfrm>
              <a:off x="10630080" y="3752280"/>
              <a:ext cx="111960" cy="1353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79"/>
            <p:cNvSpPr/>
            <p:nvPr/>
          </p:nvSpPr>
          <p:spPr>
            <a:xfrm>
              <a:off x="10456560" y="3813840"/>
              <a:ext cx="521280" cy="74016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80"/>
            <p:cNvSpPr/>
            <p:nvPr/>
          </p:nvSpPr>
          <p:spPr>
            <a:xfrm>
              <a:off x="10456560" y="3826800"/>
              <a:ext cx="198000" cy="61488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81"/>
            <p:cNvSpPr/>
            <p:nvPr/>
          </p:nvSpPr>
          <p:spPr>
            <a:xfrm>
              <a:off x="10742040" y="3838320"/>
              <a:ext cx="62280" cy="61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82"/>
            <p:cNvSpPr/>
            <p:nvPr/>
          </p:nvSpPr>
          <p:spPr>
            <a:xfrm>
              <a:off x="10779840" y="3863160"/>
              <a:ext cx="198000" cy="61632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83"/>
            <p:cNvSpPr/>
            <p:nvPr/>
          </p:nvSpPr>
          <p:spPr>
            <a:xfrm>
              <a:off x="11276640" y="3888000"/>
              <a:ext cx="87120" cy="123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84"/>
            <p:cNvSpPr/>
            <p:nvPr/>
          </p:nvSpPr>
          <p:spPr>
            <a:xfrm>
              <a:off x="10580400" y="3517920"/>
              <a:ext cx="248760" cy="30852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5"/>
            <p:cNvSpPr/>
            <p:nvPr/>
          </p:nvSpPr>
          <p:spPr>
            <a:xfrm>
              <a:off x="11264760" y="3813840"/>
              <a:ext cx="161280" cy="173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86"/>
            <p:cNvSpPr/>
            <p:nvPr/>
          </p:nvSpPr>
          <p:spPr>
            <a:xfrm>
              <a:off x="11264760" y="3826800"/>
              <a:ext cx="161280" cy="1602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87"/>
            <p:cNvSpPr/>
            <p:nvPr/>
          </p:nvSpPr>
          <p:spPr>
            <a:xfrm>
              <a:off x="10580400" y="3530880"/>
              <a:ext cx="248760" cy="2955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88"/>
            <p:cNvSpPr/>
            <p:nvPr/>
          </p:nvSpPr>
          <p:spPr>
            <a:xfrm>
              <a:off x="9947160" y="3826800"/>
              <a:ext cx="85680" cy="1224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89"/>
            <p:cNvSpPr/>
            <p:nvPr/>
          </p:nvSpPr>
          <p:spPr>
            <a:xfrm>
              <a:off x="9896400" y="3765600"/>
              <a:ext cx="149760" cy="171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90"/>
            <p:cNvSpPr/>
            <p:nvPr/>
          </p:nvSpPr>
          <p:spPr>
            <a:xfrm>
              <a:off x="9896400" y="3765600"/>
              <a:ext cx="149760" cy="171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91"/>
            <p:cNvSpPr/>
            <p:nvPr/>
          </p:nvSpPr>
          <p:spPr>
            <a:xfrm>
              <a:off x="9896400" y="3813840"/>
              <a:ext cx="721800" cy="936720"/>
            </a:xfrm>
            <a:custGeom>
              <a:avLst/>
              <a:gdLst/>
              <a:ahLst/>
              <a:rect l="l" t="t" r="r" b="b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92"/>
            <p:cNvSpPr/>
            <p:nvPr/>
          </p:nvSpPr>
          <p:spPr>
            <a:xfrm>
              <a:off x="10779840" y="3813840"/>
              <a:ext cx="646200" cy="92376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93"/>
            <p:cNvSpPr/>
            <p:nvPr/>
          </p:nvSpPr>
          <p:spPr>
            <a:xfrm>
              <a:off x="10854360" y="3899520"/>
              <a:ext cx="572040" cy="83772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94"/>
            <p:cNvSpPr/>
            <p:nvPr/>
          </p:nvSpPr>
          <p:spPr>
            <a:xfrm>
              <a:off x="10468440" y="3912840"/>
              <a:ext cx="124920" cy="40644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95"/>
            <p:cNvSpPr/>
            <p:nvPr/>
          </p:nvSpPr>
          <p:spPr>
            <a:xfrm>
              <a:off x="9896400" y="3888000"/>
              <a:ext cx="522360" cy="28260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96"/>
            <p:cNvSpPr/>
            <p:nvPr/>
          </p:nvSpPr>
          <p:spPr>
            <a:xfrm>
              <a:off x="10654920" y="3851640"/>
              <a:ext cx="124920" cy="652680"/>
            </a:xfrm>
            <a:custGeom>
              <a:avLst/>
              <a:gdLst/>
              <a:ahLst/>
              <a:rect l="l" t="t" r="r" b="b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97"/>
            <p:cNvSpPr/>
            <p:nvPr/>
          </p:nvSpPr>
          <p:spPr>
            <a:xfrm>
              <a:off x="10593360" y="5686200"/>
              <a:ext cx="161280" cy="173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98"/>
            <p:cNvSpPr/>
            <p:nvPr/>
          </p:nvSpPr>
          <p:spPr>
            <a:xfrm>
              <a:off x="10779840" y="5550840"/>
              <a:ext cx="173160" cy="2214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99"/>
            <p:cNvSpPr/>
            <p:nvPr/>
          </p:nvSpPr>
          <p:spPr>
            <a:xfrm>
              <a:off x="10580400" y="3481560"/>
              <a:ext cx="248760" cy="221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1" name="矩形 77"/>
          <p:cNvSpPr/>
          <p:nvPr/>
        </p:nvSpPr>
        <p:spPr>
          <a:xfrm>
            <a:off x="996840" y="3689280"/>
            <a:ext cx="3632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996840" y="3224160"/>
            <a:ext cx="275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294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7" name="图片 8" descr=""/>
          <p:cNvPicPr/>
          <p:nvPr/>
        </p:nvPicPr>
        <p:blipFill>
          <a:blip r:embed="rId3"/>
          <a:stretch/>
        </p:blipFill>
        <p:spPr>
          <a:xfrm>
            <a:off x="8759880" y="254160"/>
            <a:ext cx="3243240" cy="240804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9" descr=""/>
          <p:cNvPicPr/>
          <p:nvPr/>
        </p:nvPicPr>
        <p:blipFill>
          <a:blip r:embed="rId4"/>
          <a:stretch/>
        </p:blipFill>
        <p:spPr>
          <a:xfrm>
            <a:off x="1684440" y="2367000"/>
            <a:ext cx="2444760" cy="136836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0" descr=""/>
          <p:cNvPicPr/>
          <p:nvPr/>
        </p:nvPicPr>
        <p:blipFill>
          <a:blip r:embed="rId5"/>
          <a:stretch/>
        </p:blipFill>
        <p:spPr>
          <a:xfrm>
            <a:off x="1681200" y="3914640"/>
            <a:ext cx="2451240" cy="136872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1" descr=""/>
          <p:cNvPicPr/>
          <p:nvPr/>
        </p:nvPicPr>
        <p:blipFill>
          <a:blip r:embed="rId6"/>
          <a:stretch/>
        </p:blipFill>
        <p:spPr>
          <a:xfrm>
            <a:off x="4295880" y="3914640"/>
            <a:ext cx="2436840" cy="13575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5" descr=""/>
          <p:cNvPicPr/>
          <p:nvPr/>
        </p:nvPicPr>
        <p:blipFill>
          <a:blip r:embed="rId7"/>
          <a:stretch/>
        </p:blipFill>
        <p:spPr>
          <a:xfrm>
            <a:off x="4295880" y="2362320"/>
            <a:ext cx="2444760" cy="1366560"/>
          </a:xfrm>
          <a:prstGeom prst="rect">
            <a:avLst/>
          </a:prstGeom>
          <a:ln w="0">
            <a:noFill/>
          </a:ln>
        </p:spPr>
      </p:pic>
      <p:sp>
        <p:nvSpPr>
          <p:cNvPr id="302" name="矩形 16"/>
          <p:cNvSpPr/>
          <p:nvPr/>
        </p:nvSpPr>
        <p:spPr>
          <a:xfrm>
            <a:off x="7343640" y="4327560"/>
            <a:ext cx="31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组合 17"/>
          <p:cNvGrpSpPr/>
          <p:nvPr/>
        </p:nvGrpSpPr>
        <p:grpSpPr>
          <a:xfrm>
            <a:off x="7343640" y="3203640"/>
            <a:ext cx="3878280" cy="1066680"/>
            <a:chOff x="7343640" y="3203640"/>
            <a:chExt cx="3878280" cy="1066680"/>
          </a:xfrm>
        </p:grpSpPr>
        <p:pic>
          <p:nvPicPr>
            <p:cNvPr id="304" name="图片 18" descr=""/>
            <p:cNvPicPr/>
            <p:nvPr/>
          </p:nvPicPr>
          <p:blipFill>
            <a:blip r:embed="rId8"/>
            <a:stretch/>
          </p:blipFill>
          <p:spPr>
            <a:xfrm>
              <a:off x="7343640" y="3203640"/>
              <a:ext cx="3878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文本框 19"/>
            <p:cNvSpPr/>
            <p:nvPr/>
          </p:nvSpPr>
          <p:spPr>
            <a:xfrm>
              <a:off x="7728120" y="34948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74484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6" descr=""/>
          <p:cNvPicPr/>
          <p:nvPr/>
        </p:nvPicPr>
        <p:blipFill>
          <a:blip r:embed="rId2"/>
          <a:stretch/>
        </p:blipFill>
        <p:spPr>
          <a:xfrm>
            <a:off x="0" y="5265720"/>
            <a:ext cx="9010800" cy="18590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8" descr=""/>
          <p:cNvPicPr/>
          <p:nvPr/>
        </p:nvPicPr>
        <p:blipFill>
          <a:blip r:embed="rId3"/>
          <a:stretch/>
        </p:blipFill>
        <p:spPr>
          <a:xfrm>
            <a:off x="8761320" y="206676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9" descr=""/>
          <p:cNvPicPr/>
          <p:nvPr/>
        </p:nvPicPr>
        <p:blipFill>
          <a:blip r:embed="rId4"/>
          <a:stretch/>
        </p:blipFill>
        <p:spPr>
          <a:xfrm>
            <a:off x="10642680" y="2927520"/>
            <a:ext cx="1311120" cy="1266480"/>
          </a:xfrm>
          <a:prstGeom prst="rect">
            <a:avLst/>
          </a:prstGeom>
          <a:ln w="0">
            <a:noFill/>
          </a:ln>
        </p:spPr>
      </p:pic>
      <p:sp>
        <p:nvSpPr>
          <p:cNvPr id="310" name="矩形 7"/>
          <p:cNvSpPr/>
          <p:nvPr/>
        </p:nvSpPr>
        <p:spPr>
          <a:xfrm>
            <a:off x="1521000" y="2643120"/>
            <a:ext cx="55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1521000" y="1682640"/>
            <a:ext cx="55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3"/>
          <p:cNvGrpSpPr/>
          <p:nvPr/>
        </p:nvGrpSpPr>
        <p:grpSpPr>
          <a:xfrm>
            <a:off x="1521000" y="528480"/>
            <a:ext cx="3877920" cy="1065240"/>
            <a:chOff x="1521000" y="528480"/>
            <a:chExt cx="3877920" cy="1065240"/>
          </a:xfrm>
        </p:grpSpPr>
        <p:pic>
          <p:nvPicPr>
            <p:cNvPr id="313" name="图片 14" descr=""/>
            <p:cNvPicPr/>
            <p:nvPr/>
          </p:nvPicPr>
          <p:blipFill>
            <a:blip r:embed="rId5"/>
            <a:stretch/>
          </p:blipFill>
          <p:spPr>
            <a:xfrm>
              <a:off x="1521000" y="528480"/>
              <a:ext cx="38779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文本框 15"/>
            <p:cNvSpPr/>
            <p:nvPr/>
          </p:nvSpPr>
          <p:spPr>
            <a:xfrm>
              <a:off x="1905480" y="81936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reeform 19"/>
          <p:cNvSpPr/>
          <p:nvPr/>
        </p:nvSpPr>
        <p:spPr>
          <a:xfrm>
            <a:off x="4764240" y="2054160"/>
            <a:ext cx="1314360" cy="1128600"/>
          </a:xfrm>
          <a:custGeom>
            <a:avLst/>
            <a:gdLst/>
            <a:ahLst/>
            <a:rect l="l" t="t" r="r" b="b"/>
            <a:pathLst>
              <a:path w="893" h="767">
                <a:moveTo>
                  <a:pt x="142" y="510"/>
                </a:moveTo>
                <a:cubicBezTo>
                  <a:pt x="142" y="510"/>
                  <a:pt x="142" y="510"/>
                  <a:pt x="142" y="510"/>
                </a:cubicBezTo>
                <a:cubicBezTo>
                  <a:pt x="143" y="511"/>
                  <a:pt x="143" y="511"/>
                  <a:pt x="143" y="511"/>
                </a:cubicBezTo>
                <a:cubicBezTo>
                  <a:pt x="143" y="512"/>
                  <a:pt x="143" y="512"/>
                  <a:pt x="143" y="512"/>
                </a:cubicBezTo>
                <a:cubicBezTo>
                  <a:pt x="143" y="512"/>
                  <a:pt x="143" y="512"/>
                  <a:pt x="143" y="512"/>
                </a:cubicBezTo>
                <a:cubicBezTo>
                  <a:pt x="143" y="513"/>
                  <a:pt x="143" y="514"/>
                  <a:pt x="143" y="514"/>
                </a:cubicBezTo>
                <a:cubicBezTo>
                  <a:pt x="142" y="515"/>
                  <a:pt x="142" y="515"/>
                  <a:pt x="142" y="515"/>
                </a:cubicBezTo>
                <a:cubicBezTo>
                  <a:pt x="142" y="516"/>
                  <a:pt x="142" y="516"/>
                  <a:pt x="142" y="516"/>
                </a:cubicBezTo>
                <a:cubicBezTo>
                  <a:pt x="142" y="517"/>
                  <a:pt x="142" y="517"/>
                  <a:pt x="142" y="517"/>
                </a:cubicBezTo>
                <a:cubicBezTo>
                  <a:pt x="141" y="518"/>
                  <a:pt x="141" y="518"/>
                  <a:pt x="141" y="518"/>
                </a:cubicBezTo>
                <a:cubicBezTo>
                  <a:pt x="141" y="518"/>
                  <a:pt x="141" y="518"/>
                  <a:pt x="141" y="518"/>
                </a:cubicBezTo>
                <a:cubicBezTo>
                  <a:pt x="141" y="519"/>
                  <a:pt x="141" y="519"/>
                  <a:pt x="141" y="519"/>
                </a:cubicBezTo>
                <a:cubicBezTo>
                  <a:pt x="141" y="519"/>
                  <a:pt x="141" y="519"/>
                  <a:pt x="141" y="519"/>
                </a:cubicBezTo>
                <a:cubicBezTo>
                  <a:pt x="141" y="519"/>
                  <a:pt x="141" y="520"/>
                  <a:pt x="141" y="520"/>
                </a:cubicBezTo>
                <a:cubicBezTo>
                  <a:pt x="139" y="530"/>
                  <a:pt x="134" y="539"/>
                  <a:pt x="126" y="547"/>
                </a:cubicBezTo>
                <a:cubicBezTo>
                  <a:pt x="122" y="551"/>
                  <a:pt x="117" y="554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06" y="559"/>
                  <a:pt x="102" y="560"/>
                  <a:pt x="98" y="561"/>
                </a:cubicBezTo>
                <a:cubicBezTo>
                  <a:pt x="87" y="565"/>
                  <a:pt x="77" y="572"/>
                  <a:pt x="69" y="580"/>
                </a:cubicBezTo>
                <a:cubicBezTo>
                  <a:pt x="53" y="596"/>
                  <a:pt x="45" y="617"/>
                  <a:pt x="45" y="639"/>
                </a:cubicBezTo>
                <a:cubicBezTo>
                  <a:pt x="45" y="641"/>
                  <a:pt x="45" y="643"/>
                  <a:pt x="45" y="646"/>
                </a:cubicBezTo>
                <a:cubicBezTo>
                  <a:pt x="47" y="664"/>
                  <a:pt x="56" y="682"/>
                  <a:pt x="70" y="696"/>
                </a:cubicBezTo>
                <a:cubicBezTo>
                  <a:pt x="86" y="713"/>
                  <a:pt x="108" y="721"/>
                  <a:pt x="130" y="721"/>
                </a:cubicBezTo>
                <a:cubicBezTo>
                  <a:pt x="150" y="721"/>
                  <a:pt x="171" y="713"/>
                  <a:pt x="186" y="697"/>
                </a:cubicBezTo>
                <a:cubicBezTo>
                  <a:pt x="195" y="688"/>
                  <a:pt x="202" y="677"/>
                  <a:pt x="206" y="666"/>
                </a:cubicBezTo>
                <a:cubicBezTo>
                  <a:pt x="206" y="663"/>
                  <a:pt x="208" y="661"/>
                  <a:pt x="209" y="659"/>
                </a:cubicBezTo>
                <a:cubicBezTo>
                  <a:pt x="211" y="652"/>
                  <a:pt x="216" y="647"/>
                  <a:pt x="221" y="641"/>
                </a:cubicBezTo>
                <a:cubicBezTo>
                  <a:pt x="221" y="641"/>
                  <a:pt x="221" y="641"/>
                  <a:pt x="221" y="641"/>
                </a:cubicBezTo>
                <a:cubicBezTo>
                  <a:pt x="229" y="634"/>
                  <a:pt x="238" y="628"/>
                  <a:pt x="248" y="626"/>
                </a:cubicBezTo>
                <a:cubicBezTo>
                  <a:pt x="249" y="626"/>
                  <a:pt x="250" y="625"/>
                  <a:pt x="251" y="625"/>
                </a:cubicBezTo>
                <a:cubicBezTo>
                  <a:pt x="251" y="625"/>
                  <a:pt x="251" y="625"/>
                  <a:pt x="251" y="625"/>
                </a:cubicBezTo>
                <a:cubicBezTo>
                  <a:pt x="252" y="625"/>
                  <a:pt x="252" y="625"/>
                  <a:pt x="252" y="625"/>
                </a:cubicBezTo>
                <a:cubicBezTo>
                  <a:pt x="252" y="625"/>
                  <a:pt x="252" y="625"/>
                  <a:pt x="252" y="625"/>
                </a:cubicBezTo>
                <a:cubicBezTo>
                  <a:pt x="253" y="625"/>
                  <a:pt x="253" y="625"/>
                  <a:pt x="253" y="625"/>
                </a:cubicBezTo>
                <a:cubicBezTo>
                  <a:pt x="253" y="625"/>
                  <a:pt x="253" y="625"/>
                  <a:pt x="253" y="625"/>
                </a:cubicBezTo>
                <a:cubicBezTo>
                  <a:pt x="254" y="625"/>
                  <a:pt x="255" y="624"/>
                  <a:pt x="256" y="624"/>
                </a:cubicBezTo>
                <a:cubicBezTo>
                  <a:pt x="257" y="624"/>
                  <a:pt x="257" y="624"/>
                  <a:pt x="257" y="624"/>
                </a:cubicBezTo>
                <a:cubicBezTo>
                  <a:pt x="257" y="624"/>
                  <a:pt x="257" y="624"/>
                  <a:pt x="257" y="624"/>
                </a:cubicBezTo>
                <a:cubicBezTo>
                  <a:pt x="258" y="624"/>
                  <a:pt x="258" y="624"/>
                  <a:pt x="258" y="624"/>
                </a:cubicBezTo>
                <a:cubicBezTo>
                  <a:pt x="259" y="624"/>
                  <a:pt x="261" y="625"/>
                  <a:pt x="262" y="626"/>
                </a:cubicBezTo>
                <a:cubicBezTo>
                  <a:pt x="262" y="626"/>
                  <a:pt x="261" y="627"/>
                  <a:pt x="262" y="627"/>
                </a:cubicBezTo>
                <a:cubicBezTo>
                  <a:pt x="262" y="627"/>
                  <a:pt x="261" y="628"/>
                  <a:pt x="261" y="628"/>
                </a:cubicBezTo>
                <a:cubicBezTo>
                  <a:pt x="262" y="628"/>
                  <a:pt x="262" y="628"/>
                  <a:pt x="262" y="628"/>
                </a:cubicBezTo>
                <a:cubicBezTo>
                  <a:pt x="400" y="767"/>
                  <a:pt x="400" y="767"/>
                  <a:pt x="400" y="767"/>
                </a:cubicBezTo>
                <a:cubicBezTo>
                  <a:pt x="536" y="635"/>
                  <a:pt x="715" y="567"/>
                  <a:pt x="892" y="566"/>
                </a:cubicBezTo>
                <a:cubicBezTo>
                  <a:pt x="892" y="373"/>
                  <a:pt x="892" y="373"/>
                  <a:pt x="892" y="373"/>
                </a:cubicBezTo>
                <a:cubicBezTo>
                  <a:pt x="892" y="373"/>
                  <a:pt x="893" y="373"/>
                  <a:pt x="893" y="373"/>
                </a:cubicBezTo>
                <a:cubicBezTo>
                  <a:pt x="892" y="373"/>
                  <a:pt x="892" y="372"/>
                  <a:pt x="891" y="372"/>
                </a:cubicBezTo>
                <a:cubicBezTo>
                  <a:pt x="891" y="372"/>
                  <a:pt x="891" y="372"/>
                  <a:pt x="891" y="372"/>
                </a:cubicBezTo>
                <a:cubicBezTo>
                  <a:pt x="891" y="371"/>
                  <a:pt x="890" y="371"/>
                  <a:pt x="890" y="371"/>
                </a:cubicBezTo>
                <a:cubicBezTo>
                  <a:pt x="885" y="368"/>
                  <a:pt x="880" y="367"/>
                  <a:pt x="874" y="367"/>
                </a:cubicBezTo>
                <a:cubicBezTo>
                  <a:pt x="869" y="367"/>
                  <a:pt x="864" y="368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58" y="370"/>
                  <a:pt x="857" y="371"/>
                  <a:pt x="855" y="372"/>
                </a:cubicBezTo>
                <a:cubicBezTo>
                  <a:pt x="855" y="372"/>
                  <a:pt x="855" y="372"/>
                  <a:pt x="855" y="372"/>
                </a:cubicBezTo>
                <a:cubicBezTo>
                  <a:pt x="855" y="372"/>
                  <a:pt x="855" y="372"/>
                  <a:pt x="855" y="372"/>
                </a:cubicBezTo>
                <a:cubicBezTo>
                  <a:pt x="854" y="373"/>
                  <a:pt x="854" y="373"/>
                  <a:pt x="854" y="373"/>
                </a:cubicBezTo>
                <a:cubicBezTo>
                  <a:pt x="841" y="379"/>
                  <a:pt x="825" y="383"/>
                  <a:pt x="809" y="383"/>
                </a:cubicBezTo>
                <a:cubicBezTo>
                  <a:pt x="785" y="383"/>
                  <a:pt x="762" y="374"/>
                  <a:pt x="745" y="360"/>
                </a:cubicBezTo>
                <a:cubicBezTo>
                  <a:pt x="741" y="357"/>
                  <a:pt x="738" y="354"/>
                  <a:pt x="735" y="351"/>
                </a:cubicBezTo>
                <a:cubicBezTo>
                  <a:pt x="717" y="334"/>
                  <a:pt x="706" y="309"/>
                  <a:pt x="706" y="282"/>
                </a:cubicBezTo>
                <a:cubicBezTo>
                  <a:pt x="706" y="261"/>
                  <a:pt x="712" y="242"/>
                  <a:pt x="723" y="226"/>
                </a:cubicBezTo>
                <a:cubicBezTo>
                  <a:pt x="727" y="220"/>
                  <a:pt x="732" y="213"/>
                  <a:pt x="738" y="208"/>
                </a:cubicBezTo>
                <a:cubicBezTo>
                  <a:pt x="756" y="190"/>
                  <a:pt x="782" y="179"/>
                  <a:pt x="809" y="179"/>
                </a:cubicBezTo>
                <a:cubicBezTo>
                  <a:pt x="824" y="179"/>
                  <a:pt x="838" y="182"/>
                  <a:pt x="851" y="188"/>
                </a:cubicBezTo>
                <a:cubicBezTo>
                  <a:pt x="851" y="188"/>
                  <a:pt x="851" y="188"/>
                  <a:pt x="852" y="188"/>
                </a:cubicBezTo>
                <a:cubicBezTo>
                  <a:pt x="852" y="188"/>
                  <a:pt x="852" y="188"/>
                  <a:pt x="852" y="188"/>
                </a:cubicBezTo>
                <a:cubicBezTo>
                  <a:pt x="856" y="191"/>
                  <a:pt x="859" y="192"/>
                  <a:pt x="863" y="194"/>
                </a:cubicBezTo>
                <a:cubicBezTo>
                  <a:pt x="866" y="195"/>
                  <a:pt x="870" y="196"/>
                  <a:pt x="874" y="196"/>
                </a:cubicBezTo>
                <a:cubicBezTo>
                  <a:pt x="881" y="196"/>
                  <a:pt x="887" y="193"/>
                  <a:pt x="893" y="190"/>
                </a:cubicBezTo>
                <a:cubicBezTo>
                  <a:pt x="892" y="0"/>
                  <a:pt x="892" y="0"/>
                  <a:pt x="892" y="0"/>
                </a:cubicBezTo>
                <a:cubicBezTo>
                  <a:pt x="570" y="1"/>
                  <a:pt x="249" y="122"/>
                  <a:pt x="0" y="366"/>
                </a:cubicBezTo>
                <a:cubicBezTo>
                  <a:pt x="138" y="504"/>
                  <a:pt x="138" y="504"/>
                  <a:pt x="138" y="504"/>
                </a:cubicBezTo>
                <a:cubicBezTo>
                  <a:pt x="139" y="505"/>
                  <a:pt x="139" y="505"/>
                  <a:pt x="139" y="505"/>
                </a:cubicBezTo>
                <a:cubicBezTo>
                  <a:pt x="140" y="507"/>
                  <a:pt x="142" y="508"/>
                  <a:pt x="142" y="51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31"/>
          <p:cNvSpPr/>
          <p:nvPr/>
        </p:nvSpPr>
        <p:spPr>
          <a:xfrm>
            <a:off x="5308560" y="2389320"/>
            <a:ext cx="317520" cy="463320"/>
          </a:xfrm>
          <a:custGeom>
            <a:avLst/>
            <a:gdLst/>
            <a:ahLst/>
            <a:rect l="l" t="t" r="r" b="b"/>
            <a:pathLst>
              <a:path w="70" h="102">
                <a:moveTo>
                  <a:pt x="35" y="0"/>
                </a:moveTo>
                <a:cubicBezTo>
                  <a:pt x="16" y="0"/>
                  <a:pt x="0" y="16"/>
                  <a:pt x="0" y="35"/>
                </a:cubicBezTo>
                <a:cubicBezTo>
                  <a:pt x="0" y="48"/>
                  <a:pt x="12" y="62"/>
                  <a:pt x="16" y="74"/>
                </a:cubicBezTo>
                <a:cubicBezTo>
                  <a:pt x="22" y="91"/>
                  <a:pt x="22" y="102"/>
                  <a:pt x="35" y="102"/>
                </a:cubicBezTo>
                <a:cubicBezTo>
                  <a:pt x="49" y="102"/>
                  <a:pt x="48" y="92"/>
                  <a:pt x="54" y="74"/>
                </a:cubicBezTo>
                <a:cubicBezTo>
                  <a:pt x="58" y="62"/>
                  <a:pt x="70" y="48"/>
                  <a:pt x="70" y="35"/>
                </a:cubicBezTo>
                <a:cubicBezTo>
                  <a:pt x="70" y="16"/>
                  <a:pt x="54" y="0"/>
                  <a:pt x="35" y="0"/>
                </a:cubicBezTo>
                <a:close/>
                <a:moveTo>
                  <a:pt x="43" y="87"/>
                </a:moveTo>
                <a:cubicBezTo>
                  <a:pt x="27" y="89"/>
                  <a:pt x="27" y="89"/>
                  <a:pt x="27" y="89"/>
                </a:cubicBezTo>
                <a:cubicBezTo>
                  <a:pt x="27" y="87"/>
                  <a:pt x="26" y="85"/>
                  <a:pt x="26" y="83"/>
                </a:cubicBezTo>
                <a:cubicBezTo>
                  <a:pt x="26" y="83"/>
                  <a:pt x="26" y="83"/>
                  <a:pt x="26" y="83"/>
                </a:cubicBezTo>
                <a:cubicBezTo>
                  <a:pt x="45" y="80"/>
                  <a:pt x="45" y="80"/>
                  <a:pt x="45" y="80"/>
                </a:cubicBezTo>
                <a:cubicBezTo>
                  <a:pt x="45" y="81"/>
                  <a:pt x="45" y="82"/>
                  <a:pt x="44" y="83"/>
                </a:cubicBezTo>
                <a:cubicBezTo>
                  <a:pt x="44" y="84"/>
                  <a:pt x="44" y="86"/>
                  <a:pt x="43" y="87"/>
                </a:cubicBezTo>
                <a:close/>
                <a:moveTo>
                  <a:pt x="25" y="79"/>
                </a:moveTo>
                <a:cubicBezTo>
                  <a:pt x="24" y="78"/>
                  <a:pt x="23" y="76"/>
                  <a:pt x="23" y="73"/>
                </a:cubicBezTo>
                <a:cubicBezTo>
                  <a:pt x="47" y="73"/>
                  <a:pt x="47" y="73"/>
                  <a:pt x="47" y="73"/>
                </a:cubicBezTo>
                <a:cubicBezTo>
                  <a:pt x="47" y="75"/>
                  <a:pt x="47" y="76"/>
                  <a:pt x="46" y="77"/>
                </a:cubicBezTo>
                <a:lnTo>
                  <a:pt x="25" y="79"/>
                </a:lnTo>
                <a:close/>
                <a:moveTo>
                  <a:pt x="35" y="96"/>
                </a:moveTo>
                <a:cubicBezTo>
                  <a:pt x="32" y="96"/>
                  <a:pt x="30" y="95"/>
                  <a:pt x="29" y="92"/>
                </a:cubicBezTo>
                <a:cubicBezTo>
                  <a:pt x="42" y="90"/>
                  <a:pt x="42" y="90"/>
                  <a:pt x="42" y="90"/>
                </a:cubicBezTo>
                <a:cubicBezTo>
                  <a:pt x="40" y="95"/>
                  <a:pt x="39" y="96"/>
                  <a:pt x="35" y="96"/>
                </a:cubicBezTo>
                <a:close/>
                <a:moveTo>
                  <a:pt x="50" y="67"/>
                </a:moveTo>
                <a:cubicBezTo>
                  <a:pt x="20" y="67"/>
                  <a:pt x="20" y="67"/>
                  <a:pt x="20" y="67"/>
                </a:cubicBezTo>
                <a:cubicBezTo>
                  <a:pt x="19" y="64"/>
                  <a:pt x="17" y="60"/>
                  <a:pt x="15" y="57"/>
                </a:cubicBezTo>
                <a:cubicBezTo>
                  <a:pt x="11" y="49"/>
                  <a:pt x="6" y="41"/>
                  <a:pt x="6" y="35"/>
                </a:cubicBezTo>
                <a:cubicBezTo>
                  <a:pt x="6" y="19"/>
                  <a:pt x="19" y="6"/>
                  <a:pt x="35" y="6"/>
                </a:cubicBezTo>
                <a:cubicBezTo>
                  <a:pt x="51" y="6"/>
                  <a:pt x="64" y="19"/>
                  <a:pt x="64" y="35"/>
                </a:cubicBezTo>
                <a:cubicBezTo>
                  <a:pt x="64" y="41"/>
                  <a:pt x="60" y="49"/>
                  <a:pt x="55" y="57"/>
                </a:cubicBezTo>
                <a:cubicBezTo>
                  <a:pt x="53" y="60"/>
                  <a:pt x="52" y="64"/>
                  <a:pt x="50" y="67"/>
                </a:cubicBezTo>
                <a:close/>
                <a:moveTo>
                  <a:pt x="50" y="67"/>
                </a:moveTo>
                <a:cubicBezTo>
                  <a:pt x="50" y="67"/>
                  <a:pt x="50" y="67"/>
                  <a:pt x="50" y="6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20"/>
          <p:cNvSpPr/>
          <p:nvPr/>
        </p:nvSpPr>
        <p:spPr>
          <a:xfrm>
            <a:off x="4759200" y="4673520"/>
            <a:ext cx="1582920" cy="1136880"/>
          </a:xfrm>
          <a:custGeom>
            <a:avLst/>
            <a:gdLst/>
            <a:ahLst/>
            <a:rect l="l" t="t" r="r" b="b"/>
            <a:pathLst>
              <a:path w="1075" h="772">
                <a:moveTo>
                  <a:pt x="891" y="570"/>
                </a:moveTo>
                <a:cubicBezTo>
                  <a:pt x="892" y="570"/>
                  <a:pt x="892" y="570"/>
                  <a:pt x="892" y="570"/>
                </a:cubicBezTo>
                <a:cubicBezTo>
                  <a:pt x="892" y="568"/>
                  <a:pt x="892" y="568"/>
                  <a:pt x="892" y="568"/>
                </a:cubicBezTo>
                <a:cubicBezTo>
                  <a:pt x="893" y="567"/>
                  <a:pt x="893" y="567"/>
                  <a:pt x="893" y="567"/>
                </a:cubicBezTo>
                <a:cubicBezTo>
                  <a:pt x="893" y="567"/>
                  <a:pt x="893" y="567"/>
                  <a:pt x="893" y="567"/>
                </a:cubicBezTo>
                <a:cubicBezTo>
                  <a:pt x="894" y="567"/>
                  <a:pt x="894" y="567"/>
                  <a:pt x="895" y="567"/>
                </a:cubicBezTo>
                <a:cubicBezTo>
                  <a:pt x="896" y="567"/>
                  <a:pt x="896" y="567"/>
                  <a:pt x="896" y="567"/>
                </a:cubicBezTo>
                <a:cubicBezTo>
                  <a:pt x="897" y="566"/>
                  <a:pt x="897" y="566"/>
                  <a:pt x="897" y="566"/>
                </a:cubicBezTo>
                <a:cubicBezTo>
                  <a:pt x="898" y="565"/>
                  <a:pt x="898" y="565"/>
                  <a:pt x="898" y="565"/>
                </a:cubicBezTo>
                <a:cubicBezTo>
                  <a:pt x="898" y="565"/>
                  <a:pt x="898" y="565"/>
                  <a:pt x="898" y="565"/>
                </a:cubicBezTo>
                <a:cubicBezTo>
                  <a:pt x="899" y="565"/>
                  <a:pt x="899" y="565"/>
                  <a:pt x="899" y="565"/>
                </a:cubicBezTo>
                <a:cubicBezTo>
                  <a:pt x="899" y="564"/>
                  <a:pt x="899" y="564"/>
                  <a:pt x="899" y="564"/>
                </a:cubicBezTo>
                <a:cubicBezTo>
                  <a:pt x="899" y="564"/>
                  <a:pt x="899" y="564"/>
                  <a:pt x="899" y="564"/>
                </a:cubicBezTo>
                <a:cubicBezTo>
                  <a:pt x="900" y="564"/>
                  <a:pt x="900" y="564"/>
                  <a:pt x="901" y="563"/>
                </a:cubicBezTo>
                <a:cubicBezTo>
                  <a:pt x="909" y="558"/>
                  <a:pt x="919" y="555"/>
                  <a:pt x="929" y="555"/>
                </a:cubicBezTo>
                <a:cubicBezTo>
                  <a:pt x="935" y="555"/>
                  <a:pt x="941" y="556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52" y="560"/>
                  <a:pt x="957" y="562"/>
                  <a:pt x="960" y="565"/>
                </a:cubicBezTo>
                <a:cubicBezTo>
                  <a:pt x="970" y="569"/>
                  <a:pt x="982" y="572"/>
                  <a:pt x="994" y="572"/>
                </a:cubicBezTo>
                <a:cubicBezTo>
                  <a:pt x="1016" y="572"/>
                  <a:pt x="1037" y="563"/>
                  <a:pt x="1052" y="548"/>
                </a:cubicBezTo>
                <a:cubicBezTo>
                  <a:pt x="1054" y="546"/>
                  <a:pt x="1055" y="544"/>
                  <a:pt x="1057" y="542"/>
                </a:cubicBezTo>
                <a:cubicBezTo>
                  <a:pt x="1068" y="528"/>
                  <a:pt x="1075" y="509"/>
                  <a:pt x="1075" y="489"/>
                </a:cubicBezTo>
                <a:cubicBezTo>
                  <a:pt x="1075" y="466"/>
                  <a:pt x="1065" y="444"/>
                  <a:pt x="1050" y="429"/>
                </a:cubicBezTo>
                <a:cubicBezTo>
                  <a:pt x="1035" y="415"/>
                  <a:pt x="1016" y="406"/>
                  <a:pt x="994" y="406"/>
                </a:cubicBezTo>
                <a:cubicBezTo>
                  <a:pt x="981" y="406"/>
                  <a:pt x="968" y="409"/>
                  <a:pt x="957" y="414"/>
                </a:cubicBezTo>
                <a:cubicBezTo>
                  <a:pt x="955" y="416"/>
                  <a:pt x="953" y="417"/>
                  <a:pt x="951" y="418"/>
                </a:cubicBezTo>
                <a:cubicBezTo>
                  <a:pt x="944" y="421"/>
                  <a:pt x="937" y="423"/>
                  <a:pt x="929" y="423"/>
                </a:cubicBezTo>
                <a:cubicBezTo>
                  <a:pt x="929" y="423"/>
                  <a:pt x="929" y="423"/>
                  <a:pt x="929" y="423"/>
                </a:cubicBezTo>
                <a:cubicBezTo>
                  <a:pt x="918" y="423"/>
                  <a:pt x="908" y="419"/>
                  <a:pt x="900" y="413"/>
                </a:cubicBezTo>
                <a:cubicBezTo>
                  <a:pt x="899" y="413"/>
                  <a:pt x="898" y="412"/>
                  <a:pt x="897" y="412"/>
                </a:cubicBezTo>
                <a:cubicBezTo>
                  <a:pt x="897" y="411"/>
                  <a:pt x="897" y="411"/>
                  <a:pt x="897" y="411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5" y="410"/>
                  <a:pt x="895" y="410"/>
                  <a:pt x="895" y="410"/>
                </a:cubicBezTo>
                <a:cubicBezTo>
                  <a:pt x="894" y="410"/>
                  <a:pt x="894" y="409"/>
                  <a:pt x="893" y="408"/>
                </a:cubicBezTo>
                <a:cubicBezTo>
                  <a:pt x="892" y="408"/>
                  <a:pt x="892" y="408"/>
                  <a:pt x="892" y="408"/>
                </a:cubicBezTo>
                <a:cubicBezTo>
                  <a:pt x="892" y="407"/>
                  <a:pt x="892" y="407"/>
                  <a:pt x="892" y="407"/>
                </a:cubicBezTo>
                <a:cubicBezTo>
                  <a:pt x="891" y="407"/>
                  <a:pt x="891" y="407"/>
                  <a:pt x="891" y="407"/>
                </a:cubicBezTo>
                <a:cubicBezTo>
                  <a:pt x="890" y="406"/>
                  <a:pt x="890" y="404"/>
                  <a:pt x="889" y="403"/>
                </a:cubicBezTo>
                <a:cubicBezTo>
                  <a:pt x="889" y="403"/>
                  <a:pt x="889" y="403"/>
                  <a:pt x="889" y="403"/>
                </a:cubicBezTo>
                <a:cubicBezTo>
                  <a:pt x="889" y="402"/>
                  <a:pt x="888" y="402"/>
                  <a:pt x="888" y="402"/>
                </a:cubicBezTo>
                <a:cubicBezTo>
                  <a:pt x="888" y="401"/>
                  <a:pt x="888" y="401"/>
                  <a:pt x="888" y="401"/>
                </a:cubicBezTo>
                <a:cubicBezTo>
                  <a:pt x="888" y="206"/>
                  <a:pt x="888" y="206"/>
                  <a:pt x="888" y="206"/>
                </a:cubicBezTo>
                <a:cubicBezTo>
                  <a:pt x="696" y="202"/>
                  <a:pt x="526" y="124"/>
                  <a:pt x="400" y="0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5" y="137"/>
                  <a:pt x="265" y="137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5" y="138"/>
                  <a:pt x="265" y="139"/>
                  <a:pt x="265" y="139"/>
                </a:cubicBezTo>
                <a:cubicBezTo>
                  <a:pt x="267" y="144"/>
                  <a:pt x="269" y="149"/>
                  <a:pt x="274" y="154"/>
                </a:cubicBezTo>
                <a:cubicBezTo>
                  <a:pt x="277" y="157"/>
                  <a:pt x="281" y="160"/>
                  <a:pt x="285" y="161"/>
                </a:cubicBezTo>
                <a:cubicBezTo>
                  <a:pt x="285" y="161"/>
                  <a:pt x="285" y="161"/>
                  <a:pt x="285" y="161"/>
                </a:cubicBezTo>
                <a:cubicBezTo>
                  <a:pt x="287" y="162"/>
                  <a:pt x="289" y="163"/>
                  <a:pt x="291" y="163"/>
                </a:cubicBezTo>
                <a:cubicBezTo>
                  <a:pt x="291" y="163"/>
                  <a:pt x="291" y="163"/>
                  <a:pt x="291" y="163"/>
                </a:cubicBezTo>
                <a:cubicBezTo>
                  <a:pt x="291" y="163"/>
                  <a:pt x="291" y="163"/>
                  <a:pt x="291" y="163"/>
                </a:cubicBezTo>
                <a:cubicBezTo>
                  <a:pt x="292" y="163"/>
                  <a:pt x="292" y="163"/>
                  <a:pt x="292" y="163"/>
                </a:cubicBezTo>
                <a:cubicBezTo>
                  <a:pt x="306" y="168"/>
                  <a:pt x="319" y="176"/>
                  <a:pt x="331" y="188"/>
                </a:cubicBezTo>
                <a:cubicBezTo>
                  <a:pt x="348" y="205"/>
                  <a:pt x="358" y="227"/>
                  <a:pt x="360" y="250"/>
                </a:cubicBezTo>
                <a:cubicBezTo>
                  <a:pt x="361" y="254"/>
                  <a:pt x="361" y="258"/>
                  <a:pt x="361" y="263"/>
                </a:cubicBezTo>
                <a:cubicBezTo>
                  <a:pt x="361" y="288"/>
                  <a:pt x="352" y="313"/>
                  <a:pt x="332" y="332"/>
                </a:cubicBezTo>
                <a:cubicBezTo>
                  <a:pt x="318" y="347"/>
                  <a:pt x="300" y="356"/>
                  <a:pt x="282" y="359"/>
                </a:cubicBezTo>
                <a:cubicBezTo>
                  <a:pt x="274" y="361"/>
                  <a:pt x="266" y="362"/>
                  <a:pt x="258" y="362"/>
                </a:cubicBezTo>
                <a:cubicBezTo>
                  <a:pt x="232" y="362"/>
                  <a:pt x="206" y="352"/>
                  <a:pt x="186" y="332"/>
                </a:cubicBezTo>
                <a:cubicBezTo>
                  <a:pt x="176" y="322"/>
                  <a:pt x="168" y="309"/>
                  <a:pt x="163" y="296"/>
                </a:cubicBezTo>
                <a:cubicBezTo>
                  <a:pt x="163" y="296"/>
                  <a:pt x="163" y="296"/>
                  <a:pt x="163" y="296"/>
                </a:cubicBezTo>
                <a:cubicBezTo>
                  <a:pt x="163" y="295"/>
                  <a:pt x="163" y="295"/>
                  <a:pt x="163" y="295"/>
                </a:cubicBezTo>
                <a:cubicBezTo>
                  <a:pt x="162" y="291"/>
                  <a:pt x="161" y="287"/>
                  <a:pt x="159" y="284"/>
                </a:cubicBezTo>
                <a:cubicBezTo>
                  <a:pt x="158" y="280"/>
                  <a:pt x="155" y="277"/>
                  <a:pt x="153" y="275"/>
                </a:cubicBezTo>
                <a:cubicBezTo>
                  <a:pt x="148" y="270"/>
                  <a:pt x="141" y="267"/>
                  <a:pt x="135" y="265"/>
                </a:cubicBezTo>
                <a:cubicBezTo>
                  <a:pt x="0" y="400"/>
                  <a:pt x="0" y="400"/>
                  <a:pt x="0" y="400"/>
                </a:cubicBezTo>
                <a:cubicBezTo>
                  <a:pt x="228" y="627"/>
                  <a:pt x="540" y="768"/>
                  <a:pt x="888" y="772"/>
                </a:cubicBezTo>
                <a:cubicBezTo>
                  <a:pt x="888" y="577"/>
                  <a:pt x="888" y="577"/>
                  <a:pt x="888" y="577"/>
                </a:cubicBezTo>
                <a:cubicBezTo>
                  <a:pt x="888" y="576"/>
                  <a:pt x="888" y="576"/>
                  <a:pt x="888" y="576"/>
                </a:cubicBezTo>
                <a:cubicBezTo>
                  <a:pt x="888" y="574"/>
                  <a:pt x="889" y="572"/>
                  <a:pt x="891" y="57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65"/>
          <p:cNvSpPr/>
          <p:nvPr/>
        </p:nvSpPr>
        <p:spPr>
          <a:xfrm>
            <a:off x="5373720" y="5126040"/>
            <a:ext cx="446040" cy="40464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23"/>
          <p:cNvSpPr/>
          <p:nvPr/>
        </p:nvSpPr>
        <p:spPr>
          <a:xfrm>
            <a:off x="6835680" y="2616120"/>
            <a:ext cx="1127160" cy="1314360"/>
          </a:xfrm>
          <a:custGeom>
            <a:avLst/>
            <a:gdLst/>
            <a:ahLst/>
            <a:rect l="l" t="t" r="r" b="b"/>
            <a:pathLst>
              <a:path w="766" h="893">
                <a:moveTo>
                  <a:pt x="255" y="140"/>
                </a:moveTo>
                <a:cubicBezTo>
                  <a:pt x="255" y="140"/>
                  <a:pt x="255" y="140"/>
                  <a:pt x="255" y="140"/>
                </a:cubicBezTo>
                <a:cubicBezTo>
                  <a:pt x="254" y="140"/>
                  <a:pt x="254" y="140"/>
                  <a:pt x="254" y="140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45" y="141"/>
                  <a:pt x="245" y="141"/>
                  <a:pt x="245" y="141"/>
                </a:cubicBezTo>
                <a:cubicBezTo>
                  <a:pt x="245" y="140"/>
                  <a:pt x="245" y="140"/>
                  <a:pt x="245" y="140"/>
                </a:cubicBezTo>
                <a:cubicBezTo>
                  <a:pt x="245" y="140"/>
                  <a:pt x="247" y="140"/>
                  <a:pt x="246" y="140"/>
                </a:cubicBezTo>
                <a:cubicBezTo>
                  <a:pt x="248" y="140"/>
                  <a:pt x="248" y="140"/>
                  <a:pt x="248" y="140"/>
                </a:cubicBezTo>
                <a:cubicBezTo>
                  <a:pt x="247" y="139"/>
                  <a:pt x="247" y="139"/>
                  <a:pt x="247" y="139"/>
                </a:cubicBezTo>
                <a:cubicBezTo>
                  <a:pt x="247" y="139"/>
                  <a:pt x="247" y="139"/>
                  <a:pt x="247" y="139"/>
                </a:cubicBezTo>
                <a:cubicBezTo>
                  <a:pt x="246" y="139"/>
                  <a:pt x="246" y="139"/>
                  <a:pt x="246" y="139"/>
                </a:cubicBezTo>
                <a:cubicBezTo>
                  <a:pt x="246" y="139"/>
                  <a:pt x="246" y="139"/>
                  <a:pt x="246" y="139"/>
                </a:cubicBezTo>
                <a:cubicBezTo>
                  <a:pt x="246" y="138"/>
                  <a:pt x="246" y="138"/>
                  <a:pt x="246" y="138"/>
                </a:cubicBezTo>
                <a:cubicBezTo>
                  <a:pt x="246" y="138"/>
                  <a:pt x="246" y="138"/>
                  <a:pt x="246" y="138"/>
                </a:cubicBezTo>
                <a:cubicBezTo>
                  <a:pt x="245" y="138"/>
                  <a:pt x="245" y="138"/>
                  <a:pt x="244" y="138"/>
                </a:cubicBezTo>
                <a:cubicBezTo>
                  <a:pt x="235" y="136"/>
                  <a:pt x="225" y="131"/>
                  <a:pt x="218" y="124"/>
                </a:cubicBezTo>
                <a:cubicBezTo>
                  <a:pt x="214" y="120"/>
                  <a:pt x="210" y="115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09"/>
                  <a:pt x="208" y="109"/>
                  <a:pt x="208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5" y="104"/>
                  <a:pt x="204" y="99"/>
                  <a:pt x="203" y="95"/>
                </a:cubicBezTo>
                <a:cubicBezTo>
                  <a:pt x="199" y="85"/>
                  <a:pt x="193" y="75"/>
                  <a:pt x="184" y="66"/>
                </a:cubicBezTo>
                <a:cubicBezTo>
                  <a:pt x="168" y="50"/>
                  <a:pt x="147" y="42"/>
                  <a:pt x="126" y="42"/>
                </a:cubicBezTo>
                <a:cubicBezTo>
                  <a:pt x="121" y="42"/>
                  <a:pt x="116" y="43"/>
                  <a:pt x="111" y="44"/>
                </a:cubicBezTo>
                <a:cubicBezTo>
                  <a:pt x="96" y="47"/>
                  <a:pt x="81" y="55"/>
                  <a:pt x="69" y="67"/>
                </a:cubicBezTo>
                <a:cubicBezTo>
                  <a:pt x="52" y="84"/>
                  <a:pt x="44" y="106"/>
                  <a:pt x="44" y="129"/>
                </a:cubicBezTo>
                <a:cubicBezTo>
                  <a:pt x="44" y="132"/>
                  <a:pt x="44" y="134"/>
                  <a:pt x="44" y="137"/>
                </a:cubicBezTo>
                <a:cubicBezTo>
                  <a:pt x="46" y="154"/>
                  <a:pt x="54" y="170"/>
                  <a:pt x="67" y="184"/>
                </a:cubicBezTo>
                <a:cubicBezTo>
                  <a:pt x="76" y="193"/>
                  <a:pt x="87" y="199"/>
                  <a:pt x="99" y="203"/>
                </a:cubicBezTo>
                <a:cubicBezTo>
                  <a:pt x="101" y="204"/>
                  <a:pt x="104" y="205"/>
                  <a:pt x="106" y="206"/>
                </a:cubicBezTo>
                <a:cubicBezTo>
                  <a:pt x="113" y="208"/>
                  <a:pt x="119" y="212"/>
                  <a:pt x="124" y="217"/>
                </a:cubicBezTo>
                <a:cubicBezTo>
                  <a:pt x="124" y="217"/>
                  <a:pt x="124" y="217"/>
                  <a:pt x="124" y="217"/>
                </a:cubicBezTo>
                <a:cubicBezTo>
                  <a:pt x="132" y="225"/>
                  <a:pt x="137" y="235"/>
                  <a:pt x="139" y="245"/>
                </a:cubicBezTo>
                <a:cubicBezTo>
                  <a:pt x="139" y="246"/>
                  <a:pt x="140" y="247"/>
                  <a:pt x="140" y="248"/>
                </a:cubicBezTo>
                <a:cubicBezTo>
                  <a:pt x="140" y="249"/>
                  <a:pt x="140" y="249"/>
                  <a:pt x="140" y="249"/>
                </a:cubicBezTo>
                <a:cubicBezTo>
                  <a:pt x="140" y="249"/>
                  <a:pt x="140" y="249"/>
                  <a:pt x="140" y="249"/>
                </a:cubicBezTo>
                <a:cubicBezTo>
                  <a:pt x="140" y="250"/>
                  <a:pt x="136" y="251"/>
                  <a:pt x="136" y="251"/>
                </a:cubicBezTo>
                <a:cubicBezTo>
                  <a:pt x="136" y="252"/>
                  <a:pt x="133" y="253"/>
                  <a:pt x="133" y="253"/>
                </a:cubicBezTo>
                <a:cubicBezTo>
                  <a:pt x="133" y="254"/>
                  <a:pt x="133" y="254"/>
                  <a:pt x="133" y="254"/>
                </a:cubicBezTo>
                <a:cubicBezTo>
                  <a:pt x="133" y="254"/>
                  <a:pt x="137" y="254"/>
                  <a:pt x="137" y="254"/>
                </a:cubicBezTo>
                <a:cubicBezTo>
                  <a:pt x="137" y="256"/>
                  <a:pt x="138" y="257"/>
                  <a:pt x="138" y="258"/>
                </a:cubicBezTo>
                <a:cubicBezTo>
                  <a:pt x="138" y="258"/>
                  <a:pt x="139" y="258"/>
                  <a:pt x="138" y="258"/>
                </a:cubicBezTo>
                <a:cubicBezTo>
                  <a:pt x="138" y="259"/>
                  <a:pt x="138" y="259"/>
                  <a:pt x="138" y="260"/>
                </a:cubicBezTo>
                <a:cubicBezTo>
                  <a:pt x="138" y="260"/>
                  <a:pt x="138" y="260"/>
                  <a:pt x="138" y="260"/>
                </a:cubicBezTo>
                <a:cubicBezTo>
                  <a:pt x="0" y="400"/>
                  <a:pt x="0" y="400"/>
                  <a:pt x="0" y="400"/>
                </a:cubicBezTo>
                <a:cubicBezTo>
                  <a:pt x="132" y="537"/>
                  <a:pt x="199" y="717"/>
                  <a:pt x="200" y="893"/>
                </a:cubicBezTo>
                <a:cubicBezTo>
                  <a:pt x="391" y="893"/>
                  <a:pt x="391" y="893"/>
                  <a:pt x="391" y="893"/>
                </a:cubicBezTo>
                <a:cubicBezTo>
                  <a:pt x="395" y="885"/>
                  <a:pt x="398" y="879"/>
                  <a:pt x="398" y="872"/>
                </a:cubicBezTo>
                <a:cubicBezTo>
                  <a:pt x="398" y="867"/>
                  <a:pt x="397" y="862"/>
                  <a:pt x="395" y="858"/>
                </a:cubicBezTo>
                <a:cubicBezTo>
                  <a:pt x="394" y="856"/>
                  <a:pt x="393" y="854"/>
                  <a:pt x="392" y="852"/>
                </a:cubicBezTo>
                <a:cubicBezTo>
                  <a:pt x="392" y="852"/>
                  <a:pt x="392" y="852"/>
                  <a:pt x="392" y="852"/>
                </a:cubicBezTo>
                <a:cubicBezTo>
                  <a:pt x="392" y="852"/>
                  <a:pt x="392" y="852"/>
                  <a:pt x="392" y="852"/>
                </a:cubicBezTo>
                <a:cubicBezTo>
                  <a:pt x="392" y="851"/>
                  <a:pt x="392" y="851"/>
                  <a:pt x="392" y="851"/>
                </a:cubicBezTo>
                <a:cubicBezTo>
                  <a:pt x="385" y="838"/>
                  <a:pt x="381" y="822"/>
                  <a:pt x="381" y="806"/>
                </a:cubicBezTo>
                <a:cubicBezTo>
                  <a:pt x="381" y="778"/>
                  <a:pt x="393" y="752"/>
                  <a:pt x="412" y="733"/>
                </a:cubicBezTo>
                <a:cubicBezTo>
                  <a:pt x="413" y="733"/>
                  <a:pt x="413" y="732"/>
                  <a:pt x="414" y="731"/>
                </a:cubicBezTo>
                <a:cubicBezTo>
                  <a:pt x="431" y="714"/>
                  <a:pt x="456" y="703"/>
                  <a:pt x="483" y="703"/>
                </a:cubicBezTo>
                <a:cubicBezTo>
                  <a:pt x="507" y="703"/>
                  <a:pt x="529" y="711"/>
                  <a:pt x="546" y="726"/>
                </a:cubicBezTo>
                <a:cubicBezTo>
                  <a:pt x="570" y="744"/>
                  <a:pt x="586" y="774"/>
                  <a:pt x="586" y="806"/>
                </a:cubicBezTo>
                <a:cubicBezTo>
                  <a:pt x="586" y="821"/>
                  <a:pt x="582" y="835"/>
                  <a:pt x="577" y="848"/>
                </a:cubicBezTo>
                <a:cubicBezTo>
                  <a:pt x="577" y="848"/>
                  <a:pt x="576" y="848"/>
                  <a:pt x="576" y="849"/>
                </a:cubicBezTo>
                <a:cubicBezTo>
                  <a:pt x="576" y="849"/>
                  <a:pt x="576" y="849"/>
                  <a:pt x="576" y="849"/>
                </a:cubicBezTo>
                <a:cubicBezTo>
                  <a:pt x="574" y="853"/>
                  <a:pt x="572" y="856"/>
                  <a:pt x="570" y="860"/>
                </a:cubicBezTo>
                <a:cubicBezTo>
                  <a:pt x="569" y="863"/>
                  <a:pt x="569" y="868"/>
                  <a:pt x="569" y="872"/>
                </a:cubicBezTo>
                <a:cubicBezTo>
                  <a:pt x="569" y="879"/>
                  <a:pt x="571" y="885"/>
                  <a:pt x="575" y="893"/>
                </a:cubicBezTo>
                <a:cubicBezTo>
                  <a:pt x="766" y="893"/>
                  <a:pt x="766" y="893"/>
                  <a:pt x="766" y="893"/>
                </a:cubicBezTo>
                <a:cubicBezTo>
                  <a:pt x="765" y="569"/>
                  <a:pt x="643" y="247"/>
                  <a:pt x="400" y="0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9" y="140"/>
                  <a:pt x="257" y="140"/>
                  <a:pt x="255" y="14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54@|5FFC:0|FBC:0|LFC:16777215|LBC:16777215"/>
          <p:cNvSpPr/>
          <p:nvPr/>
        </p:nvSpPr>
        <p:spPr>
          <a:xfrm>
            <a:off x="7199280" y="3152880"/>
            <a:ext cx="54000" cy="290520"/>
          </a:xfrm>
          <a:custGeom>
            <a:avLst/>
            <a:gdLst/>
            <a:ahLst/>
            <a:rect l="l" t="t" r="r" b="b"/>
            <a:pathLst>
              <a:path w="14" h="79">
                <a:moveTo>
                  <a:pt x="0" y="14"/>
                </a:moveTo>
                <a:cubicBezTo>
                  <a:pt x="0" y="65"/>
                  <a:pt x="0" y="65"/>
                  <a:pt x="0" y="65"/>
                </a:cubicBezTo>
                <a:cubicBezTo>
                  <a:pt x="0" y="73"/>
                  <a:pt x="6" y="79"/>
                  <a:pt x="14" y="79"/>
                </a:cubicBezTo>
                <a:cubicBezTo>
                  <a:pt x="14" y="0"/>
                  <a:pt x="14" y="0"/>
                  <a:pt x="14" y="0"/>
                </a:cubicBezTo>
                <a:cubicBezTo>
                  <a:pt x="6" y="0"/>
                  <a:pt x="0" y="6"/>
                  <a:pt x="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155@|5FFC:0|FBC:0|LFC:16777215|LBC:16777215"/>
          <p:cNvSpPr/>
          <p:nvPr/>
        </p:nvSpPr>
        <p:spPr>
          <a:xfrm>
            <a:off x="7278840" y="3071880"/>
            <a:ext cx="266400" cy="371520"/>
          </a:xfrm>
          <a:custGeom>
            <a:avLst/>
            <a:gdLst/>
            <a:ahLst/>
            <a:rect l="l" t="t" r="r" b="b"/>
            <a:pathLst>
              <a:path w="72" h="101">
                <a:moveTo>
                  <a:pt x="58" y="7"/>
                </a:moveTo>
                <a:cubicBezTo>
                  <a:pt x="58" y="3"/>
                  <a:pt x="54" y="0"/>
                  <a:pt x="5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7" y="0"/>
                  <a:pt x="14" y="3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01"/>
                  <a:pt x="0" y="101"/>
                  <a:pt x="0" y="101"/>
                </a:cubicBezTo>
                <a:cubicBezTo>
                  <a:pt x="72" y="101"/>
                  <a:pt x="72" y="101"/>
                  <a:pt x="72" y="101"/>
                </a:cubicBezTo>
                <a:cubicBezTo>
                  <a:pt x="72" y="22"/>
                  <a:pt x="72" y="22"/>
                  <a:pt x="72" y="22"/>
                </a:cubicBezTo>
                <a:cubicBezTo>
                  <a:pt x="58" y="22"/>
                  <a:pt x="58" y="22"/>
                  <a:pt x="58" y="22"/>
                </a:cubicBezTo>
                <a:lnTo>
                  <a:pt x="58" y="7"/>
                </a:lnTo>
                <a:close/>
                <a:moveTo>
                  <a:pt x="50" y="22"/>
                </a:moveTo>
                <a:cubicBezTo>
                  <a:pt x="21" y="22"/>
                  <a:pt x="21" y="22"/>
                  <a:pt x="21" y="22"/>
                </a:cubicBezTo>
                <a:cubicBezTo>
                  <a:pt x="21" y="7"/>
                  <a:pt x="21" y="7"/>
                  <a:pt x="21" y="7"/>
                </a:cubicBezTo>
                <a:cubicBezTo>
                  <a:pt x="50" y="7"/>
                  <a:pt x="50" y="7"/>
                  <a:pt x="50" y="7"/>
                </a:cubicBezTo>
                <a:lnTo>
                  <a:pt x="5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6@|5FFC:0|FBC:0|LFC:16777215|LBC:16777215"/>
          <p:cNvSpPr/>
          <p:nvPr/>
        </p:nvSpPr>
        <p:spPr>
          <a:xfrm>
            <a:off x="7574040" y="3152880"/>
            <a:ext cx="55440" cy="290520"/>
          </a:xfrm>
          <a:custGeom>
            <a:avLst/>
            <a:gdLst/>
            <a:ahLst/>
            <a:rect l="l" t="t" r="r" b="b"/>
            <a:pathLst>
              <a:path w="15" h="79">
                <a:moveTo>
                  <a:pt x="0" y="0"/>
                </a:moveTo>
                <a:cubicBezTo>
                  <a:pt x="0" y="79"/>
                  <a:pt x="0" y="79"/>
                  <a:pt x="0" y="79"/>
                </a:cubicBezTo>
                <a:cubicBezTo>
                  <a:pt x="8" y="79"/>
                  <a:pt x="15" y="73"/>
                  <a:pt x="15" y="6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6"/>
                  <a:pt x="8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22"/>
          <p:cNvSpPr/>
          <p:nvPr/>
        </p:nvSpPr>
        <p:spPr>
          <a:xfrm>
            <a:off x="6827760" y="3675240"/>
            <a:ext cx="1135080" cy="1584000"/>
          </a:xfrm>
          <a:custGeom>
            <a:avLst/>
            <a:gdLst/>
            <a:ahLst/>
            <a:rect l="l" t="t" r="r" b="b"/>
            <a:pathLst>
              <a:path w="771" h="1076">
                <a:moveTo>
                  <a:pt x="569" y="186"/>
                </a:moveTo>
                <a:cubicBezTo>
                  <a:pt x="569" y="184"/>
                  <a:pt x="569" y="184"/>
                  <a:pt x="569" y="184"/>
                </a:cubicBezTo>
                <a:cubicBezTo>
                  <a:pt x="569" y="183"/>
                  <a:pt x="569" y="183"/>
                  <a:pt x="569" y="183"/>
                </a:cubicBezTo>
                <a:cubicBezTo>
                  <a:pt x="570" y="182"/>
                  <a:pt x="570" y="182"/>
                  <a:pt x="570" y="182"/>
                </a:cubicBezTo>
                <a:cubicBezTo>
                  <a:pt x="570" y="182"/>
                  <a:pt x="570" y="182"/>
                  <a:pt x="570" y="182"/>
                </a:cubicBezTo>
                <a:cubicBezTo>
                  <a:pt x="566" y="181"/>
                  <a:pt x="567" y="181"/>
                  <a:pt x="567" y="180"/>
                </a:cubicBezTo>
                <a:cubicBezTo>
                  <a:pt x="566" y="180"/>
                  <a:pt x="566" y="180"/>
                  <a:pt x="566" y="180"/>
                </a:cubicBezTo>
                <a:cubicBezTo>
                  <a:pt x="565" y="178"/>
                  <a:pt x="565" y="178"/>
                  <a:pt x="565" y="178"/>
                </a:cubicBezTo>
                <a:cubicBezTo>
                  <a:pt x="564" y="178"/>
                  <a:pt x="564" y="178"/>
                  <a:pt x="564" y="178"/>
                </a:cubicBezTo>
                <a:cubicBezTo>
                  <a:pt x="564" y="177"/>
                  <a:pt x="564" y="177"/>
                  <a:pt x="564" y="177"/>
                </a:cubicBezTo>
                <a:cubicBezTo>
                  <a:pt x="564" y="177"/>
                  <a:pt x="564" y="177"/>
                  <a:pt x="564" y="177"/>
                </a:cubicBezTo>
                <a:cubicBezTo>
                  <a:pt x="563" y="176"/>
                  <a:pt x="563" y="176"/>
                  <a:pt x="563" y="176"/>
                </a:cubicBezTo>
                <a:cubicBezTo>
                  <a:pt x="563" y="176"/>
                  <a:pt x="563" y="176"/>
                  <a:pt x="563" y="176"/>
                </a:cubicBezTo>
                <a:cubicBezTo>
                  <a:pt x="563" y="175"/>
                  <a:pt x="563" y="175"/>
                  <a:pt x="562" y="175"/>
                </a:cubicBezTo>
                <a:cubicBezTo>
                  <a:pt x="557" y="166"/>
                  <a:pt x="554" y="157"/>
                  <a:pt x="554" y="146"/>
                </a:cubicBezTo>
                <a:cubicBezTo>
                  <a:pt x="554" y="140"/>
                  <a:pt x="555" y="134"/>
                  <a:pt x="557" y="129"/>
                </a:cubicBezTo>
                <a:cubicBezTo>
                  <a:pt x="557" y="129"/>
                  <a:pt x="557" y="129"/>
                  <a:pt x="557" y="129"/>
                </a:cubicBezTo>
                <a:cubicBezTo>
                  <a:pt x="557" y="129"/>
                  <a:pt x="557" y="129"/>
                  <a:pt x="557" y="129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9" y="123"/>
                  <a:pt x="561" y="119"/>
                  <a:pt x="564" y="115"/>
                </a:cubicBezTo>
                <a:cubicBezTo>
                  <a:pt x="568" y="105"/>
                  <a:pt x="571" y="94"/>
                  <a:pt x="571" y="82"/>
                </a:cubicBezTo>
                <a:cubicBezTo>
                  <a:pt x="571" y="59"/>
                  <a:pt x="562" y="38"/>
                  <a:pt x="547" y="23"/>
                </a:cubicBezTo>
                <a:cubicBezTo>
                  <a:pt x="545" y="22"/>
                  <a:pt x="543" y="20"/>
                  <a:pt x="541" y="18"/>
                </a:cubicBezTo>
                <a:cubicBezTo>
                  <a:pt x="527" y="7"/>
                  <a:pt x="508" y="0"/>
                  <a:pt x="488" y="0"/>
                </a:cubicBezTo>
                <a:cubicBezTo>
                  <a:pt x="465" y="0"/>
                  <a:pt x="443" y="10"/>
                  <a:pt x="428" y="25"/>
                </a:cubicBezTo>
                <a:cubicBezTo>
                  <a:pt x="414" y="40"/>
                  <a:pt x="405" y="60"/>
                  <a:pt x="405" y="82"/>
                </a:cubicBezTo>
                <a:cubicBezTo>
                  <a:pt x="405" y="95"/>
                  <a:pt x="408" y="107"/>
                  <a:pt x="413" y="118"/>
                </a:cubicBezTo>
                <a:cubicBezTo>
                  <a:pt x="415" y="120"/>
                  <a:pt x="414" y="122"/>
                  <a:pt x="415" y="125"/>
                </a:cubicBezTo>
                <a:cubicBezTo>
                  <a:pt x="418" y="131"/>
                  <a:pt x="418" y="138"/>
                  <a:pt x="418" y="146"/>
                </a:cubicBezTo>
                <a:cubicBezTo>
                  <a:pt x="418" y="146"/>
                  <a:pt x="418" y="146"/>
                  <a:pt x="418" y="146"/>
                </a:cubicBezTo>
                <a:cubicBezTo>
                  <a:pt x="418" y="157"/>
                  <a:pt x="416" y="167"/>
                  <a:pt x="410" y="176"/>
                </a:cubicBezTo>
                <a:cubicBezTo>
                  <a:pt x="410" y="177"/>
                  <a:pt x="410" y="178"/>
                  <a:pt x="410" y="179"/>
                </a:cubicBezTo>
                <a:cubicBezTo>
                  <a:pt x="410" y="180"/>
                  <a:pt x="410" y="180"/>
                  <a:pt x="410" y="180"/>
                </a:cubicBezTo>
                <a:cubicBezTo>
                  <a:pt x="409" y="182"/>
                  <a:pt x="409" y="182"/>
                  <a:pt x="409" y="182"/>
                </a:cubicBezTo>
                <a:cubicBezTo>
                  <a:pt x="409" y="182"/>
                  <a:pt x="409" y="182"/>
                  <a:pt x="409" y="182"/>
                </a:cubicBezTo>
                <a:cubicBezTo>
                  <a:pt x="409" y="181"/>
                  <a:pt x="409" y="181"/>
                  <a:pt x="409" y="181"/>
                </a:cubicBezTo>
                <a:cubicBezTo>
                  <a:pt x="409" y="181"/>
                  <a:pt x="409" y="181"/>
                  <a:pt x="409" y="181"/>
                </a:cubicBezTo>
                <a:cubicBezTo>
                  <a:pt x="409" y="182"/>
                  <a:pt x="408" y="182"/>
                  <a:pt x="407" y="183"/>
                </a:cubicBezTo>
                <a:cubicBezTo>
                  <a:pt x="407" y="184"/>
                  <a:pt x="407" y="184"/>
                  <a:pt x="407" y="184"/>
                </a:cubicBezTo>
                <a:cubicBezTo>
                  <a:pt x="406" y="184"/>
                  <a:pt x="406" y="184"/>
                  <a:pt x="406" y="184"/>
                </a:cubicBezTo>
                <a:cubicBezTo>
                  <a:pt x="406" y="184"/>
                  <a:pt x="406" y="184"/>
                  <a:pt x="406" y="184"/>
                </a:cubicBezTo>
                <a:cubicBezTo>
                  <a:pt x="405" y="185"/>
                  <a:pt x="403" y="186"/>
                  <a:pt x="402" y="186"/>
                </a:cubicBezTo>
                <a:cubicBezTo>
                  <a:pt x="402" y="186"/>
                  <a:pt x="402" y="188"/>
                  <a:pt x="402" y="188"/>
                </a:cubicBezTo>
                <a:cubicBezTo>
                  <a:pt x="401" y="188"/>
                  <a:pt x="401" y="190"/>
                  <a:pt x="401" y="190"/>
                </a:cubicBezTo>
                <a:cubicBezTo>
                  <a:pt x="400" y="190"/>
                  <a:pt x="400" y="190"/>
                  <a:pt x="400" y="190"/>
                </a:cubicBezTo>
                <a:cubicBezTo>
                  <a:pt x="205" y="190"/>
                  <a:pt x="205" y="190"/>
                  <a:pt x="205" y="190"/>
                </a:cubicBezTo>
                <a:cubicBezTo>
                  <a:pt x="201" y="374"/>
                  <a:pt x="124" y="550"/>
                  <a:pt x="0" y="675"/>
                </a:cubicBezTo>
                <a:cubicBezTo>
                  <a:pt x="136" y="811"/>
                  <a:pt x="136" y="811"/>
                  <a:pt x="136" y="811"/>
                </a:cubicBezTo>
                <a:cubicBezTo>
                  <a:pt x="143" y="809"/>
                  <a:pt x="149" y="806"/>
                  <a:pt x="154" y="801"/>
                </a:cubicBezTo>
                <a:cubicBezTo>
                  <a:pt x="157" y="797"/>
                  <a:pt x="160" y="793"/>
                  <a:pt x="162" y="789"/>
                </a:cubicBezTo>
                <a:cubicBezTo>
                  <a:pt x="162" y="787"/>
                  <a:pt x="163" y="785"/>
                  <a:pt x="163" y="783"/>
                </a:cubicBezTo>
                <a:cubicBezTo>
                  <a:pt x="163" y="783"/>
                  <a:pt x="163" y="783"/>
                  <a:pt x="163" y="783"/>
                </a:cubicBezTo>
                <a:cubicBezTo>
                  <a:pt x="163" y="783"/>
                  <a:pt x="163" y="783"/>
                  <a:pt x="163" y="783"/>
                </a:cubicBezTo>
                <a:cubicBezTo>
                  <a:pt x="163" y="782"/>
                  <a:pt x="163" y="782"/>
                  <a:pt x="163" y="782"/>
                </a:cubicBezTo>
                <a:cubicBezTo>
                  <a:pt x="168" y="768"/>
                  <a:pt x="177" y="755"/>
                  <a:pt x="188" y="743"/>
                </a:cubicBezTo>
                <a:cubicBezTo>
                  <a:pt x="208" y="724"/>
                  <a:pt x="233" y="713"/>
                  <a:pt x="259" y="713"/>
                </a:cubicBezTo>
                <a:cubicBezTo>
                  <a:pt x="286" y="713"/>
                  <a:pt x="312" y="723"/>
                  <a:pt x="332" y="743"/>
                </a:cubicBezTo>
                <a:cubicBezTo>
                  <a:pt x="352" y="763"/>
                  <a:pt x="362" y="790"/>
                  <a:pt x="362" y="816"/>
                </a:cubicBezTo>
                <a:cubicBezTo>
                  <a:pt x="362" y="842"/>
                  <a:pt x="352" y="868"/>
                  <a:pt x="332" y="888"/>
                </a:cubicBezTo>
                <a:cubicBezTo>
                  <a:pt x="322" y="898"/>
                  <a:pt x="310" y="906"/>
                  <a:pt x="297" y="911"/>
                </a:cubicBezTo>
                <a:cubicBezTo>
                  <a:pt x="296" y="911"/>
                  <a:pt x="296" y="911"/>
                  <a:pt x="296" y="911"/>
                </a:cubicBezTo>
                <a:cubicBezTo>
                  <a:pt x="296" y="911"/>
                  <a:pt x="296" y="911"/>
                  <a:pt x="295" y="911"/>
                </a:cubicBezTo>
                <a:cubicBezTo>
                  <a:pt x="291" y="912"/>
                  <a:pt x="288" y="913"/>
                  <a:pt x="284" y="915"/>
                </a:cubicBezTo>
                <a:cubicBezTo>
                  <a:pt x="281" y="916"/>
                  <a:pt x="278" y="918"/>
                  <a:pt x="275" y="921"/>
                </a:cubicBezTo>
                <a:cubicBezTo>
                  <a:pt x="270" y="926"/>
                  <a:pt x="267" y="933"/>
                  <a:pt x="266" y="939"/>
                </a:cubicBezTo>
                <a:cubicBezTo>
                  <a:pt x="400" y="1076"/>
                  <a:pt x="400" y="1076"/>
                  <a:pt x="400" y="1076"/>
                </a:cubicBezTo>
                <a:cubicBezTo>
                  <a:pt x="627" y="847"/>
                  <a:pt x="767" y="534"/>
                  <a:pt x="771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5" y="190"/>
                  <a:pt x="575" y="190"/>
                  <a:pt x="575" y="190"/>
                </a:cubicBezTo>
                <a:cubicBezTo>
                  <a:pt x="573" y="190"/>
                  <a:pt x="571" y="187"/>
                  <a:pt x="569" y="18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66"/>
          <p:cNvSpPr/>
          <p:nvPr/>
        </p:nvSpPr>
        <p:spPr>
          <a:xfrm>
            <a:off x="7300800" y="4213080"/>
            <a:ext cx="306360" cy="447840"/>
          </a:xfrm>
          <a:custGeom>
            <a:avLst/>
            <a:gdLst/>
            <a:ahLst/>
            <a:rect l="l" t="t" r="r" b="b"/>
            <a:pathLst>
              <a:path w="80" h="117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0" y="66"/>
                  <a:pt x="27" y="85"/>
                  <a:pt x="40" y="117"/>
                </a:cubicBezTo>
                <a:cubicBezTo>
                  <a:pt x="53" y="85"/>
                  <a:pt x="80" y="66"/>
                  <a:pt x="80" y="40"/>
                </a:cubicBezTo>
                <a:cubicBezTo>
                  <a:pt x="80" y="18"/>
                  <a:pt x="62" y="0"/>
                  <a:pt x="40" y="0"/>
                </a:cubicBezTo>
                <a:close/>
                <a:moveTo>
                  <a:pt x="7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40" y="8"/>
                  <a:pt x="40" y="8"/>
                  <a:pt x="40" y="8"/>
                </a:cubicBezTo>
                <a:cubicBezTo>
                  <a:pt x="48" y="32"/>
                  <a:pt x="48" y="32"/>
                  <a:pt x="48" y="32"/>
                </a:cubicBezTo>
                <a:cubicBezTo>
                  <a:pt x="73" y="32"/>
                  <a:pt x="73" y="32"/>
                  <a:pt x="73" y="32"/>
                </a:cubicBezTo>
                <a:cubicBezTo>
                  <a:pt x="52" y="46"/>
                  <a:pt x="52" y="46"/>
                  <a:pt x="52" y="46"/>
                </a:cubicBezTo>
                <a:cubicBezTo>
                  <a:pt x="63" y="69"/>
                  <a:pt x="63" y="69"/>
                  <a:pt x="63" y="69"/>
                </a:cubicBezTo>
                <a:cubicBezTo>
                  <a:pt x="40" y="54"/>
                  <a:pt x="40" y="54"/>
                  <a:pt x="40" y="54"/>
                </a:cubicBezTo>
                <a:cubicBezTo>
                  <a:pt x="17" y="69"/>
                  <a:pt x="17" y="69"/>
                  <a:pt x="17" y="69"/>
                </a:cubicBezTo>
                <a:cubicBezTo>
                  <a:pt x="28" y="46"/>
                  <a:pt x="28" y="46"/>
                  <a:pt x="28" y="46"/>
                </a:cubicBezTo>
                <a:lnTo>
                  <a:pt x="7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24"/>
          <p:cNvSpPr/>
          <p:nvPr/>
        </p:nvSpPr>
        <p:spPr>
          <a:xfrm>
            <a:off x="5826240" y="2052720"/>
            <a:ext cx="1577880" cy="1136520"/>
          </a:xfrm>
          <a:custGeom>
            <a:avLst/>
            <a:gdLst/>
            <a:ahLst/>
            <a:rect l="l" t="t" r="r" b="b"/>
            <a:pathLst>
              <a:path w="1073" h="772">
                <a:moveTo>
                  <a:pt x="182" y="202"/>
                </a:moveTo>
                <a:cubicBezTo>
                  <a:pt x="182" y="202"/>
                  <a:pt x="182" y="202"/>
                  <a:pt x="182" y="202"/>
                </a:cubicBezTo>
                <a:cubicBezTo>
                  <a:pt x="182" y="204"/>
                  <a:pt x="182" y="204"/>
                  <a:pt x="182" y="204"/>
                </a:cubicBezTo>
                <a:cubicBezTo>
                  <a:pt x="182" y="205"/>
                  <a:pt x="182" y="205"/>
                  <a:pt x="182" y="205"/>
                </a:cubicBezTo>
                <a:cubicBezTo>
                  <a:pt x="182" y="205"/>
                  <a:pt x="182" y="205"/>
                  <a:pt x="182" y="205"/>
                </a:cubicBezTo>
                <a:cubicBezTo>
                  <a:pt x="181" y="205"/>
                  <a:pt x="180" y="206"/>
                  <a:pt x="180" y="206"/>
                </a:cubicBezTo>
                <a:cubicBezTo>
                  <a:pt x="179" y="206"/>
                  <a:pt x="179" y="206"/>
                  <a:pt x="179" y="206"/>
                </a:cubicBezTo>
                <a:cubicBezTo>
                  <a:pt x="178" y="207"/>
                  <a:pt x="178" y="207"/>
                  <a:pt x="178" y="207"/>
                </a:cubicBezTo>
                <a:cubicBezTo>
                  <a:pt x="177" y="207"/>
                  <a:pt x="177" y="207"/>
                  <a:pt x="177" y="207"/>
                </a:cubicBezTo>
                <a:cubicBezTo>
                  <a:pt x="177" y="207"/>
                  <a:pt x="177" y="207"/>
                  <a:pt x="177" y="207"/>
                </a:cubicBezTo>
                <a:cubicBezTo>
                  <a:pt x="176" y="207"/>
                  <a:pt x="176" y="207"/>
                  <a:pt x="176" y="207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75" y="208"/>
                  <a:pt x="175" y="208"/>
                  <a:pt x="174" y="209"/>
                </a:cubicBezTo>
                <a:cubicBezTo>
                  <a:pt x="166" y="214"/>
                  <a:pt x="156" y="217"/>
                  <a:pt x="146" y="217"/>
                </a:cubicBezTo>
                <a:cubicBezTo>
                  <a:pt x="140" y="217"/>
                  <a:pt x="134" y="216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3" y="212"/>
                  <a:pt x="118" y="210"/>
                  <a:pt x="115" y="207"/>
                </a:cubicBezTo>
                <a:cubicBezTo>
                  <a:pt x="105" y="203"/>
                  <a:pt x="93" y="200"/>
                  <a:pt x="81" y="200"/>
                </a:cubicBezTo>
                <a:cubicBezTo>
                  <a:pt x="59" y="200"/>
                  <a:pt x="38" y="209"/>
                  <a:pt x="23" y="224"/>
                </a:cubicBezTo>
                <a:cubicBezTo>
                  <a:pt x="21" y="226"/>
                  <a:pt x="20" y="228"/>
                  <a:pt x="18" y="230"/>
                </a:cubicBezTo>
                <a:cubicBezTo>
                  <a:pt x="7" y="244"/>
                  <a:pt x="0" y="263"/>
                  <a:pt x="0" y="283"/>
                </a:cubicBezTo>
                <a:cubicBezTo>
                  <a:pt x="0" y="306"/>
                  <a:pt x="10" y="328"/>
                  <a:pt x="25" y="343"/>
                </a:cubicBezTo>
                <a:cubicBezTo>
                  <a:pt x="40" y="357"/>
                  <a:pt x="59" y="366"/>
                  <a:pt x="81" y="366"/>
                </a:cubicBezTo>
                <a:cubicBezTo>
                  <a:pt x="94" y="366"/>
                  <a:pt x="107" y="363"/>
                  <a:pt x="118" y="358"/>
                </a:cubicBezTo>
                <a:cubicBezTo>
                  <a:pt x="120" y="356"/>
                  <a:pt x="122" y="357"/>
                  <a:pt x="124" y="356"/>
                </a:cubicBezTo>
                <a:cubicBezTo>
                  <a:pt x="131" y="353"/>
                  <a:pt x="138" y="353"/>
                  <a:pt x="146" y="353"/>
                </a:cubicBezTo>
                <a:cubicBezTo>
                  <a:pt x="146" y="353"/>
                  <a:pt x="146" y="353"/>
                  <a:pt x="146" y="353"/>
                </a:cubicBezTo>
                <a:cubicBezTo>
                  <a:pt x="157" y="353"/>
                  <a:pt x="167" y="355"/>
                  <a:pt x="175" y="361"/>
                </a:cubicBezTo>
                <a:cubicBezTo>
                  <a:pt x="176" y="361"/>
                  <a:pt x="177" y="361"/>
                  <a:pt x="178" y="361"/>
                </a:cubicBezTo>
                <a:cubicBezTo>
                  <a:pt x="178" y="361"/>
                  <a:pt x="178" y="361"/>
                  <a:pt x="178" y="361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80" y="362"/>
                  <a:pt x="180" y="362"/>
                  <a:pt x="180" y="362"/>
                </a:cubicBezTo>
                <a:cubicBezTo>
                  <a:pt x="181" y="362"/>
                  <a:pt x="181" y="363"/>
                  <a:pt x="182" y="364"/>
                </a:cubicBezTo>
                <a:cubicBezTo>
                  <a:pt x="183" y="364"/>
                  <a:pt x="183" y="364"/>
                  <a:pt x="183" y="364"/>
                </a:cubicBezTo>
                <a:cubicBezTo>
                  <a:pt x="183" y="365"/>
                  <a:pt x="183" y="365"/>
                  <a:pt x="183" y="365"/>
                </a:cubicBezTo>
                <a:cubicBezTo>
                  <a:pt x="184" y="365"/>
                  <a:pt x="184" y="365"/>
                  <a:pt x="184" y="365"/>
                </a:cubicBezTo>
                <a:cubicBezTo>
                  <a:pt x="185" y="366"/>
                  <a:pt x="185" y="368"/>
                  <a:pt x="186" y="369"/>
                </a:cubicBezTo>
                <a:cubicBezTo>
                  <a:pt x="186" y="369"/>
                  <a:pt x="184" y="369"/>
                  <a:pt x="184" y="369"/>
                </a:cubicBezTo>
                <a:cubicBezTo>
                  <a:pt x="184" y="370"/>
                  <a:pt x="183" y="370"/>
                  <a:pt x="183" y="370"/>
                </a:cubicBezTo>
                <a:cubicBezTo>
                  <a:pt x="183" y="371"/>
                  <a:pt x="183" y="371"/>
                  <a:pt x="183" y="371"/>
                </a:cubicBezTo>
                <a:cubicBezTo>
                  <a:pt x="183" y="566"/>
                  <a:pt x="183" y="566"/>
                  <a:pt x="183" y="566"/>
                </a:cubicBezTo>
                <a:cubicBezTo>
                  <a:pt x="375" y="570"/>
                  <a:pt x="547" y="648"/>
                  <a:pt x="673" y="772"/>
                </a:cubicBezTo>
                <a:cubicBezTo>
                  <a:pt x="810" y="636"/>
                  <a:pt x="810" y="636"/>
                  <a:pt x="810" y="636"/>
                </a:cubicBezTo>
                <a:cubicBezTo>
                  <a:pt x="810" y="636"/>
                  <a:pt x="810" y="636"/>
                  <a:pt x="810" y="636"/>
                </a:cubicBezTo>
                <a:cubicBezTo>
                  <a:pt x="810" y="636"/>
                  <a:pt x="810" y="635"/>
                  <a:pt x="810" y="635"/>
                </a:cubicBezTo>
                <a:cubicBezTo>
                  <a:pt x="810" y="634"/>
                  <a:pt x="810" y="634"/>
                  <a:pt x="810" y="634"/>
                </a:cubicBezTo>
                <a:cubicBezTo>
                  <a:pt x="810" y="634"/>
                  <a:pt x="810" y="633"/>
                  <a:pt x="810" y="633"/>
                </a:cubicBezTo>
                <a:cubicBezTo>
                  <a:pt x="808" y="628"/>
                  <a:pt x="806" y="622"/>
                  <a:pt x="801" y="617"/>
                </a:cubicBezTo>
                <a:cubicBezTo>
                  <a:pt x="798" y="614"/>
                  <a:pt x="794" y="613"/>
                  <a:pt x="790" y="609"/>
                </a:cubicBezTo>
                <a:cubicBezTo>
                  <a:pt x="791" y="609"/>
                  <a:pt x="791" y="609"/>
                  <a:pt x="791" y="609"/>
                </a:cubicBezTo>
                <a:cubicBezTo>
                  <a:pt x="791" y="609"/>
                  <a:pt x="791" y="609"/>
                  <a:pt x="791" y="609"/>
                </a:cubicBezTo>
                <a:cubicBezTo>
                  <a:pt x="791" y="610"/>
                  <a:pt x="791" y="610"/>
                  <a:pt x="791" y="610"/>
                </a:cubicBezTo>
                <a:cubicBezTo>
                  <a:pt x="787" y="609"/>
                  <a:pt x="787" y="609"/>
                  <a:pt x="785" y="609"/>
                </a:cubicBezTo>
                <a:cubicBezTo>
                  <a:pt x="784" y="609"/>
                  <a:pt x="784" y="609"/>
                  <a:pt x="784" y="609"/>
                </a:cubicBezTo>
                <a:cubicBezTo>
                  <a:pt x="784" y="609"/>
                  <a:pt x="784" y="609"/>
                  <a:pt x="784" y="609"/>
                </a:cubicBezTo>
                <a:cubicBezTo>
                  <a:pt x="783" y="609"/>
                  <a:pt x="783" y="609"/>
                  <a:pt x="783" y="609"/>
                </a:cubicBezTo>
                <a:cubicBezTo>
                  <a:pt x="769" y="604"/>
                  <a:pt x="756" y="596"/>
                  <a:pt x="744" y="584"/>
                </a:cubicBezTo>
                <a:cubicBezTo>
                  <a:pt x="727" y="567"/>
                  <a:pt x="717" y="545"/>
                  <a:pt x="715" y="522"/>
                </a:cubicBezTo>
                <a:cubicBezTo>
                  <a:pt x="714" y="518"/>
                  <a:pt x="714" y="513"/>
                  <a:pt x="714" y="509"/>
                </a:cubicBezTo>
                <a:cubicBezTo>
                  <a:pt x="714" y="484"/>
                  <a:pt x="723" y="459"/>
                  <a:pt x="743" y="440"/>
                </a:cubicBezTo>
                <a:cubicBezTo>
                  <a:pt x="757" y="425"/>
                  <a:pt x="775" y="416"/>
                  <a:pt x="794" y="413"/>
                </a:cubicBezTo>
                <a:cubicBezTo>
                  <a:pt x="802" y="411"/>
                  <a:pt x="810" y="410"/>
                  <a:pt x="818" y="410"/>
                </a:cubicBezTo>
                <a:cubicBezTo>
                  <a:pt x="843" y="410"/>
                  <a:pt x="869" y="420"/>
                  <a:pt x="889" y="440"/>
                </a:cubicBezTo>
                <a:cubicBezTo>
                  <a:pt x="899" y="450"/>
                  <a:pt x="907" y="463"/>
                  <a:pt x="912" y="476"/>
                </a:cubicBezTo>
                <a:cubicBezTo>
                  <a:pt x="912" y="476"/>
                  <a:pt x="912" y="476"/>
                  <a:pt x="912" y="476"/>
                </a:cubicBezTo>
                <a:cubicBezTo>
                  <a:pt x="912" y="476"/>
                  <a:pt x="912" y="477"/>
                  <a:pt x="912" y="477"/>
                </a:cubicBezTo>
                <a:cubicBezTo>
                  <a:pt x="913" y="481"/>
                  <a:pt x="914" y="485"/>
                  <a:pt x="916" y="488"/>
                </a:cubicBezTo>
                <a:cubicBezTo>
                  <a:pt x="917" y="492"/>
                  <a:pt x="920" y="495"/>
                  <a:pt x="922" y="497"/>
                </a:cubicBezTo>
                <a:cubicBezTo>
                  <a:pt x="927" y="502"/>
                  <a:pt x="934" y="505"/>
                  <a:pt x="940" y="507"/>
                </a:cubicBezTo>
                <a:cubicBezTo>
                  <a:pt x="1073" y="372"/>
                  <a:pt x="1073" y="372"/>
                  <a:pt x="1073" y="372"/>
                </a:cubicBezTo>
                <a:cubicBezTo>
                  <a:pt x="845" y="145"/>
                  <a:pt x="531" y="4"/>
                  <a:pt x="183" y="0"/>
                </a:cubicBezTo>
                <a:cubicBezTo>
                  <a:pt x="183" y="195"/>
                  <a:pt x="183" y="195"/>
                  <a:pt x="183" y="195"/>
                </a:cubicBezTo>
                <a:cubicBezTo>
                  <a:pt x="183" y="196"/>
                  <a:pt x="183" y="196"/>
                  <a:pt x="183" y="196"/>
                </a:cubicBezTo>
                <a:cubicBezTo>
                  <a:pt x="183" y="198"/>
                  <a:pt x="184" y="200"/>
                  <a:pt x="182" y="202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7@|5FFC:0|FBC:0|LFC:16777215|LBC:16777215"/>
          <p:cNvSpPr/>
          <p:nvPr/>
        </p:nvSpPr>
        <p:spPr>
          <a:xfrm>
            <a:off x="6450120" y="2496960"/>
            <a:ext cx="182520" cy="273240"/>
          </a:xfrm>
          <a:custGeom>
            <a:avLst/>
            <a:gdLst/>
            <a:ahLst/>
            <a:rect l="l" t="t" r="r" b="b"/>
            <a:pathLst>
              <a:path w="69" h="103">
                <a:moveTo>
                  <a:pt x="46" y="0"/>
                </a:moveTo>
                <a:lnTo>
                  <a:pt x="23" y="0"/>
                </a:lnTo>
                <a:lnTo>
                  <a:pt x="23" y="57"/>
                </a:lnTo>
                <a:lnTo>
                  <a:pt x="0" y="57"/>
                </a:lnTo>
                <a:lnTo>
                  <a:pt x="35" y="103"/>
                </a:lnTo>
                <a:lnTo>
                  <a:pt x="69" y="57"/>
                </a:lnTo>
                <a:lnTo>
                  <a:pt x="46" y="57"/>
                </a:lnTo>
                <a:lnTo>
                  <a:pt x="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8@|5FFC:0|FBC:0|LFC:16777215|LBC:16777215"/>
          <p:cNvSpPr/>
          <p:nvPr/>
        </p:nvSpPr>
        <p:spPr>
          <a:xfrm>
            <a:off x="6296040" y="2340000"/>
            <a:ext cx="490680" cy="368280"/>
          </a:xfrm>
          <a:custGeom>
            <a:avLst/>
            <a:gdLst/>
            <a:ahLst/>
            <a:rect l="l" t="t" r="r" b="b"/>
            <a:pathLst>
              <a:path w="116" h="87">
                <a:moveTo>
                  <a:pt x="101" y="33"/>
                </a:moveTo>
                <a:cubicBezTo>
                  <a:pt x="101" y="33"/>
                  <a:pt x="101" y="33"/>
                  <a:pt x="101" y="33"/>
                </a:cubicBezTo>
                <a:cubicBezTo>
                  <a:pt x="101" y="15"/>
                  <a:pt x="87" y="0"/>
                  <a:pt x="69" y="0"/>
                </a:cubicBezTo>
                <a:cubicBezTo>
                  <a:pt x="57" y="0"/>
                  <a:pt x="46" y="7"/>
                  <a:pt x="40" y="17"/>
                </a:cubicBezTo>
                <a:cubicBezTo>
                  <a:pt x="38" y="16"/>
                  <a:pt x="35" y="15"/>
                  <a:pt x="32" y="15"/>
                </a:cubicBezTo>
                <a:cubicBezTo>
                  <a:pt x="22" y="15"/>
                  <a:pt x="14" y="23"/>
                  <a:pt x="14" y="33"/>
                </a:cubicBezTo>
                <a:cubicBezTo>
                  <a:pt x="14" y="33"/>
                  <a:pt x="14" y="33"/>
                  <a:pt x="14" y="33"/>
                </a:cubicBezTo>
                <a:cubicBezTo>
                  <a:pt x="6" y="38"/>
                  <a:pt x="0" y="48"/>
                  <a:pt x="0" y="58"/>
                </a:cubicBezTo>
                <a:cubicBezTo>
                  <a:pt x="0" y="74"/>
                  <a:pt x="13" y="87"/>
                  <a:pt x="29" y="87"/>
                </a:cubicBezTo>
                <a:cubicBezTo>
                  <a:pt x="29" y="80"/>
                  <a:pt x="29" y="80"/>
                  <a:pt x="29" y="80"/>
                </a:cubicBezTo>
                <a:cubicBezTo>
                  <a:pt x="17" y="80"/>
                  <a:pt x="7" y="70"/>
                  <a:pt x="7" y="58"/>
                </a:cubicBezTo>
                <a:cubicBezTo>
                  <a:pt x="7" y="51"/>
                  <a:pt x="11" y="44"/>
                  <a:pt x="18" y="40"/>
                </a:cubicBezTo>
                <a:cubicBezTo>
                  <a:pt x="22" y="38"/>
                  <a:pt x="22" y="38"/>
                  <a:pt x="22" y="38"/>
                </a:cubicBezTo>
                <a:cubicBezTo>
                  <a:pt x="22" y="33"/>
                  <a:pt x="22" y="33"/>
                  <a:pt x="22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27"/>
                  <a:pt x="26" y="22"/>
                  <a:pt x="32" y="22"/>
                </a:cubicBezTo>
                <a:cubicBezTo>
                  <a:pt x="34" y="22"/>
                  <a:pt x="36" y="23"/>
                  <a:pt x="37" y="23"/>
                </a:cubicBezTo>
                <a:cubicBezTo>
                  <a:pt x="43" y="26"/>
                  <a:pt x="43" y="26"/>
                  <a:pt x="43" y="26"/>
                </a:cubicBezTo>
                <a:cubicBezTo>
                  <a:pt x="47" y="20"/>
                  <a:pt x="47" y="20"/>
                  <a:pt x="47" y="20"/>
                </a:cubicBezTo>
                <a:cubicBezTo>
                  <a:pt x="51" y="12"/>
                  <a:pt x="60" y="8"/>
                  <a:pt x="69" y="8"/>
                </a:cubicBezTo>
                <a:cubicBezTo>
                  <a:pt x="83" y="8"/>
                  <a:pt x="94" y="19"/>
                  <a:pt x="94" y="33"/>
                </a:cubicBezTo>
                <a:cubicBezTo>
                  <a:pt x="94" y="33"/>
                  <a:pt x="94" y="33"/>
                  <a:pt x="94" y="33"/>
                </a:cubicBezTo>
                <a:cubicBezTo>
                  <a:pt x="94" y="38"/>
                  <a:pt x="94" y="38"/>
                  <a:pt x="94" y="38"/>
                </a:cubicBezTo>
                <a:cubicBezTo>
                  <a:pt x="98" y="40"/>
                  <a:pt x="98" y="40"/>
                  <a:pt x="98" y="40"/>
                </a:cubicBezTo>
                <a:cubicBezTo>
                  <a:pt x="104" y="44"/>
                  <a:pt x="109" y="51"/>
                  <a:pt x="109" y="58"/>
                </a:cubicBezTo>
                <a:cubicBezTo>
                  <a:pt x="109" y="70"/>
                  <a:pt x="99" y="80"/>
                  <a:pt x="87" y="80"/>
                </a:cubicBezTo>
                <a:cubicBezTo>
                  <a:pt x="87" y="87"/>
                  <a:pt x="87" y="87"/>
                  <a:pt x="87" y="87"/>
                </a:cubicBezTo>
                <a:cubicBezTo>
                  <a:pt x="103" y="87"/>
                  <a:pt x="116" y="74"/>
                  <a:pt x="116" y="58"/>
                </a:cubicBezTo>
                <a:cubicBezTo>
                  <a:pt x="116" y="48"/>
                  <a:pt x="110" y="38"/>
                  <a:pt x="10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21"/>
          <p:cNvSpPr/>
          <p:nvPr/>
        </p:nvSpPr>
        <p:spPr>
          <a:xfrm>
            <a:off x="6084720" y="4684680"/>
            <a:ext cx="1311480" cy="1125720"/>
          </a:xfrm>
          <a:custGeom>
            <a:avLst/>
            <a:gdLst/>
            <a:ahLst/>
            <a:rect l="l" t="t" r="r" b="b"/>
            <a:pathLst>
              <a:path w="892" h="765">
                <a:moveTo>
                  <a:pt x="753" y="256"/>
                </a:moveTo>
                <a:cubicBezTo>
                  <a:pt x="753" y="255"/>
                  <a:pt x="753" y="255"/>
                  <a:pt x="753" y="255"/>
                </a:cubicBezTo>
                <a:cubicBezTo>
                  <a:pt x="751" y="254"/>
                  <a:pt x="751" y="254"/>
                  <a:pt x="751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2"/>
                  <a:pt x="751" y="251"/>
                  <a:pt x="751" y="251"/>
                </a:cubicBezTo>
                <a:cubicBezTo>
                  <a:pt x="752" y="250"/>
                  <a:pt x="752" y="250"/>
                  <a:pt x="752" y="250"/>
                </a:cubicBezTo>
                <a:cubicBezTo>
                  <a:pt x="753" y="249"/>
                  <a:pt x="753" y="249"/>
                  <a:pt x="753" y="249"/>
                </a:cubicBezTo>
                <a:cubicBezTo>
                  <a:pt x="754" y="248"/>
                  <a:pt x="754" y="248"/>
                  <a:pt x="754" y="248"/>
                </a:cubicBezTo>
                <a:cubicBezTo>
                  <a:pt x="754" y="247"/>
                  <a:pt x="754" y="247"/>
                  <a:pt x="754" y="247"/>
                </a:cubicBezTo>
                <a:cubicBezTo>
                  <a:pt x="754" y="247"/>
                  <a:pt x="754" y="247"/>
                  <a:pt x="754" y="247"/>
                </a:cubicBezTo>
                <a:cubicBezTo>
                  <a:pt x="754" y="246"/>
                  <a:pt x="754" y="246"/>
                  <a:pt x="754" y="246"/>
                </a:cubicBezTo>
                <a:cubicBezTo>
                  <a:pt x="755" y="246"/>
                  <a:pt x="755" y="246"/>
                  <a:pt x="755" y="246"/>
                </a:cubicBezTo>
                <a:cubicBezTo>
                  <a:pt x="755" y="245"/>
                  <a:pt x="755" y="245"/>
                  <a:pt x="755" y="244"/>
                </a:cubicBezTo>
                <a:cubicBezTo>
                  <a:pt x="757" y="235"/>
                  <a:pt x="762" y="226"/>
                  <a:pt x="769" y="218"/>
                </a:cubicBezTo>
                <a:cubicBezTo>
                  <a:pt x="773" y="214"/>
                  <a:pt x="778" y="210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9" y="205"/>
                  <a:pt x="794" y="204"/>
                  <a:pt x="798" y="203"/>
                </a:cubicBezTo>
                <a:cubicBezTo>
                  <a:pt x="808" y="199"/>
                  <a:pt x="818" y="193"/>
                  <a:pt x="827" y="185"/>
                </a:cubicBezTo>
                <a:cubicBezTo>
                  <a:pt x="843" y="169"/>
                  <a:pt x="851" y="147"/>
                  <a:pt x="851" y="126"/>
                </a:cubicBezTo>
                <a:cubicBezTo>
                  <a:pt x="851" y="105"/>
                  <a:pt x="843" y="84"/>
                  <a:pt x="827" y="68"/>
                </a:cubicBezTo>
                <a:cubicBezTo>
                  <a:pt x="810" y="51"/>
                  <a:pt x="789" y="43"/>
                  <a:pt x="768" y="43"/>
                </a:cubicBezTo>
                <a:cubicBezTo>
                  <a:pt x="747" y="43"/>
                  <a:pt x="726" y="51"/>
                  <a:pt x="709" y="68"/>
                </a:cubicBezTo>
                <a:cubicBezTo>
                  <a:pt x="700" y="77"/>
                  <a:pt x="694" y="88"/>
                  <a:pt x="690" y="99"/>
                </a:cubicBezTo>
                <a:cubicBezTo>
                  <a:pt x="689" y="101"/>
                  <a:pt x="688" y="104"/>
                  <a:pt x="687" y="106"/>
                </a:cubicBezTo>
                <a:cubicBezTo>
                  <a:pt x="685" y="113"/>
                  <a:pt x="681" y="119"/>
                  <a:pt x="676" y="125"/>
                </a:cubicBezTo>
                <a:cubicBezTo>
                  <a:pt x="676" y="125"/>
                  <a:pt x="676" y="125"/>
                  <a:pt x="676" y="125"/>
                </a:cubicBezTo>
                <a:cubicBezTo>
                  <a:pt x="668" y="132"/>
                  <a:pt x="658" y="137"/>
                  <a:pt x="648" y="139"/>
                </a:cubicBezTo>
                <a:cubicBezTo>
                  <a:pt x="647" y="139"/>
                  <a:pt x="646" y="140"/>
                  <a:pt x="645" y="140"/>
                </a:cubicBezTo>
                <a:cubicBezTo>
                  <a:pt x="644" y="140"/>
                  <a:pt x="644" y="140"/>
                  <a:pt x="644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2" y="140"/>
                  <a:pt x="641" y="140"/>
                  <a:pt x="640" y="140"/>
                </a:cubicBezTo>
                <a:cubicBezTo>
                  <a:pt x="639" y="140"/>
                  <a:pt x="639" y="140"/>
                  <a:pt x="639" y="140"/>
                </a:cubicBezTo>
                <a:cubicBezTo>
                  <a:pt x="638" y="140"/>
                  <a:pt x="638" y="140"/>
                  <a:pt x="638" y="140"/>
                </a:cubicBezTo>
                <a:cubicBezTo>
                  <a:pt x="638" y="140"/>
                  <a:pt x="638" y="140"/>
                  <a:pt x="638" y="140"/>
                </a:cubicBezTo>
                <a:cubicBezTo>
                  <a:pt x="636" y="140"/>
                  <a:pt x="634" y="139"/>
                  <a:pt x="633" y="138"/>
                </a:cubicBezTo>
                <a:cubicBezTo>
                  <a:pt x="492" y="0"/>
                  <a:pt x="492" y="0"/>
                  <a:pt x="492" y="0"/>
                </a:cubicBezTo>
                <a:cubicBezTo>
                  <a:pt x="355" y="131"/>
                  <a:pt x="172" y="198"/>
                  <a:pt x="0" y="199"/>
                </a:cubicBezTo>
                <a:cubicBezTo>
                  <a:pt x="0" y="390"/>
                  <a:pt x="0" y="390"/>
                  <a:pt x="0" y="390"/>
                </a:cubicBezTo>
                <a:cubicBezTo>
                  <a:pt x="9" y="394"/>
                  <a:pt x="14" y="396"/>
                  <a:pt x="21" y="396"/>
                </a:cubicBezTo>
                <a:cubicBezTo>
                  <a:pt x="26" y="396"/>
                  <a:pt x="32" y="395"/>
                  <a:pt x="36" y="394"/>
                </a:cubicBezTo>
                <a:cubicBezTo>
                  <a:pt x="38" y="393"/>
                  <a:pt x="40" y="392"/>
                  <a:pt x="42" y="391"/>
                </a:cubicBezTo>
                <a:cubicBezTo>
                  <a:pt x="42" y="391"/>
                  <a:pt x="42" y="391"/>
                  <a:pt x="42" y="391"/>
                </a:cubicBezTo>
                <a:cubicBezTo>
                  <a:pt x="43" y="391"/>
                  <a:pt x="43" y="391"/>
                  <a:pt x="43" y="391"/>
                </a:cubicBezTo>
                <a:cubicBezTo>
                  <a:pt x="43" y="390"/>
                  <a:pt x="43" y="390"/>
                  <a:pt x="43" y="390"/>
                </a:cubicBezTo>
                <a:cubicBezTo>
                  <a:pt x="57" y="384"/>
                  <a:pt x="72" y="380"/>
                  <a:pt x="88" y="380"/>
                </a:cubicBezTo>
                <a:cubicBezTo>
                  <a:pt x="117" y="380"/>
                  <a:pt x="142" y="392"/>
                  <a:pt x="161" y="411"/>
                </a:cubicBezTo>
                <a:cubicBezTo>
                  <a:pt x="162" y="412"/>
                  <a:pt x="162" y="412"/>
                  <a:pt x="163" y="413"/>
                </a:cubicBezTo>
                <a:cubicBezTo>
                  <a:pt x="181" y="430"/>
                  <a:pt x="192" y="455"/>
                  <a:pt x="192" y="482"/>
                </a:cubicBezTo>
                <a:cubicBezTo>
                  <a:pt x="192" y="506"/>
                  <a:pt x="183" y="528"/>
                  <a:pt x="169" y="545"/>
                </a:cubicBezTo>
                <a:cubicBezTo>
                  <a:pt x="150" y="569"/>
                  <a:pt x="121" y="585"/>
                  <a:pt x="88" y="585"/>
                </a:cubicBezTo>
                <a:cubicBezTo>
                  <a:pt x="73" y="585"/>
                  <a:pt x="59" y="581"/>
                  <a:pt x="46" y="576"/>
                </a:cubicBezTo>
                <a:cubicBezTo>
                  <a:pt x="46" y="576"/>
                  <a:pt x="46" y="575"/>
                  <a:pt x="46" y="575"/>
                </a:cubicBezTo>
                <a:cubicBezTo>
                  <a:pt x="45" y="575"/>
                  <a:pt x="45" y="575"/>
                  <a:pt x="45" y="575"/>
                </a:cubicBezTo>
                <a:cubicBezTo>
                  <a:pt x="41" y="573"/>
                  <a:pt x="38" y="571"/>
                  <a:pt x="35" y="569"/>
                </a:cubicBezTo>
                <a:cubicBezTo>
                  <a:pt x="31" y="568"/>
                  <a:pt x="25" y="567"/>
                  <a:pt x="21" y="567"/>
                </a:cubicBezTo>
                <a:cubicBezTo>
                  <a:pt x="14" y="567"/>
                  <a:pt x="9" y="570"/>
                  <a:pt x="0" y="574"/>
                </a:cubicBezTo>
                <a:cubicBezTo>
                  <a:pt x="0" y="765"/>
                  <a:pt x="0" y="765"/>
                  <a:pt x="0" y="765"/>
                </a:cubicBezTo>
                <a:cubicBezTo>
                  <a:pt x="323" y="764"/>
                  <a:pt x="645" y="642"/>
                  <a:pt x="892" y="400"/>
                </a:cubicBezTo>
                <a:cubicBezTo>
                  <a:pt x="754" y="261"/>
                  <a:pt x="754" y="261"/>
                  <a:pt x="754" y="261"/>
                </a:cubicBezTo>
                <a:cubicBezTo>
                  <a:pt x="753" y="260"/>
                  <a:pt x="753" y="258"/>
                  <a:pt x="753" y="25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120"/>
          <p:cNvSpPr/>
          <p:nvPr/>
        </p:nvSpPr>
        <p:spPr>
          <a:xfrm>
            <a:off x="6524640" y="5046840"/>
            <a:ext cx="406440" cy="349200"/>
          </a:xfrm>
          <a:custGeom>
            <a:avLst/>
            <a:gdLst/>
            <a:ahLst/>
            <a:rect l="l" t="t" r="r" b="b"/>
            <a:pathLst>
              <a:path w="117" h="101">
                <a:moveTo>
                  <a:pt x="95" y="7"/>
                </a:moveTo>
                <a:cubicBezTo>
                  <a:pt x="95" y="14"/>
                  <a:pt x="95" y="14"/>
                  <a:pt x="95" y="14"/>
                </a:cubicBezTo>
                <a:cubicBezTo>
                  <a:pt x="15" y="36"/>
                  <a:pt x="15" y="36"/>
                  <a:pt x="15" y="36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72"/>
                  <a:pt x="0" y="72"/>
                  <a:pt x="0" y="72"/>
                </a:cubicBezTo>
                <a:cubicBezTo>
                  <a:pt x="15" y="65"/>
                  <a:pt x="15" y="65"/>
                  <a:pt x="15" y="65"/>
                </a:cubicBezTo>
                <a:cubicBezTo>
                  <a:pt x="24" y="67"/>
                  <a:pt x="24" y="67"/>
                  <a:pt x="24" y="67"/>
                </a:cubicBezTo>
                <a:cubicBezTo>
                  <a:pt x="21" y="76"/>
                  <a:pt x="21" y="76"/>
                  <a:pt x="21" y="76"/>
                </a:cubicBezTo>
                <a:cubicBezTo>
                  <a:pt x="20" y="82"/>
                  <a:pt x="23" y="88"/>
                  <a:pt x="29" y="89"/>
                </a:cubicBezTo>
                <a:cubicBezTo>
                  <a:pt x="50" y="95"/>
                  <a:pt x="50" y="95"/>
                  <a:pt x="50" y="95"/>
                </a:cubicBezTo>
                <a:cubicBezTo>
                  <a:pt x="51" y="95"/>
                  <a:pt x="52" y="95"/>
                  <a:pt x="53" y="95"/>
                </a:cubicBezTo>
                <a:cubicBezTo>
                  <a:pt x="58" y="95"/>
                  <a:pt x="62" y="92"/>
                  <a:pt x="64" y="87"/>
                </a:cubicBezTo>
                <a:cubicBezTo>
                  <a:pt x="66" y="78"/>
                  <a:pt x="66" y="78"/>
                  <a:pt x="66" y="78"/>
                </a:cubicBezTo>
                <a:cubicBezTo>
                  <a:pt x="95" y="86"/>
                  <a:pt x="95" y="86"/>
                  <a:pt x="95" y="86"/>
                </a:cubicBezTo>
                <a:cubicBezTo>
                  <a:pt x="95" y="94"/>
                  <a:pt x="95" y="94"/>
                  <a:pt x="95" y="94"/>
                </a:cubicBezTo>
                <a:cubicBezTo>
                  <a:pt x="117" y="101"/>
                  <a:pt x="117" y="101"/>
                  <a:pt x="117" y="101"/>
                </a:cubicBezTo>
                <a:cubicBezTo>
                  <a:pt x="117" y="0"/>
                  <a:pt x="117" y="0"/>
                  <a:pt x="117" y="0"/>
                </a:cubicBezTo>
                <a:lnTo>
                  <a:pt x="95" y="7"/>
                </a:lnTo>
                <a:close/>
                <a:moveTo>
                  <a:pt x="57" y="85"/>
                </a:moveTo>
                <a:cubicBezTo>
                  <a:pt x="56" y="87"/>
                  <a:pt x="54" y="88"/>
                  <a:pt x="52" y="88"/>
                </a:cubicBezTo>
                <a:cubicBezTo>
                  <a:pt x="31" y="82"/>
                  <a:pt x="31" y="82"/>
                  <a:pt x="31" y="82"/>
                </a:cubicBezTo>
                <a:cubicBezTo>
                  <a:pt x="29" y="82"/>
                  <a:pt x="28" y="80"/>
                  <a:pt x="28" y="78"/>
                </a:cubicBezTo>
                <a:cubicBezTo>
                  <a:pt x="31" y="69"/>
                  <a:pt x="31" y="69"/>
                  <a:pt x="31" y="69"/>
                </a:cubicBezTo>
                <a:cubicBezTo>
                  <a:pt x="59" y="77"/>
                  <a:pt x="59" y="77"/>
                  <a:pt x="59" y="77"/>
                </a:cubicBezTo>
                <a:lnTo>
                  <a:pt x="57" y="85"/>
                </a:lnTo>
                <a:close/>
                <a:moveTo>
                  <a:pt x="95" y="50"/>
                </a:moveTo>
                <a:cubicBezTo>
                  <a:pt x="15" y="50"/>
                  <a:pt x="15" y="50"/>
                  <a:pt x="15" y="50"/>
                </a:cubicBezTo>
                <a:cubicBezTo>
                  <a:pt x="15" y="43"/>
                  <a:pt x="15" y="43"/>
                  <a:pt x="15" y="43"/>
                </a:cubicBezTo>
                <a:cubicBezTo>
                  <a:pt x="95" y="21"/>
                  <a:pt x="95" y="21"/>
                  <a:pt x="95" y="21"/>
                </a:cubicBezTo>
                <a:lnTo>
                  <a:pt x="95" y="50"/>
                </a:lnTo>
                <a:close/>
                <a:moveTo>
                  <a:pt x="109" y="50"/>
                </a:moveTo>
                <a:cubicBezTo>
                  <a:pt x="102" y="50"/>
                  <a:pt x="102" y="50"/>
                  <a:pt x="102" y="50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9" y="14"/>
                  <a:pt x="109" y="14"/>
                  <a:pt x="109" y="14"/>
                </a:cubicBezTo>
                <a:lnTo>
                  <a:pt x="10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25"/>
          <p:cNvSpPr/>
          <p:nvPr/>
        </p:nvSpPr>
        <p:spPr>
          <a:xfrm>
            <a:off x="4203720" y="2608200"/>
            <a:ext cx="1135080" cy="1579680"/>
          </a:xfrm>
          <a:custGeom>
            <a:avLst/>
            <a:gdLst/>
            <a:ahLst/>
            <a:rect l="l" t="t" r="r" b="b"/>
            <a:pathLst>
              <a:path w="771" h="1074">
                <a:moveTo>
                  <a:pt x="202" y="890"/>
                </a:moveTo>
                <a:cubicBezTo>
                  <a:pt x="202" y="891"/>
                  <a:pt x="202" y="891"/>
                  <a:pt x="202" y="891"/>
                </a:cubicBezTo>
                <a:cubicBezTo>
                  <a:pt x="202" y="891"/>
                  <a:pt x="202" y="891"/>
                  <a:pt x="202" y="891"/>
                </a:cubicBezTo>
                <a:cubicBezTo>
                  <a:pt x="201" y="892"/>
                  <a:pt x="201" y="892"/>
                  <a:pt x="201" y="892"/>
                </a:cubicBezTo>
                <a:cubicBezTo>
                  <a:pt x="201" y="892"/>
                  <a:pt x="201" y="892"/>
                  <a:pt x="201" y="892"/>
                </a:cubicBezTo>
                <a:cubicBezTo>
                  <a:pt x="201" y="892"/>
                  <a:pt x="204" y="893"/>
                  <a:pt x="204" y="894"/>
                </a:cubicBezTo>
                <a:cubicBezTo>
                  <a:pt x="205" y="894"/>
                  <a:pt x="205" y="894"/>
                  <a:pt x="205" y="894"/>
                </a:cubicBezTo>
                <a:cubicBezTo>
                  <a:pt x="206" y="895"/>
                  <a:pt x="206" y="895"/>
                  <a:pt x="206" y="895"/>
                </a:cubicBezTo>
                <a:cubicBezTo>
                  <a:pt x="207" y="896"/>
                  <a:pt x="207" y="896"/>
                  <a:pt x="207" y="896"/>
                </a:cubicBezTo>
                <a:cubicBezTo>
                  <a:pt x="207" y="897"/>
                  <a:pt x="207" y="897"/>
                  <a:pt x="207" y="897"/>
                </a:cubicBezTo>
                <a:cubicBezTo>
                  <a:pt x="207" y="897"/>
                  <a:pt x="207" y="897"/>
                  <a:pt x="207" y="897"/>
                </a:cubicBezTo>
                <a:cubicBezTo>
                  <a:pt x="208" y="898"/>
                  <a:pt x="208" y="898"/>
                  <a:pt x="208" y="898"/>
                </a:cubicBezTo>
                <a:cubicBezTo>
                  <a:pt x="208" y="898"/>
                  <a:pt x="208" y="898"/>
                  <a:pt x="208" y="898"/>
                </a:cubicBezTo>
                <a:cubicBezTo>
                  <a:pt x="208" y="899"/>
                  <a:pt x="208" y="899"/>
                  <a:pt x="209" y="899"/>
                </a:cubicBezTo>
                <a:cubicBezTo>
                  <a:pt x="214" y="908"/>
                  <a:pt x="217" y="917"/>
                  <a:pt x="217" y="928"/>
                </a:cubicBezTo>
                <a:cubicBezTo>
                  <a:pt x="217" y="934"/>
                  <a:pt x="216" y="940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2" y="951"/>
                  <a:pt x="210" y="955"/>
                  <a:pt x="207" y="959"/>
                </a:cubicBezTo>
                <a:cubicBezTo>
                  <a:pt x="203" y="969"/>
                  <a:pt x="200" y="980"/>
                  <a:pt x="200" y="992"/>
                </a:cubicBezTo>
                <a:cubicBezTo>
                  <a:pt x="200" y="1015"/>
                  <a:pt x="209" y="1036"/>
                  <a:pt x="224" y="1051"/>
                </a:cubicBezTo>
                <a:cubicBezTo>
                  <a:pt x="226" y="1052"/>
                  <a:pt x="228" y="1054"/>
                  <a:pt x="230" y="1055"/>
                </a:cubicBezTo>
                <a:cubicBezTo>
                  <a:pt x="244" y="1067"/>
                  <a:pt x="263" y="1074"/>
                  <a:pt x="283" y="1074"/>
                </a:cubicBezTo>
                <a:cubicBezTo>
                  <a:pt x="306" y="1074"/>
                  <a:pt x="328" y="1064"/>
                  <a:pt x="343" y="1049"/>
                </a:cubicBezTo>
                <a:cubicBezTo>
                  <a:pt x="357" y="1034"/>
                  <a:pt x="366" y="1014"/>
                  <a:pt x="366" y="992"/>
                </a:cubicBezTo>
                <a:cubicBezTo>
                  <a:pt x="366" y="979"/>
                  <a:pt x="363" y="967"/>
                  <a:pt x="358" y="956"/>
                </a:cubicBezTo>
                <a:cubicBezTo>
                  <a:pt x="356" y="954"/>
                  <a:pt x="357" y="952"/>
                  <a:pt x="356" y="949"/>
                </a:cubicBezTo>
                <a:cubicBezTo>
                  <a:pt x="353" y="943"/>
                  <a:pt x="353" y="935"/>
                  <a:pt x="353" y="928"/>
                </a:cubicBezTo>
                <a:cubicBezTo>
                  <a:pt x="353" y="928"/>
                  <a:pt x="353" y="928"/>
                  <a:pt x="353" y="928"/>
                </a:cubicBezTo>
                <a:cubicBezTo>
                  <a:pt x="353" y="917"/>
                  <a:pt x="355" y="907"/>
                  <a:pt x="361" y="898"/>
                </a:cubicBezTo>
                <a:cubicBezTo>
                  <a:pt x="361" y="897"/>
                  <a:pt x="361" y="896"/>
                  <a:pt x="361" y="895"/>
                </a:cubicBezTo>
                <a:cubicBezTo>
                  <a:pt x="361" y="894"/>
                  <a:pt x="361" y="894"/>
                  <a:pt x="361" y="894"/>
                </a:cubicBezTo>
                <a:cubicBezTo>
                  <a:pt x="362" y="892"/>
                  <a:pt x="362" y="892"/>
                  <a:pt x="362" y="892"/>
                </a:cubicBezTo>
                <a:cubicBezTo>
                  <a:pt x="362" y="892"/>
                  <a:pt x="362" y="892"/>
                  <a:pt x="362" y="892"/>
                </a:cubicBezTo>
                <a:cubicBezTo>
                  <a:pt x="362" y="893"/>
                  <a:pt x="362" y="893"/>
                  <a:pt x="362" y="893"/>
                </a:cubicBezTo>
                <a:cubicBezTo>
                  <a:pt x="362" y="893"/>
                  <a:pt x="362" y="893"/>
                  <a:pt x="362" y="893"/>
                </a:cubicBezTo>
                <a:cubicBezTo>
                  <a:pt x="362" y="892"/>
                  <a:pt x="363" y="892"/>
                  <a:pt x="364" y="891"/>
                </a:cubicBezTo>
                <a:cubicBezTo>
                  <a:pt x="364" y="890"/>
                  <a:pt x="364" y="890"/>
                  <a:pt x="364" y="890"/>
                </a:cubicBezTo>
                <a:cubicBezTo>
                  <a:pt x="365" y="890"/>
                  <a:pt x="365" y="890"/>
                  <a:pt x="365" y="890"/>
                </a:cubicBezTo>
                <a:cubicBezTo>
                  <a:pt x="365" y="890"/>
                  <a:pt x="365" y="890"/>
                  <a:pt x="365" y="890"/>
                </a:cubicBezTo>
                <a:cubicBezTo>
                  <a:pt x="366" y="889"/>
                  <a:pt x="368" y="888"/>
                  <a:pt x="369" y="888"/>
                </a:cubicBezTo>
                <a:cubicBezTo>
                  <a:pt x="369" y="888"/>
                  <a:pt x="369" y="888"/>
                  <a:pt x="369" y="888"/>
                </a:cubicBezTo>
                <a:cubicBezTo>
                  <a:pt x="370" y="888"/>
                  <a:pt x="370" y="888"/>
                  <a:pt x="370" y="888"/>
                </a:cubicBezTo>
                <a:cubicBezTo>
                  <a:pt x="371" y="888"/>
                  <a:pt x="371" y="888"/>
                  <a:pt x="371" y="888"/>
                </a:cubicBezTo>
                <a:cubicBezTo>
                  <a:pt x="566" y="888"/>
                  <a:pt x="566" y="888"/>
                  <a:pt x="566" y="888"/>
                </a:cubicBezTo>
                <a:cubicBezTo>
                  <a:pt x="570" y="704"/>
                  <a:pt x="647" y="526"/>
                  <a:pt x="771" y="401"/>
                </a:cubicBezTo>
                <a:cubicBezTo>
                  <a:pt x="635" y="264"/>
                  <a:pt x="635" y="264"/>
                  <a:pt x="635" y="264"/>
                </a:cubicBezTo>
                <a:cubicBezTo>
                  <a:pt x="628" y="266"/>
                  <a:pt x="624" y="269"/>
                  <a:pt x="619" y="274"/>
                </a:cubicBezTo>
                <a:cubicBezTo>
                  <a:pt x="615" y="277"/>
                  <a:pt x="613" y="281"/>
                  <a:pt x="613" y="285"/>
                </a:cubicBezTo>
                <a:cubicBezTo>
                  <a:pt x="613" y="280"/>
                  <a:pt x="613" y="280"/>
                  <a:pt x="613" y="280"/>
                </a:cubicBezTo>
                <a:cubicBezTo>
                  <a:pt x="610" y="280"/>
                  <a:pt x="610" y="280"/>
                  <a:pt x="610" y="280"/>
                </a:cubicBezTo>
                <a:cubicBezTo>
                  <a:pt x="610" y="280"/>
                  <a:pt x="610" y="280"/>
                  <a:pt x="610" y="280"/>
                </a:cubicBezTo>
                <a:cubicBezTo>
                  <a:pt x="609" y="280"/>
                  <a:pt x="608" y="286"/>
                  <a:pt x="608" y="288"/>
                </a:cubicBezTo>
                <a:cubicBezTo>
                  <a:pt x="608" y="290"/>
                  <a:pt x="608" y="290"/>
                  <a:pt x="608" y="290"/>
                </a:cubicBezTo>
                <a:cubicBezTo>
                  <a:pt x="608" y="291"/>
                  <a:pt x="608" y="291"/>
                  <a:pt x="608" y="291"/>
                </a:cubicBezTo>
                <a:cubicBezTo>
                  <a:pt x="608" y="291"/>
                  <a:pt x="608" y="291"/>
                  <a:pt x="608" y="291"/>
                </a:cubicBezTo>
                <a:cubicBezTo>
                  <a:pt x="603" y="306"/>
                  <a:pt x="594" y="319"/>
                  <a:pt x="583" y="330"/>
                </a:cubicBezTo>
                <a:cubicBezTo>
                  <a:pt x="564" y="350"/>
                  <a:pt x="538" y="360"/>
                  <a:pt x="512" y="360"/>
                </a:cubicBezTo>
                <a:cubicBezTo>
                  <a:pt x="486" y="361"/>
                  <a:pt x="459" y="351"/>
                  <a:pt x="439" y="331"/>
                </a:cubicBezTo>
                <a:cubicBezTo>
                  <a:pt x="418" y="310"/>
                  <a:pt x="409" y="284"/>
                  <a:pt x="409" y="258"/>
                </a:cubicBezTo>
                <a:cubicBezTo>
                  <a:pt x="409" y="232"/>
                  <a:pt x="419" y="206"/>
                  <a:pt x="439" y="186"/>
                </a:cubicBezTo>
                <a:cubicBezTo>
                  <a:pt x="449" y="176"/>
                  <a:pt x="461" y="168"/>
                  <a:pt x="474" y="163"/>
                </a:cubicBezTo>
                <a:cubicBezTo>
                  <a:pt x="475" y="163"/>
                  <a:pt x="475" y="163"/>
                  <a:pt x="475" y="163"/>
                </a:cubicBezTo>
                <a:cubicBezTo>
                  <a:pt x="475" y="163"/>
                  <a:pt x="475" y="163"/>
                  <a:pt x="476" y="163"/>
                </a:cubicBezTo>
                <a:cubicBezTo>
                  <a:pt x="480" y="162"/>
                  <a:pt x="483" y="161"/>
                  <a:pt x="487" y="159"/>
                </a:cubicBezTo>
                <a:cubicBezTo>
                  <a:pt x="490" y="158"/>
                  <a:pt x="493" y="155"/>
                  <a:pt x="496" y="153"/>
                </a:cubicBezTo>
                <a:cubicBezTo>
                  <a:pt x="501" y="148"/>
                  <a:pt x="504" y="141"/>
                  <a:pt x="505" y="135"/>
                </a:cubicBezTo>
                <a:cubicBezTo>
                  <a:pt x="371" y="0"/>
                  <a:pt x="371" y="0"/>
                  <a:pt x="371" y="0"/>
                </a:cubicBezTo>
                <a:cubicBezTo>
                  <a:pt x="144" y="229"/>
                  <a:pt x="4" y="544"/>
                  <a:pt x="0" y="888"/>
                </a:cubicBezTo>
                <a:cubicBezTo>
                  <a:pt x="195" y="888"/>
                  <a:pt x="195" y="888"/>
                  <a:pt x="195" y="888"/>
                </a:cubicBezTo>
                <a:cubicBezTo>
                  <a:pt x="196" y="888"/>
                  <a:pt x="196" y="888"/>
                  <a:pt x="196" y="888"/>
                </a:cubicBezTo>
                <a:cubicBezTo>
                  <a:pt x="198" y="888"/>
                  <a:pt x="200" y="889"/>
                  <a:pt x="202" y="89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145"/>
          <p:cNvSpPr/>
          <p:nvPr/>
        </p:nvSpPr>
        <p:spPr>
          <a:xfrm>
            <a:off x="4487760" y="3281400"/>
            <a:ext cx="459000" cy="395280"/>
          </a:xfrm>
          <a:custGeom>
            <a:avLst/>
            <a:gdLst/>
            <a:ahLst/>
            <a:rect l="l" t="t" r="r" b="b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26"/>
          <p:cNvSpPr/>
          <p:nvPr/>
        </p:nvSpPr>
        <p:spPr>
          <a:xfrm>
            <a:off x="4203720" y="3936960"/>
            <a:ext cx="1128600" cy="1311480"/>
          </a:xfrm>
          <a:custGeom>
            <a:avLst/>
            <a:gdLst/>
            <a:ahLst/>
            <a:rect l="l" t="t" r="r" b="b"/>
            <a:pathLst>
              <a:path w="766" h="891">
                <a:moveTo>
                  <a:pt x="511" y="748"/>
                </a:moveTo>
                <a:cubicBezTo>
                  <a:pt x="511" y="748"/>
                  <a:pt x="511" y="748"/>
                  <a:pt x="511" y="748"/>
                </a:cubicBezTo>
                <a:cubicBezTo>
                  <a:pt x="512" y="750"/>
                  <a:pt x="512" y="750"/>
                  <a:pt x="512" y="750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49"/>
                  <a:pt x="513" y="749"/>
                  <a:pt x="513" y="749"/>
                </a:cubicBezTo>
                <a:cubicBezTo>
                  <a:pt x="513" y="749"/>
                  <a:pt x="515" y="749"/>
                  <a:pt x="516" y="749"/>
                </a:cubicBezTo>
                <a:cubicBezTo>
                  <a:pt x="516" y="749"/>
                  <a:pt x="516" y="749"/>
                  <a:pt x="516" y="749"/>
                </a:cubicBezTo>
                <a:cubicBezTo>
                  <a:pt x="518" y="750"/>
                  <a:pt x="518" y="750"/>
                  <a:pt x="518" y="750"/>
                </a:cubicBezTo>
                <a:cubicBezTo>
                  <a:pt x="518" y="750"/>
                  <a:pt x="518" y="750"/>
                  <a:pt x="518" y="750"/>
                </a:cubicBezTo>
                <a:cubicBezTo>
                  <a:pt x="519" y="750"/>
                  <a:pt x="519" y="750"/>
                  <a:pt x="519" y="750"/>
                </a:cubicBezTo>
                <a:cubicBezTo>
                  <a:pt x="519" y="750"/>
                  <a:pt x="520" y="750"/>
                  <a:pt x="520" y="750"/>
                </a:cubicBezTo>
                <a:cubicBezTo>
                  <a:pt x="520" y="751"/>
                  <a:pt x="520" y="751"/>
                  <a:pt x="520" y="751"/>
                </a:cubicBezTo>
                <a:cubicBezTo>
                  <a:pt x="520" y="751"/>
                  <a:pt x="520" y="751"/>
                  <a:pt x="520" y="751"/>
                </a:cubicBezTo>
                <a:cubicBezTo>
                  <a:pt x="521" y="751"/>
                  <a:pt x="521" y="751"/>
                  <a:pt x="522" y="751"/>
                </a:cubicBezTo>
                <a:cubicBezTo>
                  <a:pt x="531" y="753"/>
                  <a:pt x="541" y="758"/>
                  <a:pt x="548" y="765"/>
                </a:cubicBezTo>
                <a:cubicBezTo>
                  <a:pt x="552" y="769"/>
                  <a:pt x="556" y="774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61" y="785"/>
                  <a:pt x="562" y="790"/>
                  <a:pt x="563" y="794"/>
                </a:cubicBezTo>
                <a:cubicBezTo>
                  <a:pt x="567" y="804"/>
                  <a:pt x="573" y="814"/>
                  <a:pt x="582" y="822"/>
                </a:cubicBezTo>
                <a:cubicBezTo>
                  <a:pt x="598" y="839"/>
                  <a:pt x="619" y="847"/>
                  <a:pt x="640" y="847"/>
                </a:cubicBezTo>
                <a:cubicBezTo>
                  <a:pt x="645" y="847"/>
                  <a:pt x="651" y="846"/>
                  <a:pt x="656" y="845"/>
                </a:cubicBezTo>
                <a:cubicBezTo>
                  <a:pt x="671" y="842"/>
                  <a:pt x="685" y="834"/>
                  <a:pt x="697" y="822"/>
                </a:cubicBezTo>
                <a:cubicBezTo>
                  <a:pt x="714" y="805"/>
                  <a:pt x="722" y="783"/>
                  <a:pt x="722" y="760"/>
                </a:cubicBezTo>
                <a:cubicBezTo>
                  <a:pt x="722" y="757"/>
                  <a:pt x="722" y="755"/>
                  <a:pt x="722" y="752"/>
                </a:cubicBezTo>
                <a:cubicBezTo>
                  <a:pt x="720" y="735"/>
                  <a:pt x="712" y="719"/>
                  <a:pt x="699" y="705"/>
                </a:cubicBezTo>
                <a:cubicBezTo>
                  <a:pt x="690" y="696"/>
                  <a:pt x="679" y="690"/>
                  <a:pt x="667" y="686"/>
                </a:cubicBezTo>
                <a:cubicBezTo>
                  <a:pt x="665" y="685"/>
                  <a:pt x="662" y="684"/>
                  <a:pt x="660" y="683"/>
                </a:cubicBezTo>
                <a:cubicBezTo>
                  <a:pt x="653" y="681"/>
                  <a:pt x="647" y="677"/>
                  <a:pt x="642" y="671"/>
                </a:cubicBezTo>
                <a:cubicBezTo>
                  <a:pt x="642" y="671"/>
                  <a:pt x="642" y="671"/>
                  <a:pt x="642" y="671"/>
                </a:cubicBezTo>
                <a:cubicBezTo>
                  <a:pt x="634" y="664"/>
                  <a:pt x="629" y="654"/>
                  <a:pt x="627" y="644"/>
                </a:cubicBezTo>
                <a:cubicBezTo>
                  <a:pt x="627" y="643"/>
                  <a:pt x="626" y="642"/>
                  <a:pt x="626" y="641"/>
                </a:cubicBezTo>
                <a:cubicBezTo>
                  <a:pt x="626" y="640"/>
                  <a:pt x="626" y="640"/>
                  <a:pt x="626" y="640"/>
                </a:cubicBezTo>
                <a:cubicBezTo>
                  <a:pt x="626" y="640"/>
                  <a:pt x="626" y="640"/>
                  <a:pt x="626" y="640"/>
                </a:cubicBezTo>
                <a:cubicBezTo>
                  <a:pt x="626" y="639"/>
                  <a:pt x="626" y="638"/>
                  <a:pt x="626" y="638"/>
                </a:cubicBezTo>
                <a:cubicBezTo>
                  <a:pt x="626" y="637"/>
                  <a:pt x="625" y="636"/>
                  <a:pt x="625" y="636"/>
                </a:cubicBezTo>
                <a:cubicBezTo>
                  <a:pt x="625" y="635"/>
                  <a:pt x="625" y="635"/>
                  <a:pt x="625" y="635"/>
                </a:cubicBezTo>
                <a:cubicBezTo>
                  <a:pt x="625" y="635"/>
                  <a:pt x="625" y="635"/>
                  <a:pt x="625" y="635"/>
                </a:cubicBezTo>
                <a:cubicBezTo>
                  <a:pt x="625" y="633"/>
                  <a:pt x="626" y="632"/>
                  <a:pt x="626" y="631"/>
                </a:cubicBezTo>
                <a:cubicBezTo>
                  <a:pt x="626" y="631"/>
                  <a:pt x="626" y="631"/>
                  <a:pt x="627" y="631"/>
                </a:cubicBezTo>
                <a:cubicBezTo>
                  <a:pt x="627" y="630"/>
                  <a:pt x="627" y="630"/>
                  <a:pt x="628" y="629"/>
                </a:cubicBezTo>
                <a:cubicBezTo>
                  <a:pt x="628" y="629"/>
                  <a:pt x="628" y="629"/>
                  <a:pt x="628" y="629"/>
                </a:cubicBezTo>
                <a:cubicBezTo>
                  <a:pt x="766" y="491"/>
                  <a:pt x="766" y="491"/>
                  <a:pt x="766" y="491"/>
                </a:cubicBezTo>
                <a:cubicBezTo>
                  <a:pt x="634" y="354"/>
                  <a:pt x="567" y="180"/>
                  <a:pt x="566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71" y="4"/>
                  <a:pt x="369" y="12"/>
                  <a:pt x="369" y="19"/>
                </a:cubicBezTo>
                <a:cubicBezTo>
                  <a:pt x="369" y="24"/>
                  <a:pt x="369" y="28"/>
                  <a:pt x="373" y="32"/>
                </a:cubicBezTo>
                <a:cubicBezTo>
                  <a:pt x="373" y="32"/>
                  <a:pt x="373" y="32"/>
                  <a:pt x="373" y="32"/>
                </a:cubicBezTo>
                <a:cubicBezTo>
                  <a:pt x="373" y="34"/>
                  <a:pt x="374" y="35"/>
                  <a:pt x="375" y="37"/>
                </a:cubicBezTo>
                <a:cubicBezTo>
                  <a:pt x="375" y="37"/>
                  <a:pt x="375" y="37"/>
                  <a:pt x="375" y="37"/>
                </a:cubicBezTo>
                <a:cubicBezTo>
                  <a:pt x="374" y="37"/>
                  <a:pt x="374" y="37"/>
                  <a:pt x="374" y="37"/>
                </a:cubicBezTo>
                <a:cubicBezTo>
                  <a:pt x="375" y="38"/>
                  <a:pt x="375" y="38"/>
                  <a:pt x="375" y="38"/>
                </a:cubicBezTo>
                <a:cubicBezTo>
                  <a:pt x="381" y="51"/>
                  <a:pt x="385" y="67"/>
                  <a:pt x="385" y="83"/>
                </a:cubicBezTo>
                <a:cubicBezTo>
                  <a:pt x="385" y="111"/>
                  <a:pt x="373" y="137"/>
                  <a:pt x="354" y="156"/>
                </a:cubicBezTo>
                <a:cubicBezTo>
                  <a:pt x="353" y="156"/>
                  <a:pt x="353" y="157"/>
                  <a:pt x="352" y="158"/>
                </a:cubicBezTo>
                <a:cubicBezTo>
                  <a:pt x="335" y="175"/>
                  <a:pt x="310" y="186"/>
                  <a:pt x="283" y="186"/>
                </a:cubicBezTo>
                <a:cubicBezTo>
                  <a:pt x="259" y="186"/>
                  <a:pt x="237" y="178"/>
                  <a:pt x="220" y="163"/>
                </a:cubicBezTo>
                <a:cubicBezTo>
                  <a:pt x="196" y="144"/>
                  <a:pt x="180" y="115"/>
                  <a:pt x="180" y="83"/>
                </a:cubicBezTo>
                <a:cubicBezTo>
                  <a:pt x="180" y="68"/>
                  <a:pt x="184" y="54"/>
                  <a:pt x="189" y="41"/>
                </a:cubicBezTo>
                <a:cubicBezTo>
                  <a:pt x="189" y="41"/>
                  <a:pt x="190" y="41"/>
                  <a:pt x="190" y="40"/>
                </a:cubicBezTo>
                <a:cubicBezTo>
                  <a:pt x="190" y="40"/>
                  <a:pt x="190" y="40"/>
                  <a:pt x="190" y="40"/>
                </a:cubicBezTo>
                <a:cubicBezTo>
                  <a:pt x="192" y="36"/>
                  <a:pt x="194" y="33"/>
                  <a:pt x="196" y="29"/>
                </a:cubicBezTo>
                <a:cubicBezTo>
                  <a:pt x="197" y="26"/>
                  <a:pt x="197" y="23"/>
                  <a:pt x="197" y="19"/>
                </a:cubicBezTo>
                <a:cubicBezTo>
                  <a:pt x="197" y="12"/>
                  <a:pt x="195" y="4"/>
                  <a:pt x="191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324"/>
                  <a:pt x="123" y="644"/>
                  <a:pt x="366" y="891"/>
                </a:cubicBezTo>
                <a:cubicBezTo>
                  <a:pt x="505" y="751"/>
                  <a:pt x="505" y="751"/>
                  <a:pt x="505" y="751"/>
                </a:cubicBezTo>
                <a:cubicBezTo>
                  <a:pt x="507" y="750"/>
                  <a:pt x="509" y="748"/>
                  <a:pt x="511" y="748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157"/>
          <p:cNvSpPr/>
          <p:nvPr/>
        </p:nvSpPr>
        <p:spPr>
          <a:xfrm>
            <a:off x="4562640" y="4314960"/>
            <a:ext cx="382320" cy="422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3@|17FFC:16777215|FBC:16777215|LFC:16777215|LBC:16777215"/>
          <p:cNvSpPr/>
          <p:nvPr/>
        </p:nvSpPr>
        <p:spPr>
          <a:xfrm>
            <a:off x="8443800" y="459756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3@|17FFC:16777215|FBC:16777215|LFC:16777215|LBC:16777215"/>
          <p:cNvSpPr/>
          <p:nvPr/>
        </p:nvSpPr>
        <p:spPr>
          <a:xfrm>
            <a:off x="8431200" y="43228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3@|17FFC:16777215|FBC:16777215|LFC:16777215|LBC:16777215"/>
          <p:cNvSpPr/>
          <p:nvPr/>
        </p:nvSpPr>
        <p:spPr>
          <a:xfrm>
            <a:off x="7313760" y="587700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13@|17FFC:16777215|FBC:16777215|LFC:16777215|LBC:16777215"/>
          <p:cNvSpPr/>
          <p:nvPr/>
        </p:nvSpPr>
        <p:spPr>
          <a:xfrm>
            <a:off x="7300800" y="560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@|17FFC:16777215|FBC:16777215|LFC:16777215|LBC:16777215"/>
          <p:cNvSpPr/>
          <p:nvPr/>
        </p:nvSpPr>
        <p:spPr>
          <a:xfrm>
            <a:off x="8426520" y="300996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@|17FFC:16777215|FBC:16777215|LFC:16777215|LBC:16777215"/>
          <p:cNvSpPr/>
          <p:nvPr/>
        </p:nvSpPr>
        <p:spPr>
          <a:xfrm>
            <a:off x="8413920" y="27352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@|17FFC:16777215|FBC:16777215|LFC:16777215|LBC:16777215"/>
          <p:cNvSpPr/>
          <p:nvPr/>
        </p:nvSpPr>
        <p:spPr>
          <a:xfrm>
            <a:off x="7265880" y="1774800"/>
            <a:ext cx="2333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253280" y="1501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2670120" y="18129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@|17FFC:16777215|FBC:16777215|LFC:16777215|LBC:16777215"/>
          <p:cNvSpPr/>
          <p:nvPr/>
        </p:nvSpPr>
        <p:spPr>
          <a:xfrm>
            <a:off x="2657520" y="1538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@|17FFC:16777215|FBC:16777215|LFC:16777215|LBC:16777215"/>
          <p:cNvSpPr/>
          <p:nvPr/>
        </p:nvSpPr>
        <p:spPr>
          <a:xfrm>
            <a:off x="1490760" y="30099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@|17FFC:16777215|FBC:16777215|LFC:16777215|LBC:16777215"/>
          <p:cNvSpPr/>
          <p:nvPr/>
        </p:nvSpPr>
        <p:spPr>
          <a:xfrm>
            <a:off x="1477800" y="2735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@|17FFC:16777215|FBC:16777215|LFC:16777215|LBC:16777215"/>
          <p:cNvSpPr/>
          <p:nvPr/>
        </p:nvSpPr>
        <p:spPr>
          <a:xfrm>
            <a:off x="1482840" y="45975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1469880" y="4322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741760" y="587700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13@|17FFC:16777215|FBC:16777215|LFC:16777215|LBC:16777215"/>
          <p:cNvSpPr/>
          <p:nvPr/>
        </p:nvSpPr>
        <p:spPr>
          <a:xfrm>
            <a:off x="2728800" y="560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val 35"/>
          <p:cNvSpPr/>
          <p:nvPr/>
        </p:nvSpPr>
        <p:spPr>
          <a:xfrm>
            <a:off x="3079800" y="157464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39"/>
          <p:cNvSpPr/>
          <p:nvPr/>
        </p:nvSpPr>
        <p:spPr>
          <a:xfrm>
            <a:off x="1812960" y="3119400"/>
            <a:ext cx="550800" cy="5526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45"/>
          <p:cNvSpPr/>
          <p:nvPr/>
        </p:nvSpPr>
        <p:spPr>
          <a:xfrm>
            <a:off x="3079800" y="452268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3" name="Elbow Connector 47"/>
          <p:cNvCxnSpPr/>
          <p:nvPr/>
        </p:nvCxnSpPr>
        <p:spPr>
          <a:xfrm flipH="1">
            <a:off x="3776400" y="3402000"/>
            <a:ext cx="1792800" cy="139572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54" name="Elbow Connector 50"/>
          <p:cNvCxnSpPr/>
          <p:nvPr/>
        </p:nvCxnSpPr>
        <p:spPr>
          <a:xfrm flipH="1" flipV="1">
            <a:off x="2509560" y="3401640"/>
            <a:ext cx="3240720" cy="48024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355" name="Oval 53"/>
          <p:cNvSpPr/>
          <p:nvPr/>
        </p:nvSpPr>
        <p:spPr>
          <a:xfrm flipH="1">
            <a:off x="8550360" y="156528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56"/>
          <p:cNvSpPr/>
          <p:nvPr/>
        </p:nvSpPr>
        <p:spPr>
          <a:xfrm flipH="1">
            <a:off x="10009080" y="2963880"/>
            <a:ext cx="550800" cy="5526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59"/>
          <p:cNvSpPr/>
          <p:nvPr/>
        </p:nvSpPr>
        <p:spPr>
          <a:xfrm flipH="1">
            <a:off x="8578080" y="4632480"/>
            <a:ext cx="552600" cy="55224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8" name="Elbow Connector 60"/>
          <p:cNvCxnSpPr/>
          <p:nvPr/>
        </p:nvCxnSpPr>
        <p:spPr>
          <a:xfrm flipH="1" flipV="1">
            <a:off x="3760200" y="1863360"/>
            <a:ext cx="1656360" cy="110088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59" name="Elbow Connector 61"/>
          <p:cNvCxnSpPr/>
          <p:nvPr/>
        </p:nvCxnSpPr>
        <p:spPr>
          <a:xfrm>
            <a:off x="6556320" y="2953800"/>
            <a:ext cx="3270960" cy="32796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60" name="Elbow Connector 62"/>
          <p:cNvCxnSpPr/>
          <p:nvPr/>
        </p:nvCxnSpPr>
        <p:spPr>
          <a:xfrm>
            <a:off x="6889680" y="3441240"/>
            <a:ext cx="1612080" cy="150084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61" name="Elbow Connector 63"/>
          <p:cNvCxnSpPr/>
          <p:nvPr/>
        </p:nvCxnSpPr>
        <p:spPr>
          <a:xfrm flipV="1">
            <a:off x="6564240" y="1840680"/>
            <a:ext cx="1850400" cy="209484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362" name="Oval 19"/>
          <p:cNvSpPr/>
          <p:nvPr/>
        </p:nvSpPr>
        <p:spPr>
          <a:xfrm>
            <a:off x="5167440" y="2558880"/>
            <a:ext cx="1857240" cy="18511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文本框 1"/>
          <p:cNvSpPr/>
          <p:nvPr/>
        </p:nvSpPr>
        <p:spPr>
          <a:xfrm>
            <a:off x="5407200" y="3278160"/>
            <a:ext cx="13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91"/>
          <p:cNvSpPr/>
          <p:nvPr/>
        </p:nvSpPr>
        <p:spPr>
          <a:xfrm>
            <a:off x="3290760" y="1700280"/>
            <a:ext cx="130320" cy="2588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92"/>
          <p:cNvSpPr/>
          <p:nvPr/>
        </p:nvSpPr>
        <p:spPr>
          <a:xfrm>
            <a:off x="8737560" y="4791240"/>
            <a:ext cx="258840" cy="26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85" y="226"/>
                </a:moveTo>
                <a:cubicBezTo>
                  <a:pt x="104" y="226"/>
                  <a:pt x="104" y="226"/>
                  <a:pt x="104" y="226"/>
                </a:cubicBezTo>
                <a:cubicBezTo>
                  <a:pt x="124" y="139"/>
                  <a:pt x="124" y="139"/>
                  <a:pt x="124" y="139"/>
                </a:cubicBezTo>
                <a:cubicBezTo>
                  <a:pt x="112" y="132"/>
                  <a:pt x="104" y="119"/>
                  <a:pt x="104" y="104"/>
                </a:cubicBezTo>
                <a:cubicBezTo>
                  <a:pt x="104" y="81"/>
                  <a:pt x="122" y="63"/>
                  <a:pt x="145" y="63"/>
                </a:cubicBezTo>
                <a:cubicBezTo>
                  <a:pt x="167" y="63"/>
                  <a:pt x="185" y="81"/>
                  <a:pt x="185" y="104"/>
                </a:cubicBezTo>
                <a:cubicBezTo>
                  <a:pt x="185" y="119"/>
                  <a:pt x="177" y="132"/>
                  <a:pt x="165" y="139"/>
                </a:cubicBezTo>
                <a:lnTo>
                  <a:pt x="185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93"/>
          <p:cNvSpPr/>
          <p:nvPr/>
        </p:nvSpPr>
        <p:spPr>
          <a:xfrm>
            <a:off x="3259080" y="4648320"/>
            <a:ext cx="193680" cy="26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94"/>
          <p:cNvSpPr/>
          <p:nvPr/>
        </p:nvSpPr>
        <p:spPr>
          <a:xfrm>
            <a:off x="1959120" y="3257640"/>
            <a:ext cx="258480" cy="24120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112"/>
          <p:cNvSpPr/>
          <p:nvPr/>
        </p:nvSpPr>
        <p:spPr>
          <a:xfrm>
            <a:off x="10155240" y="3117960"/>
            <a:ext cx="258840" cy="26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113"/>
          <p:cNvSpPr/>
          <p:nvPr/>
        </p:nvSpPr>
        <p:spPr>
          <a:xfrm>
            <a:off x="8739360" y="1709640"/>
            <a:ext cx="172800" cy="26028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2359080" y="2246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2635200" y="253224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1149480" y="3832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3"/>
          <p:cNvSpPr/>
          <p:nvPr/>
        </p:nvSpPr>
        <p:spPr>
          <a:xfrm>
            <a:off x="1424160" y="4118040"/>
            <a:ext cx="140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2444760" y="5184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2719440" y="547056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7873920" y="2255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8150400" y="2541600"/>
            <a:ext cx="140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9682200" y="36543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9682200" y="394020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7935840" y="531504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8211960" y="560088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7"/>
          <p:cNvSpPr/>
          <p:nvPr/>
        </p:nvSpPr>
        <p:spPr>
          <a:xfrm>
            <a:off x="4371840" y="1020600"/>
            <a:ext cx="3448080" cy="3148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10"/>
          <p:cNvSpPr/>
          <p:nvPr/>
        </p:nvSpPr>
        <p:spPr>
          <a:xfrm>
            <a:off x="4983120" y="2060640"/>
            <a:ext cx="24210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500800" y="16365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12"/>
          <p:cNvSpPr/>
          <p:nvPr/>
        </p:nvSpPr>
        <p:spPr>
          <a:xfrm>
            <a:off x="1211400" y="5116680"/>
            <a:ext cx="220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1079640" y="47563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14"/>
          <p:cNvSpPr/>
          <p:nvPr/>
        </p:nvSpPr>
        <p:spPr>
          <a:xfrm>
            <a:off x="5113440" y="5116680"/>
            <a:ext cx="220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4983120" y="4756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 16"/>
          <p:cNvSpPr/>
          <p:nvPr/>
        </p:nvSpPr>
        <p:spPr>
          <a:xfrm>
            <a:off x="8885160" y="5116680"/>
            <a:ext cx="2206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8753400" y="4756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图片 1" descr=""/>
          <p:cNvPicPr/>
          <p:nvPr/>
        </p:nvPicPr>
        <p:blipFill>
          <a:blip r:embed="rId1"/>
          <a:srcRect l="872" t="0" r="0" b="6873"/>
          <a:stretch/>
        </p:blipFill>
        <p:spPr>
          <a:xfrm>
            <a:off x="0" y="1020600"/>
            <a:ext cx="4459320" cy="314352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2" descr=""/>
          <p:cNvPicPr/>
          <p:nvPr/>
        </p:nvPicPr>
        <p:blipFill>
          <a:blip r:embed="rId2"/>
          <a:stretch/>
        </p:blipFill>
        <p:spPr>
          <a:xfrm>
            <a:off x="7927920" y="977760"/>
            <a:ext cx="39816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图片 1" descr=""/>
          <p:cNvPicPr/>
          <p:nvPr/>
        </p:nvPicPr>
        <p:blipFill>
          <a:blip r:embed="rId1"/>
          <a:stretch/>
        </p:blipFill>
        <p:spPr>
          <a:xfrm>
            <a:off x="0" y="-604800"/>
            <a:ext cx="12211200" cy="7462800"/>
          </a:xfrm>
          <a:prstGeom prst="rect">
            <a:avLst/>
          </a:prstGeom>
          <a:ln w="0">
            <a:noFill/>
          </a:ln>
        </p:spPr>
      </p:pic>
      <p:sp>
        <p:nvSpPr>
          <p:cNvPr id="394" name="文本框 10"/>
          <p:cNvSpPr/>
          <p:nvPr/>
        </p:nvSpPr>
        <p:spPr>
          <a:xfrm>
            <a:off x="3463920" y="189396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水墨呈现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11"/>
          <p:cNvSpPr/>
          <p:nvPr/>
        </p:nvSpPr>
        <p:spPr>
          <a:xfrm>
            <a:off x="7005600" y="19000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匠心独运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5278320" y="19144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品位高雅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椭圆 13"/>
          <p:cNvSpPr/>
          <p:nvPr/>
        </p:nvSpPr>
        <p:spPr>
          <a:xfrm>
            <a:off x="6937200" y="2063880"/>
            <a:ext cx="10188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16"/>
          <p:cNvSpPr/>
          <p:nvPr/>
        </p:nvSpPr>
        <p:spPr>
          <a:xfrm>
            <a:off x="3613320" y="1465200"/>
            <a:ext cx="49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封面和内页所有素材均可自由编辑替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图片 17" descr=""/>
          <p:cNvPicPr/>
          <p:nvPr/>
        </p:nvPicPr>
        <p:blipFill>
          <a:blip r:embed="rId2"/>
          <a:stretch/>
        </p:blipFill>
        <p:spPr>
          <a:xfrm>
            <a:off x="3300480" y="530280"/>
            <a:ext cx="5540400" cy="1204920"/>
          </a:xfrm>
          <a:prstGeom prst="rect">
            <a:avLst/>
          </a:prstGeom>
          <a:ln w="0">
            <a:noFill/>
          </a:ln>
        </p:spPr>
      </p:pic>
      <p:sp>
        <p:nvSpPr>
          <p:cNvPr id="400" name="椭圆 11"/>
          <p:cNvSpPr/>
          <p:nvPr/>
        </p:nvSpPr>
        <p:spPr>
          <a:xfrm>
            <a:off x="5167440" y="204480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402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5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406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410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414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5"/>
          <p:cNvGrpSpPr/>
          <p:nvPr/>
        </p:nvGrpSpPr>
        <p:grpSpPr>
          <a:xfrm>
            <a:off x="2149560" y="1711440"/>
            <a:ext cx="3494160" cy="533160"/>
            <a:chOff x="2149560" y="1711440"/>
            <a:chExt cx="3494160" cy="533160"/>
          </a:xfrm>
        </p:grpSpPr>
        <p:grpSp>
          <p:nvGrpSpPr>
            <p:cNvPr id="51" name="组合 6"/>
            <p:cNvGrpSpPr/>
            <p:nvPr/>
          </p:nvGrpSpPr>
          <p:grpSpPr>
            <a:xfrm>
              <a:off x="2149560" y="1711440"/>
              <a:ext cx="1982520" cy="533160"/>
              <a:chOff x="2149560" y="1711440"/>
              <a:chExt cx="1982520" cy="533160"/>
            </a:xfrm>
          </p:grpSpPr>
          <p:sp>
            <p:nvSpPr>
              <p:cNvPr id="52" name="文本框 8"/>
              <p:cNvSpPr/>
              <p:nvPr/>
            </p:nvSpPr>
            <p:spPr>
              <a:xfrm>
                <a:off x="2149560" y="1711440"/>
                <a:ext cx="115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缘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文本框 9"/>
              <p:cNvSpPr/>
              <p:nvPr/>
            </p:nvSpPr>
            <p:spPr>
              <a:xfrm>
                <a:off x="2979720" y="1724040"/>
                <a:ext cx="115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楷体"/>
                    <a:ea typeface="楷体"/>
                  </a:rPr>
                  <a:t>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" name="文本框 7"/>
            <p:cNvSpPr/>
            <p:nvPr/>
          </p:nvSpPr>
          <p:spPr>
            <a:xfrm>
              <a:off x="3444480" y="171144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概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图片 2" descr=""/>
          <p:cNvPicPr/>
          <p:nvPr/>
        </p:nvPicPr>
        <p:blipFill>
          <a:blip r:embed="rId1"/>
          <a:srcRect l="13115" t="0" r="0" b="0"/>
          <a:stretch/>
        </p:blipFill>
        <p:spPr>
          <a:xfrm>
            <a:off x="6170760" y="1878120"/>
            <a:ext cx="6021360" cy="4979880"/>
          </a:xfrm>
          <a:prstGeom prst="rect">
            <a:avLst/>
          </a:prstGeom>
          <a:ln w="0">
            <a:noFill/>
          </a:ln>
        </p:spPr>
      </p:pic>
      <p:grpSp>
        <p:nvGrpSpPr>
          <p:cNvPr id="56" name="组合 2"/>
          <p:cNvGrpSpPr/>
          <p:nvPr/>
        </p:nvGrpSpPr>
        <p:grpSpPr>
          <a:xfrm>
            <a:off x="2251080" y="647640"/>
            <a:ext cx="1726920" cy="787320"/>
            <a:chOff x="2251080" y="647640"/>
            <a:chExt cx="1726920" cy="787320"/>
          </a:xfrm>
        </p:grpSpPr>
        <p:pic>
          <p:nvPicPr>
            <p:cNvPr id="57" name="图片 3" descr=""/>
            <p:cNvPicPr/>
            <p:nvPr/>
          </p:nvPicPr>
          <p:blipFill>
            <a:blip r:embed="rId2"/>
            <a:srcRect l="24043" t="14470" r="17550" b="31262"/>
            <a:stretch/>
          </p:blipFill>
          <p:spPr>
            <a:xfrm>
              <a:off x="2251080" y="647640"/>
              <a:ext cx="1143000" cy="69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图片 4" descr=""/>
            <p:cNvPicPr/>
            <p:nvPr/>
          </p:nvPicPr>
          <p:blipFill>
            <a:blip r:embed="rId3"/>
            <a:stretch/>
          </p:blipFill>
          <p:spPr>
            <a:xfrm flipH="1">
              <a:off x="3009240" y="996840"/>
              <a:ext cx="96876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组合 10"/>
          <p:cNvGrpSpPr/>
          <p:nvPr/>
        </p:nvGrpSpPr>
        <p:grpSpPr>
          <a:xfrm>
            <a:off x="2149560" y="2243160"/>
            <a:ext cx="3494160" cy="533160"/>
            <a:chOff x="2149560" y="2243160"/>
            <a:chExt cx="3494160" cy="533160"/>
          </a:xfrm>
        </p:grpSpPr>
        <p:sp>
          <p:nvSpPr>
            <p:cNvPr id="60" name="文本框 11"/>
            <p:cNvSpPr/>
            <p:nvPr/>
          </p:nvSpPr>
          <p:spPr>
            <a:xfrm>
              <a:off x="2149560" y="22431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聚心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文本框 12"/>
            <p:cNvSpPr/>
            <p:nvPr/>
          </p:nvSpPr>
          <p:spPr>
            <a:xfrm>
              <a:off x="2979720" y="22557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文本框 13"/>
            <p:cNvSpPr/>
            <p:nvPr/>
          </p:nvSpPr>
          <p:spPr>
            <a:xfrm>
              <a:off x="3444480" y="224316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团队成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组合 14"/>
          <p:cNvGrpSpPr/>
          <p:nvPr/>
        </p:nvGrpSpPr>
        <p:grpSpPr>
          <a:xfrm>
            <a:off x="2149560" y="2787480"/>
            <a:ext cx="3494160" cy="533160"/>
            <a:chOff x="2149560" y="2787480"/>
            <a:chExt cx="3494160" cy="533160"/>
          </a:xfrm>
        </p:grpSpPr>
        <p:sp>
          <p:nvSpPr>
            <p:cNvPr id="64" name="文本框 15"/>
            <p:cNvSpPr/>
            <p:nvPr/>
          </p:nvSpPr>
          <p:spPr>
            <a:xfrm>
              <a:off x="2149560" y="27874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臻美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文本框 16"/>
            <p:cNvSpPr/>
            <p:nvPr/>
          </p:nvSpPr>
          <p:spPr>
            <a:xfrm>
              <a:off x="2979720" y="28000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文本框 17"/>
            <p:cNvSpPr/>
            <p:nvPr/>
          </p:nvSpPr>
          <p:spPr>
            <a:xfrm>
              <a:off x="3444480" y="278748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行业市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18"/>
          <p:cNvGrpSpPr/>
          <p:nvPr/>
        </p:nvGrpSpPr>
        <p:grpSpPr>
          <a:xfrm>
            <a:off x="2149560" y="3319560"/>
            <a:ext cx="3494160" cy="533160"/>
            <a:chOff x="2149560" y="3319560"/>
            <a:chExt cx="3494160" cy="533160"/>
          </a:xfrm>
        </p:grpSpPr>
        <p:sp>
          <p:nvSpPr>
            <p:cNvPr id="68" name="文本框 19"/>
            <p:cNvSpPr/>
            <p:nvPr/>
          </p:nvSpPr>
          <p:spPr>
            <a:xfrm>
              <a:off x="2149560" y="33195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闪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文本框 20"/>
            <p:cNvSpPr/>
            <p:nvPr/>
          </p:nvSpPr>
          <p:spPr>
            <a:xfrm>
              <a:off x="2979720" y="33321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文本框 21"/>
            <p:cNvSpPr/>
            <p:nvPr/>
          </p:nvSpPr>
          <p:spPr>
            <a:xfrm>
              <a:off x="3444480" y="331956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特色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组合 22"/>
          <p:cNvGrpSpPr/>
          <p:nvPr/>
        </p:nvGrpSpPr>
        <p:grpSpPr>
          <a:xfrm>
            <a:off x="2149560" y="3867120"/>
            <a:ext cx="3494160" cy="533160"/>
            <a:chOff x="2149560" y="3867120"/>
            <a:chExt cx="3494160" cy="533160"/>
          </a:xfrm>
        </p:grpSpPr>
        <p:sp>
          <p:nvSpPr>
            <p:cNvPr id="72" name="文本框 23"/>
            <p:cNvSpPr/>
            <p:nvPr/>
          </p:nvSpPr>
          <p:spPr>
            <a:xfrm>
              <a:off x="2149560" y="38671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并进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文本框 24"/>
            <p:cNvSpPr/>
            <p:nvPr/>
          </p:nvSpPr>
          <p:spPr>
            <a:xfrm>
              <a:off x="2979720" y="38797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文本框 25"/>
            <p:cNvSpPr/>
            <p:nvPr/>
          </p:nvSpPr>
          <p:spPr>
            <a:xfrm>
              <a:off x="3444480" y="386712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计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直接连接符 41"/>
          <p:cNvSpPr/>
          <p:nvPr/>
        </p:nvSpPr>
        <p:spPr>
          <a:xfrm>
            <a:off x="2251080" y="1633680"/>
            <a:ext cx="273060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49" descr=""/>
          <p:cNvPicPr/>
          <p:nvPr/>
        </p:nvPicPr>
        <p:blipFill>
          <a:blip r:embed="rId1"/>
          <a:stretch/>
        </p:blipFill>
        <p:spPr>
          <a:xfrm>
            <a:off x="0" y="3435480"/>
            <a:ext cx="6767640" cy="342252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3"/>
          <p:cNvGrpSpPr/>
          <p:nvPr/>
        </p:nvGrpSpPr>
        <p:grpSpPr>
          <a:xfrm>
            <a:off x="547560" y="262080"/>
            <a:ext cx="4772160" cy="941400"/>
            <a:chOff x="547560" y="262080"/>
            <a:chExt cx="4772160" cy="941400"/>
          </a:xfrm>
        </p:grpSpPr>
        <p:pic>
          <p:nvPicPr>
            <p:cNvPr id="78" name="Picture 9" descr="F:\ppt素材\图标\我收集的图标\字体\3.png"/>
            <p:cNvPicPr/>
            <p:nvPr/>
          </p:nvPicPr>
          <p:blipFill>
            <a:blip r:embed="rId2"/>
            <a:stretch/>
          </p:blipFill>
          <p:spPr>
            <a:xfrm rot="5400000">
              <a:off x="2697120" y="-141876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6" descr="F:\超棒ppt模板\中国风\中国风物件\maobi.png"/>
            <p:cNvPicPr/>
            <p:nvPr/>
          </p:nvPicPr>
          <p:blipFill>
            <a:blip r:embed="rId3"/>
            <a:stretch/>
          </p:blipFill>
          <p:spPr>
            <a:xfrm>
              <a:off x="547560" y="26208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2"/>
            <p:cNvSpPr/>
            <p:nvPr/>
          </p:nvSpPr>
          <p:spPr>
            <a:xfrm>
              <a:off x="1365120" y="74628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Rectangle 9"/>
          <p:cNvSpPr/>
          <p:nvPr/>
        </p:nvSpPr>
        <p:spPr>
          <a:xfrm>
            <a:off x="3036960" y="1873080"/>
            <a:ext cx="101520" cy="839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3224160" y="1873080"/>
            <a:ext cx="3162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0"/>
          <p:cNvSpPr/>
          <p:nvPr/>
        </p:nvSpPr>
        <p:spPr>
          <a:xfrm>
            <a:off x="3603600" y="199872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036960" y="3041640"/>
            <a:ext cx="101520" cy="839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3202560" y="2970360"/>
            <a:ext cx="42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3603600" y="323676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9"/>
          <p:cNvSpPr/>
          <p:nvPr/>
        </p:nvSpPr>
        <p:spPr>
          <a:xfrm>
            <a:off x="3808440" y="2195640"/>
            <a:ext cx="1152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592200" y="1866960"/>
            <a:ext cx="4836960" cy="3487680"/>
          </a:xfrm>
          <a:prstGeom prst="rect">
            <a:avLst/>
          </a:prstGeom>
          <a:ln w="0">
            <a:noFill/>
          </a:ln>
        </p:spPr>
      </p:pic>
      <p:sp>
        <p:nvSpPr>
          <p:cNvPr id="89" name="矩形 8"/>
          <p:cNvSpPr/>
          <p:nvPr/>
        </p:nvSpPr>
        <p:spPr>
          <a:xfrm>
            <a:off x="6060960" y="3336840"/>
            <a:ext cx="53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您可对字体、大小进行更改，本模版所有图形线条及其相应素材均可自由编辑、改色、替换。感谢您的下载，希望继续支持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9"/>
          <p:cNvGrpSpPr/>
          <p:nvPr/>
        </p:nvGrpSpPr>
        <p:grpSpPr>
          <a:xfrm>
            <a:off x="6062760" y="2128680"/>
            <a:ext cx="3789360" cy="955800"/>
            <a:chOff x="6062760" y="2128680"/>
            <a:chExt cx="3789360" cy="955800"/>
          </a:xfrm>
        </p:grpSpPr>
        <p:pic>
          <p:nvPicPr>
            <p:cNvPr id="91" name="图片 10" descr=""/>
            <p:cNvPicPr/>
            <p:nvPr/>
          </p:nvPicPr>
          <p:blipFill>
            <a:blip r:embed="rId2"/>
            <a:stretch/>
          </p:blipFill>
          <p:spPr>
            <a:xfrm>
              <a:off x="6062760" y="212868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文本框 11"/>
            <p:cNvSpPr/>
            <p:nvPr/>
          </p:nvSpPr>
          <p:spPr>
            <a:xfrm>
              <a:off x="6431760" y="2321280"/>
              <a:ext cx="210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3"/>
          <p:cNvGrpSpPr/>
          <p:nvPr/>
        </p:nvGrpSpPr>
        <p:grpSpPr>
          <a:xfrm>
            <a:off x="171360" y="0"/>
            <a:ext cx="4772160" cy="1120680"/>
            <a:chOff x="171360" y="0"/>
            <a:chExt cx="4772160" cy="1120680"/>
          </a:xfrm>
        </p:grpSpPr>
        <p:pic>
          <p:nvPicPr>
            <p:cNvPr id="94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258280" y="-1564200"/>
              <a:ext cx="78444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97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2"/>
            <p:cNvSpPr/>
            <p:nvPr/>
          </p:nvSpPr>
          <p:spPr>
            <a:xfrm>
              <a:off x="988920" y="57672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" name="图片 7" descr=""/>
          <p:cNvPicPr/>
          <p:nvPr/>
        </p:nvPicPr>
        <p:blipFill>
          <a:blip r:embed="rId3"/>
          <a:stretch/>
        </p:blipFill>
        <p:spPr>
          <a:xfrm rot="21260400">
            <a:off x="1769760" y="4511520"/>
            <a:ext cx="2855880" cy="12765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8" descr=""/>
          <p:cNvPicPr/>
          <p:nvPr/>
        </p:nvPicPr>
        <p:blipFill>
          <a:blip r:embed="rId4"/>
          <a:stretch/>
        </p:blipFill>
        <p:spPr>
          <a:xfrm rot="6136800">
            <a:off x="938880" y="4246920"/>
            <a:ext cx="2236680" cy="10000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9" descr=""/>
          <p:cNvPicPr/>
          <p:nvPr/>
        </p:nvPicPr>
        <p:blipFill>
          <a:blip r:embed="rId5"/>
          <a:stretch/>
        </p:blipFill>
        <p:spPr>
          <a:xfrm>
            <a:off x="2411280" y="2212920"/>
            <a:ext cx="1000080" cy="22366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0" descr=""/>
          <p:cNvPicPr/>
          <p:nvPr/>
        </p:nvPicPr>
        <p:blipFill>
          <a:blip r:embed="rId6"/>
          <a:stretch/>
        </p:blipFill>
        <p:spPr>
          <a:xfrm>
            <a:off x="1685880" y="1768320"/>
            <a:ext cx="2236680" cy="10004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1" descr=""/>
          <p:cNvPicPr/>
          <p:nvPr/>
        </p:nvPicPr>
        <p:blipFill>
          <a:blip r:embed="rId7"/>
          <a:stretch/>
        </p:blipFill>
        <p:spPr>
          <a:xfrm rot="20949600">
            <a:off x="3765240" y="4846320"/>
            <a:ext cx="2854440" cy="127620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12"/>
          <p:cNvGrpSpPr/>
          <p:nvPr/>
        </p:nvGrpSpPr>
        <p:grpSpPr>
          <a:xfrm>
            <a:off x="4986360" y="4589640"/>
            <a:ext cx="1511280" cy="1528560"/>
            <a:chOff x="4986360" y="4589640"/>
            <a:chExt cx="1511280" cy="1528560"/>
          </a:xfrm>
        </p:grpSpPr>
        <p:pic>
          <p:nvPicPr>
            <p:cNvPr id="103" name="图片 13" descr=""/>
            <p:cNvPicPr/>
            <p:nvPr/>
          </p:nvPicPr>
          <p:blipFill>
            <a:blip r:embed="rId8"/>
            <a:stretch/>
          </p:blipFill>
          <p:spPr>
            <a:xfrm>
              <a:off x="4986360" y="4589640"/>
              <a:ext cx="1511280" cy="15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文本框 14"/>
            <p:cNvSpPr/>
            <p:nvPr/>
          </p:nvSpPr>
          <p:spPr>
            <a:xfrm>
              <a:off x="5238000" y="52174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组合 15"/>
          <p:cNvGrpSpPr/>
          <p:nvPr/>
        </p:nvGrpSpPr>
        <p:grpSpPr>
          <a:xfrm>
            <a:off x="3235320" y="4589640"/>
            <a:ext cx="1263600" cy="1277640"/>
            <a:chOff x="3235320" y="4589640"/>
            <a:chExt cx="1263600" cy="1277640"/>
          </a:xfrm>
        </p:grpSpPr>
        <p:pic>
          <p:nvPicPr>
            <p:cNvPr id="106" name="图片 16" descr=""/>
            <p:cNvPicPr/>
            <p:nvPr/>
          </p:nvPicPr>
          <p:blipFill>
            <a:blip r:embed="rId9"/>
            <a:stretch/>
          </p:blipFill>
          <p:spPr>
            <a:xfrm>
              <a:off x="3235320" y="4589640"/>
              <a:ext cx="1263600" cy="12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文本框 17"/>
            <p:cNvSpPr/>
            <p:nvPr/>
          </p:nvSpPr>
          <p:spPr>
            <a:xfrm>
              <a:off x="3400200" y="504612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组合 18"/>
          <p:cNvGrpSpPr/>
          <p:nvPr/>
        </p:nvGrpSpPr>
        <p:grpSpPr>
          <a:xfrm>
            <a:off x="1204920" y="4579920"/>
            <a:ext cx="1170000" cy="954000"/>
            <a:chOff x="1204920" y="4579920"/>
            <a:chExt cx="1170000" cy="954000"/>
          </a:xfrm>
        </p:grpSpPr>
        <p:pic>
          <p:nvPicPr>
            <p:cNvPr id="109" name="图片 19" descr=""/>
            <p:cNvPicPr/>
            <p:nvPr/>
          </p:nvPicPr>
          <p:blipFill>
            <a:blip r:embed="rId10"/>
            <a:stretch/>
          </p:blipFill>
          <p:spPr>
            <a:xfrm>
              <a:off x="1204920" y="4579920"/>
              <a:ext cx="94500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20"/>
            <p:cNvSpPr/>
            <p:nvPr/>
          </p:nvSpPr>
          <p:spPr>
            <a:xfrm>
              <a:off x="1293480" y="493632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21"/>
          <p:cNvGrpSpPr/>
          <p:nvPr/>
        </p:nvGrpSpPr>
        <p:grpSpPr>
          <a:xfrm>
            <a:off x="2057400" y="3254400"/>
            <a:ext cx="1155600" cy="888840"/>
            <a:chOff x="2057400" y="3254400"/>
            <a:chExt cx="1155600" cy="888840"/>
          </a:xfrm>
        </p:grpSpPr>
        <p:pic>
          <p:nvPicPr>
            <p:cNvPr id="112" name="图片 22" descr=""/>
            <p:cNvPicPr/>
            <p:nvPr/>
          </p:nvPicPr>
          <p:blipFill>
            <a:blip r:embed="rId11"/>
            <a:stretch/>
          </p:blipFill>
          <p:spPr>
            <a:xfrm>
              <a:off x="2057400" y="3254400"/>
              <a:ext cx="880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文本框 23"/>
            <p:cNvSpPr/>
            <p:nvPr/>
          </p:nvSpPr>
          <p:spPr>
            <a:xfrm>
              <a:off x="2131920" y="353304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组合 24"/>
          <p:cNvGrpSpPr/>
          <p:nvPr/>
        </p:nvGrpSpPr>
        <p:grpSpPr>
          <a:xfrm>
            <a:off x="2911320" y="1987560"/>
            <a:ext cx="1106640" cy="654120"/>
            <a:chOff x="2911320" y="1987560"/>
            <a:chExt cx="1106640" cy="654120"/>
          </a:xfrm>
        </p:grpSpPr>
        <p:pic>
          <p:nvPicPr>
            <p:cNvPr id="115" name="图片 25" descr=""/>
            <p:cNvPicPr/>
            <p:nvPr/>
          </p:nvPicPr>
          <p:blipFill>
            <a:blip r:embed="rId12"/>
            <a:stretch/>
          </p:blipFill>
          <p:spPr>
            <a:xfrm>
              <a:off x="2911320" y="1987560"/>
              <a:ext cx="64836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文本框 26"/>
            <p:cNvSpPr/>
            <p:nvPr/>
          </p:nvSpPr>
          <p:spPr>
            <a:xfrm>
              <a:off x="2937600" y="2187000"/>
              <a:ext cx="108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组合 27"/>
          <p:cNvGrpSpPr/>
          <p:nvPr/>
        </p:nvGrpSpPr>
        <p:grpSpPr>
          <a:xfrm>
            <a:off x="1349280" y="1639800"/>
            <a:ext cx="1079640" cy="654120"/>
            <a:chOff x="1349280" y="1639800"/>
            <a:chExt cx="1079640" cy="654120"/>
          </a:xfrm>
        </p:grpSpPr>
        <p:pic>
          <p:nvPicPr>
            <p:cNvPr id="118" name="图片 28" descr=""/>
            <p:cNvPicPr/>
            <p:nvPr/>
          </p:nvPicPr>
          <p:blipFill>
            <a:blip r:embed="rId13"/>
            <a:stretch/>
          </p:blipFill>
          <p:spPr>
            <a:xfrm>
              <a:off x="1353240" y="1639800"/>
              <a:ext cx="64800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文本框 29"/>
            <p:cNvSpPr/>
            <p:nvPr/>
          </p:nvSpPr>
          <p:spPr>
            <a:xfrm>
              <a:off x="1349280" y="181332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30"/>
          <p:cNvGrpSpPr/>
          <p:nvPr/>
        </p:nvGrpSpPr>
        <p:grpSpPr>
          <a:xfrm>
            <a:off x="7758000" y="2075040"/>
            <a:ext cx="4434120" cy="166680"/>
            <a:chOff x="7758000" y="2075040"/>
            <a:chExt cx="4434120" cy="166680"/>
          </a:xfrm>
        </p:grpSpPr>
        <p:sp>
          <p:nvSpPr>
            <p:cNvPr id="121" name="矩形 31"/>
            <p:cNvSpPr/>
            <p:nvPr/>
          </p:nvSpPr>
          <p:spPr>
            <a:xfrm>
              <a:off x="7758000" y="2075040"/>
              <a:ext cx="3078360" cy="166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32"/>
            <p:cNvSpPr/>
            <p:nvPr/>
          </p:nvSpPr>
          <p:spPr>
            <a:xfrm>
              <a:off x="10836360" y="2077920"/>
              <a:ext cx="1355760" cy="16380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文本框 33"/>
          <p:cNvSpPr/>
          <p:nvPr/>
        </p:nvSpPr>
        <p:spPr>
          <a:xfrm>
            <a:off x="7710480" y="14810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34"/>
          <p:cNvSpPr/>
          <p:nvPr/>
        </p:nvSpPr>
        <p:spPr>
          <a:xfrm>
            <a:off x="9629640" y="237348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hi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35"/>
          <p:cNvGrpSpPr/>
          <p:nvPr/>
        </p:nvGrpSpPr>
        <p:grpSpPr>
          <a:xfrm>
            <a:off x="7758000" y="2876400"/>
            <a:ext cx="2881440" cy="3682440"/>
            <a:chOff x="7758000" y="2876400"/>
            <a:chExt cx="2881440" cy="3682440"/>
          </a:xfrm>
        </p:grpSpPr>
        <p:sp>
          <p:nvSpPr>
            <p:cNvPr id="126" name="矩形 36"/>
            <p:cNvSpPr/>
            <p:nvPr/>
          </p:nvSpPr>
          <p:spPr>
            <a:xfrm>
              <a:off x="7758000" y="2876400"/>
              <a:ext cx="2680560" cy="3384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 37"/>
            <p:cNvSpPr/>
            <p:nvPr/>
          </p:nvSpPr>
          <p:spPr>
            <a:xfrm>
              <a:off x="8111880" y="3085920"/>
              <a:ext cx="2527560" cy="34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3"/>
          <p:cNvGrpSpPr/>
          <p:nvPr/>
        </p:nvGrpSpPr>
        <p:grpSpPr>
          <a:xfrm>
            <a:off x="171360" y="0"/>
            <a:ext cx="4772160" cy="941400"/>
            <a:chOff x="171360" y="0"/>
            <a:chExt cx="4772160" cy="941400"/>
          </a:xfrm>
        </p:grpSpPr>
        <p:pic>
          <p:nvPicPr>
            <p:cNvPr id="129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320920" y="-168084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2"/>
            <p:cNvSpPr/>
            <p:nvPr/>
          </p:nvSpPr>
          <p:spPr>
            <a:xfrm>
              <a:off x="988920" y="48420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组合 7" descr=""/>
          <p:cNvPicPr/>
          <p:nvPr/>
        </p:nvPicPr>
        <p:blipFill>
          <a:blip r:embed="rId3"/>
          <a:stretch/>
        </p:blipFill>
        <p:spPr>
          <a:xfrm>
            <a:off x="4430880" y="2065320"/>
            <a:ext cx="3294000" cy="643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 flipH="1">
            <a:off x="4819680" y="3517920"/>
            <a:ext cx="256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接连接符 34"/>
          <p:cNvSpPr/>
          <p:nvPr/>
        </p:nvSpPr>
        <p:spPr>
          <a:xfrm flipH="1">
            <a:off x="2114640" y="3038400"/>
            <a:ext cx="2543040" cy="0"/>
          </a:xfrm>
          <a:prstGeom prst="line">
            <a:avLst/>
          </a:prstGeom>
          <a:ln w="12600">
            <a:solidFill>
              <a:srgbClr val="262626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接连接符 35"/>
          <p:cNvSpPr/>
          <p:nvPr/>
        </p:nvSpPr>
        <p:spPr>
          <a:xfrm flipH="1">
            <a:off x="2114640" y="4854600"/>
            <a:ext cx="2967120" cy="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接连接符 36"/>
          <p:cNvSpPr/>
          <p:nvPr/>
        </p:nvSpPr>
        <p:spPr>
          <a:xfrm flipH="1">
            <a:off x="7047000" y="2433600"/>
            <a:ext cx="3184560" cy="0"/>
          </a:xfrm>
          <a:prstGeom prst="line">
            <a:avLst/>
          </a:prstGeom>
          <a:ln w="12600">
            <a:solidFill>
              <a:srgbClr val="be1247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接连接符 37"/>
          <p:cNvSpPr/>
          <p:nvPr/>
        </p:nvSpPr>
        <p:spPr>
          <a:xfrm flipH="1">
            <a:off x="7466040" y="4389480"/>
            <a:ext cx="2759040" cy="0"/>
          </a:xfrm>
          <a:prstGeom prst="line">
            <a:avLst/>
          </a:prstGeom>
          <a:ln w="12600">
            <a:solidFill>
              <a:srgbClr val="262626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2247840" y="24210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2251080" y="270684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2247840" y="43290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2251080" y="461484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8602560" y="194004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8605800" y="222552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8678880" y="3848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8682120" y="4133880"/>
            <a:ext cx="15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147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图片 1" descr=""/>
          <p:cNvPicPr/>
          <p:nvPr/>
        </p:nvPicPr>
        <p:blipFill>
          <a:blip r:embed="rId3"/>
          <a:srcRect l="-4578" t="0" r="0" b="0"/>
          <a:stretch/>
        </p:blipFill>
        <p:spPr>
          <a:xfrm>
            <a:off x="52560" y="3228840"/>
            <a:ext cx="3473280" cy="35244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2" descr=""/>
          <p:cNvPicPr/>
          <p:nvPr/>
        </p:nvPicPr>
        <p:blipFill>
          <a:blip r:embed="rId4"/>
          <a:stretch/>
        </p:blipFill>
        <p:spPr>
          <a:xfrm>
            <a:off x="5543640" y="2340000"/>
            <a:ext cx="2219400" cy="19558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8" descr=""/>
          <p:cNvPicPr/>
          <p:nvPr/>
        </p:nvPicPr>
        <p:blipFill>
          <a:blip r:embed="rId5"/>
          <a:stretch/>
        </p:blipFill>
        <p:spPr>
          <a:xfrm>
            <a:off x="8020080" y="2340000"/>
            <a:ext cx="2219400" cy="1955880"/>
          </a:xfrm>
          <a:prstGeom prst="rect">
            <a:avLst/>
          </a:prstGeom>
          <a:ln w="0">
            <a:noFill/>
          </a:ln>
        </p:spPr>
      </p:pic>
      <p:sp>
        <p:nvSpPr>
          <p:cNvPr id="153" name="矩形 9"/>
          <p:cNvSpPr/>
          <p:nvPr/>
        </p:nvSpPr>
        <p:spPr>
          <a:xfrm>
            <a:off x="5451480" y="4557600"/>
            <a:ext cx="494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"/>
          <p:cNvPicPr/>
          <p:nvPr/>
        </p:nvPicPr>
        <p:blipFill>
          <a:blip r:embed="rId1"/>
          <a:stretch/>
        </p:blipFill>
        <p:spPr>
          <a:xfrm>
            <a:off x="6894360" y="3009960"/>
            <a:ext cx="5297760" cy="4130640"/>
          </a:xfrm>
          <a:prstGeom prst="rect">
            <a:avLst/>
          </a:prstGeom>
          <a:ln w="0">
            <a:noFill/>
          </a:ln>
        </p:spPr>
      </p:pic>
      <p:sp>
        <p:nvSpPr>
          <p:cNvPr id="155" name="矩形 18"/>
          <p:cNvSpPr/>
          <p:nvPr/>
        </p:nvSpPr>
        <p:spPr>
          <a:xfrm>
            <a:off x="1558800" y="376092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9"/>
          <p:cNvSpPr/>
          <p:nvPr/>
        </p:nvSpPr>
        <p:spPr>
          <a:xfrm>
            <a:off x="1558800" y="296388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20"/>
          <p:cNvGrpSpPr/>
          <p:nvPr/>
        </p:nvGrpSpPr>
        <p:grpSpPr>
          <a:xfrm>
            <a:off x="1558800" y="1895400"/>
            <a:ext cx="3789360" cy="955800"/>
            <a:chOff x="1558800" y="1895400"/>
            <a:chExt cx="3789360" cy="955800"/>
          </a:xfrm>
        </p:grpSpPr>
        <p:pic>
          <p:nvPicPr>
            <p:cNvPr id="158" name="图片 21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558800" y="189540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文本框 22"/>
            <p:cNvSpPr/>
            <p:nvPr/>
          </p:nvSpPr>
          <p:spPr>
            <a:xfrm>
              <a:off x="1943280" y="207576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161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4" name="图片 7" descr=""/>
          <p:cNvPicPr/>
          <p:nvPr/>
        </p:nvPicPr>
        <p:blipFill>
          <a:blip r:embed="rId3"/>
          <a:stretch/>
        </p:blipFill>
        <p:spPr>
          <a:xfrm>
            <a:off x="3932280" y="2101680"/>
            <a:ext cx="3333600" cy="18655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8" descr=""/>
          <p:cNvPicPr/>
          <p:nvPr/>
        </p:nvPicPr>
        <p:blipFill>
          <a:blip r:embed="rId4"/>
          <a:stretch/>
        </p:blipFill>
        <p:spPr>
          <a:xfrm>
            <a:off x="476280" y="2070000"/>
            <a:ext cx="3333600" cy="18972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9" descr=""/>
          <p:cNvPicPr/>
          <p:nvPr/>
        </p:nvPicPr>
        <p:blipFill>
          <a:blip r:embed="rId5"/>
          <a:stretch/>
        </p:blipFill>
        <p:spPr>
          <a:xfrm>
            <a:off x="6357960" y="0"/>
            <a:ext cx="5834160" cy="6973920"/>
          </a:xfrm>
          <a:prstGeom prst="rect">
            <a:avLst/>
          </a:prstGeom>
          <a:ln w="0">
            <a:noFill/>
          </a:ln>
        </p:spPr>
      </p:pic>
      <p:grpSp>
        <p:nvGrpSpPr>
          <p:cNvPr id="167" name="组合 10"/>
          <p:cNvGrpSpPr/>
          <p:nvPr/>
        </p:nvGrpSpPr>
        <p:grpSpPr>
          <a:xfrm>
            <a:off x="7404120" y="4548240"/>
            <a:ext cx="6095880" cy="730440"/>
            <a:chOff x="7404120" y="4548240"/>
            <a:chExt cx="6095880" cy="730440"/>
          </a:xfrm>
        </p:grpSpPr>
        <p:sp>
          <p:nvSpPr>
            <p:cNvPr id="168" name="矩形 11"/>
            <p:cNvSpPr/>
            <p:nvPr/>
          </p:nvSpPr>
          <p:spPr>
            <a:xfrm>
              <a:off x="7535520" y="4941360"/>
              <a:ext cx="374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闹花深处层楼，画帘半卷东风软。春归翠陌，平莎茸嫩，垂杨金浅。迟日催花，淡云阁雨，轻寒轻暖。恨芳菲世界，游人未赏，都付与、莺和燕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2"/>
            <p:cNvSpPr/>
            <p:nvPr/>
          </p:nvSpPr>
          <p:spPr>
            <a:xfrm>
              <a:off x="7404120" y="454824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炉水龙吟</a:t>
              </a: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春恨</a:t>
              </a: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》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节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0" name="图片 13" descr=""/>
          <p:cNvPicPr/>
          <p:nvPr/>
        </p:nvPicPr>
        <p:blipFill>
          <a:blip r:embed="rId6"/>
          <a:srcRect l="16349" t="13622" r="19185" b="24405"/>
          <a:stretch/>
        </p:blipFill>
        <p:spPr>
          <a:xfrm>
            <a:off x="8551800" y="229860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4" descr=""/>
          <p:cNvPicPr/>
          <p:nvPr/>
        </p:nvPicPr>
        <p:blipFill>
          <a:blip r:embed="rId7"/>
          <a:stretch/>
        </p:blipFill>
        <p:spPr>
          <a:xfrm>
            <a:off x="476280" y="4083120"/>
            <a:ext cx="3333600" cy="18781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5" descr=""/>
          <p:cNvPicPr/>
          <p:nvPr/>
        </p:nvPicPr>
        <p:blipFill>
          <a:blip r:embed="rId8"/>
          <a:stretch/>
        </p:blipFill>
        <p:spPr>
          <a:xfrm>
            <a:off x="3932280" y="4083120"/>
            <a:ext cx="33336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02:37:00Z</dcterms:created>
  <dc:creator>哎呀小小草</dc:creator>
  <dc:description/>
  <dc:language>en-US</dc:language>
  <cp:lastModifiedBy>Administrator</cp:lastModifiedBy>
  <dcterms:modified xsi:type="dcterms:W3CDTF">2017-04-05T08:27:47Z</dcterms:modified>
  <cp:revision>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