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6FB-BE54-4BAD-A737-6F92EDC1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BE3-5D4C-492C-B95B-AB18971C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7FB-8745-47D0-8527-6D75B3D3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FEF-A924-4164-BCCE-33001773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A8B-71EC-4C36-8292-3663B0C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6B4-E912-4AB0-9DD0-724D9DC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048-499F-4ED8-B143-BFB5EBA9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351-0228-4369-9251-FAFB4515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B31-383D-4F73-BA0E-4E1B4F69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DD0-3850-482E-8475-4FA852E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EFF-D137-4333-AD16-F029F3A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182-DBA8-4790-A456-DDE3C2E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76C7-8ADF-4203-86E3-76D681092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.wmf"/><Relationship Id="rId6" Type="http://schemas.openxmlformats.org/officeDocument/2006/relationships/image" Target="../media/image21.png"/><Relationship Id="rId7" Type="http://schemas.openxmlformats.org/officeDocument/2006/relationships/image" Target="../media/image9.wmf"/><Relationship Id="rId8" Type="http://schemas.openxmlformats.org/officeDocument/2006/relationships/image" Target="../media/image21.png"/><Relationship Id="rId9" Type="http://schemas.openxmlformats.org/officeDocument/2006/relationships/image" Target="../media/image9.wmf"/><Relationship Id="rId10" Type="http://schemas.openxmlformats.org/officeDocument/2006/relationships/image" Target="../media/image21.png"/><Relationship Id="rId11" Type="http://schemas.openxmlformats.org/officeDocument/2006/relationships/image" Target="../media/image9.wmf"/><Relationship Id="rId12" Type="http://schemas.openxmlformats.org/officeDocument/2006/relationships/image" Target="../media/image21.png"/><Relationship Id="rId13" Type="http://schemas.openxmlformats.org/officeDocument/2006/relationships/image" Target="../media/image9.wmf"/><Relationship Id="rId14" Type="http://schemas.openxmlformats.org/officeDocument/2006/relationships/image" Target="../media/image21.png"/><Relationship Id="rId15" Type="http://schemas.openxmlformats.org/officeDocument/2006/relationships/image" Target="../media/image9.wmf"/><Relationship Id="rId16" Type="http://schemas.openxmlformats.org/officeDocument/2006/relationships/image" Target="../media/image21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4211640" y="242100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49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228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697"/>
                <a:lnTo>
                  <a:pt x="15504" y="21302"/>
                </a:lnTo>
                <a:lnTo>
                  <a:pt x="21600" y="16775"/>
                </a:lnTo>
                <a:lnTo>
                  <a:pt x="15504" y="11652"/>
                </a:lnTo>
                <a:lnTo>
                  <a:pt x="15504" y="14362"/>
                </a:lnTo>
                <a:arcTo wR="21600" hR="7330" stAng="7855303" swAng="2594350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860"/>
                <a:lnTo>
                  <a:pt x="15469" y="21279"/>
                </a:lnTo>
                <a:lnTo>
                  <a:pt x="21600" y="17391"/>
                </a:lnTo>
                <a:lnTo>
                  <a:pt x="15469" y="12860"/>
                </a:lnTo>
                <a:lnTo>
                  <a:pt x="15469" y="15283"/>
                </a:lnTo>
                <a:arcTo wR="21600" hR="7802" stAng="7760140" swAng="2748469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5600"/>
            <a:ext cx="412920" cy="478080"/>
            <a:chOff x="6814440" y="1065600"/>
            <a:chExt cx="412920" cy="47808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396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3600"/>
              <a:ext cx="368280" cy="44172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7560" y="2071800"/>
            <a:ext cx="2314440" cy="1713240"/>
            <a:chOff x="5497560" y="2071800"/>
            <a:chExt cx="2314440" cy="171324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7560" y="2559960"/>
              <a:ext cx="1301040" cy="1225080"/>
              <a:chOff x="5497560" y="2559960"/>
              <a:chExt cx="1301040" cy="122508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24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69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12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48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200" y="2824920"/>
                <a:ext cx="864360" cy="355320"/>
                <a:chOff x="6226200" y="2824920"/>
                <a:chExt cx="864360" cy="35532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4920"/>
                  <a:ext cx="712800" cy="331920"/>
                  <a:chOff x="6377760" y="282492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4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04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200" y="2833920"/>
                  <a:ext cx="710640" cy="346320"/>
                  <a:chOff x="6226200" y="2833920"/>
                  <a:chExt cx="71064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096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198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09760" y="2071800"/>
            <a:ext cx="2314440" cy="1713240"/>
            <a:chOff x="509760" y="2071800"/>
            <a:chExt cx="2314440" cy="171324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09760" y="2559960"/>
              <a:ext cx="1301040" cy="1225080"/>
              <a:chOff x="509760" y="2559960"/>
              <a:chExt cx="1301040" cy="122508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46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291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34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0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400" y="2824920"/>
                <a:ext cx="864360" cy="355320"/>
                <a:chOff x="1238400" y="2824920"/>
                <a:chExt cx="864360" cy="35532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4920"/>
                  <a:ext cx="712800" cy="331920"/>
                  <a:chOff x="1389960" y="282492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6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26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400" y="2833920"/>
                  <a:ext cx="710640" cy="346320"/>
                  <a:chOff x="1238400" y="2833920"/>
                  <a:chExt cx="71064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18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0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3040" y="2071800"/>
            <a:ext cx="2315520" cy="1713240"/>
            <a:chOff x="2993040" y="2071800"/>
            <a:chExt cx="2315520" cy="171324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800"/>
              <a:ext cx="2271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2160"/>
              <a:ext cx="225540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3040" y="2559960"/>
              <a:ext cx="1301040" cy="1225080"/>
              <a:chOff x="2993040" y="2559960"/>
              <a:chExt cx="1301040" cy="122508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796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244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668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036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5240"/>
              <a:ext cx="146376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440"/>
              <a:chOff x="3643200" y="2071800"/>
              <a:chExt cx="1072080" cy="110844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560"/>
                <a:ext cx="864360" cy="355680"/>
                <a:chOff x="3721320" y="282456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560"/>
                  <a:ext cx="712800" cy="331920"/>
                  <a:chOff x="3872880" y="282456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8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920"/>
                  <a:ext cx="711000" cy="346320"/>
                  <a:chOff x="3721320" y="2833920"/>
                  <a:chExt cx="71100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580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520" y="2768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2680" y="3987720"/>
            <a:ext cx="2310840" cy="1713600"/>
            <a:chOff x="1732680" y="3987720"/>
            <a:chExt cx="2310840" cy="171360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2680" y="4475880"/>
              <a:ext cx="1301040" cy="1225440"/>
              <a:chOff x="1732680" y="4475880"/>
              <a:chExt cx="1301040" cy="122544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724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280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668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00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360"/>
              <a:chOff x="2377080" y="3987720"/>
              <a:chExt cx="1072440" cy="110736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920" y="4738680"/>
                <a:ext cx="865800" cy="356400"/>
                <a:chOff x="2455920" y="4738680"/>
                <a:chExt cx="865800" cy="35640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920" y="4738680"/>
                  <a:ext cx="712800" cy="331920"/>
                  <a:chOff x="2608920" y="4738680"/>
                  <a:chExt cx="712800" cy="33192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24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168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96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920" y="4748760"/>
                  <a:ext cx="711000" cy="346320"/>
                  <a:chOff x="2455920" y="4748760"/>
                  <a:chExt cx="711000" cy="34632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12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3400" y="3987720"/>
            <a:ext cx="2310840" cy="1713600"/>
            <a:chOff x="4253400" y="3987720"/>
            <a:chExt cx="2310840" cy="171360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3400" y="4475880"/>
              <a:ext cx="1301040" cy="1225440"/>
              <a:chOff x="4253400" y="4475880"/>
              <a:chExt cx="1301040" cy="122544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796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52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740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072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360"/>
              <a:chOff x="4897800" y="3987720"/>
              <a:chExt cx="1072440" cy="110736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640" y="4738680"/>
                <a:ext cx="865800" cy="356400"/>
                <a:chOff x="4976640" y="4738680"/>
                <a:chExt cx="865800" cy="35640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640" y="4738680"/>
                  <a:ext cx="712800" cy="331920"/>
                  <a:chOff x="5129640" y="4738680"/>
                  <a:chExt cx="712800" cy="33192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196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40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68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640" y="4748760"/>
                  <a:ext cx="711000" cy="346320"/>
                  <a:chOff x="4976640" y="4748760"/>
                  <a:chExt cx="711000" cy="34632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684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67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412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43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432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80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3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66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152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81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30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7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48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496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3096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672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68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632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23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14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15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15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15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4760"/>
              <a:ext cx="1035360" cy="360"/>
              <a:chOff x="-360" y="26247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47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47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4760"/>
              <a:ext cx="810000" cy="360"/>
              <a:chOff x="6094080" y="26247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47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47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2960" y="1713960"/>
              <a:ext cx="654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3480" y="1710720"/>
              <a:ext cx="664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4760"/>
              <a:ext cx="787680" cy="360"/>
              <a:chOff x="4157280" y="26247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47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47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199480" y="2314440"/>
              <a:ext cx="63576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4760"/>
              <a:ext cx="1093680" cy="360"/>
              <a:chOff x="8050320" y="26247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47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47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4760"/>
              <a:ext cx="830160" cy="360"/>
              <a:chOff x="2185920" y="26247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47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47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888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4760"/>
            <a:chOff x="1096920" y="2101680"/>
            <a:chExt cx="1041480" cy="109476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360" cy="365760"/>
              <a:chOff x="1150200" y="2830680"/>
              <a:chExt cx="909360" cy="36576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680" cy="346320"/>
                <a:chOff x="1307880" y="2830680"/>
                <a:chExt cx="75168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4320" y="27309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7880" y="27709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000"/>
                <a:ext cx="750600" cy="361440"/>
                <a:chOff x="1150200" y="2835000"/>
                <a:chExt cx="75060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8080" y="2777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2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4760"/>
            <a:chOff x="3060720" y="2093760"/>
            <a:chExt cx="1041480" cy="109476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360" cy="365760"/>
              <a:chOff x="3114000" y="2822760"/>
              <a:chExt cx="909360" cy="36576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680" cy="346320"/>
                <a:chOff x="3271680" y="2822760"/>
                <a:chExt cx="75168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8120" y="2723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1680" y="276300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080"/>
                <a:ext cx="750600" cy="361440"/>
                <a:chOff x="3114000" y="2827080"/>
                <a:chExt cx="75060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880" y="27691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4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240"/>
            <a:chOff x="4998960" y="2104920"/>
            <a:chExt cx="1041480" cy="107424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5760"/>
              <a:chOff x="5052600" y="2813400"/>
              <a:chExt cx="909000" cy="36576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59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7720"/>
                <a:ext cx="750240" cy="361440"/>
                <a:chOff x="5052600" y="281772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5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240"/>
            <a:chOff x="6961320" y="2097000"/>
            <a:chExt cx="1041120" cy="107424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360" cy="365760"/>
              <a:chOff x="7014600" y="2805480"/>
              <a:chExt cx="909360" cy="36576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680" cy="346320"/>
                <a:chOff x="7172280" y="2805480"/>
                <a:chExt cx="75168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720" y="27057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280" y="27457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18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09800"/>
                <a:ext cx="750600" cy="361440"/>
                <a:chOff x="7014600" y="2809800"/>
                <a:chExt cx="75060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480" y="2751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76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276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8880"/>
                <a:ext cx="907200" cy="316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dc:language>en-US</dc:language>
  <cp:lastModifiedBy>Administrator</cp:lastModifiedBy>
  <dcterms:modified xsi:type="dcterms:W3CDTF">2017-04-06T08:12:28Z</dcterms:modified>
  <cp:revision>2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