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D8D0-453A-4A1D-90F1-678E14C5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A66-5930-4DF4-9FAB-47A3B317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99A5-A9F2-4FB9-8EA4-42E809E3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3EF-79DB-40E9-B0B8-25D288C7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ECE-7255-457E-9981-56A273CA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7020-4FE4-46F9-BF59-88086207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280-4748-4A2F-9734-B328707B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F45-F7A5-4FF4-A80A-938DB729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3E02-C252-4936-BA41-53D32BCE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3408-A002-4386-BFBB-2A34D2B1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63B-96D8-4C18-B7C5-F54FDCEA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F787-0D73-4117-98DC-D232C2A3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7737-96D3-4B78-B726-A2A17D9ACF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643280" y="100008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643720" y="19065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>
            <a:off x="4929120" y="1855800"/>
            <a:ext cx="32148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4427640" y="2565360"/>
            <a:ext cx="57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6855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568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069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426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568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62125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39265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926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640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2854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5640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35492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42656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926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855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9260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4261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1997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3854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75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83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7-04-08T07:40:52Z</dcterms:modified>
  <cp:revision>1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