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C881-C4B5-4BB0-A855-F02AA899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701-216A-4471-99F8-9E3762EA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4B5B-DAB1-4D1F-8096-7BB3D16E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4B8-44B4-4F0F-A9EA-54EAFC02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1FD9-5DDB-46B7-9BE4-0F167F78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5711-9A30-460F-B0E5-C1233454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5CF6-3EC5-4226-8105-5F9B3222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360-13BF-4B16-AF4A-5C3547D8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9211-7411-4276-B9DD-EBD9CEAB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13E-2079-464B-AD8B-EE353182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AC5-6764-43EF-918B-B895DAEC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1C45-AC00-4078-BD92-7E248335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B939-7C95-44B0-85AF-961E0B5291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643280" y="100008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643720" y="19065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>
            <a:off x="4929120" y="1855800"/>
            <a:ext cx="32148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4427640" y="2565360"/>
            <a:ext cx="57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6855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568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069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426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568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62125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39265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926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640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2854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5640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35492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42656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926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855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9260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4261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1997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3854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75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83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7-04-08T07:40:52Z</dcterms:modified>
  <cp:revision>1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