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261-59B4-4A7F-AF00-55DC5D38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F88-6495-4432-A550-9F25B23E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1F8-DB3C-4030-9FE8-4B0D387E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03D-673D-4AC2-A1A5-46C73905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7B4-BE51-49A2-B7EC-90B61EDE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3CC-9E84-4B6C-871F-95F72BB8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4D9-957D-42FF-9F51-5B027494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C03-A770-4ADD-ACC3-C561F1FF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F72-8EB5-4212-8D1F-154BF960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CF1-A14C-42DA-8B76-8284EF1A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633-8D89-4644-82E6-A3B9ED77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BB5-1D9A-4B6A-91C7-C50E81AC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E974-D738-4AD1-A2EA-9981BBBE08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626360" y="4581360"/>
            <a:ext cx="29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20</a:t>
            </a:r>
            <a:r>
              <a:rPr b="1" lang="zh-CN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种娱乐方式太给力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583160" y="62064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4176720" y="3789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古人沒電怎</a:t>
            </a:r>
            <a:r>
              <a:rPr b="0" lang="zh-CN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么</a:t>
            </a: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過夜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62"/>
          <p:cNvSpPr/>
          <p:nvPr/>
        </p:nvSpPr>
        <p:spPr>
          <a:xfrm>
            <a:off x="2790720" y="4537080"/>
            <a:ext cx="6553440" cy="0"/>
          </a:xfrm>
          <a:prstGeom prst="line">
            <a:avLst/>
          </a:prstGeom>
          <a:ln w="648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4095"/>
          <p:cNvSpPr/>
          <p:nvPr/>
        </p:nvSpPr>
        <p:spPr>
          <a:xfrm>
            <a:off x="4511520" y="549360"/>
            <a:ext cx="3168720" cy="3166920"/>
          </a:xfrm>
          <a:prstGeom prst="ellipse">
            <a:avLst/>
          </a:prstGeom>
          <a:noFill/>
          <a:ln w="7632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2352600" y="3068640"/>
            <a:ext cx="32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c2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04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9927000" y="151416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會基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居少邻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草径入荒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宿池边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僧敲月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90720" y="2127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6" descr=""/>
          <p:cNvPicPr/>
          <p:nvPr/>
        </p:nvPicPr>
        <p:blipFill>
          <a:blip r:embed="rId1"/>
          <a:stretch/>
        </p:blipFill>
        <p:spPr>
          <a:xfrm>
            <a:off x="1195560" y="1336680"/>
            <a:ext cx="41846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叹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7129440" y="1137240"/>
            <a:ext cx="237492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独怜幽草涧边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上有黄鹂深树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潮带雨晚来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野渡无人舟自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6679440" y="2559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滁州西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韦应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1" descr=""/>
          <p:cNvPicPr/>
          <p:nvPr/>
        </p:nvPicPr>
        <p:blipFill>
          <a:blip r:embed="rId1"/>
          <a:stretch/>
        </p:blipFill>
        <p:spPr>
          <a:xfrm>
            <a:off x="1260360" y="1324080"/>
            <a:ext cx="4464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織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4919040" y="2213640"/>
            <a:ext cx="45694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七为君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心中常苦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既为府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守节情不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贱妾留空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常日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鸡鸣入机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夜不得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4447440" y="248760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孔雀东南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汉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佚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479520" y="2852640"/>
            <a:ext cx="3713040" cy="2448000"/>
          </a:xfrm>
          <a:prstGeom prst="rect">
            <a:avLst/>
          </a:prstGeom>
          <a:ln w="76320">
            <a:solidFill>
              <a:srgbClr val="dbe1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8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2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洗衣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明月松间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清泉石上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竹喧归浣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莲动下渔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6390720" y="2504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山居秋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1"/>
          <a:stretch/>
        </p:blipFill>
        <p:spPr>
          <a:xfrm>
            <a:off x="758880" y="1552680"/>
            <a:ext cx="4211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992700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4847400" y="120852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浔阳江头夜送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枫叶荻花秋瑟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下马客在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酒欲饮无管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醉不成欢惨将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时茫茫江浸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忽闻水上琵琶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忘归客不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447440" y="2936520"/>
            <a:ext cx="454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琵琶行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3" descr=""/>
          <p:cNvPicPr/>
          <p:nvPr/>
        </p:nvPicPr>
        <p:blipFill>
          <a:blip r:embed="rId1"/>
          <a:stretch/>
        </p:blipFill>
        <p:spPr>
          <a:xfrm>
            <a:off x="403200" y="1839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6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媳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3957120" y="1851840"/>
            <a:ext cx="52995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清，秋月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叶聚还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寒鸦栖复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亲相见知何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时此夜难为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入我相思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我相思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相思兮长相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短相思兮无穷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早知如此绊人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何如当初莫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3942720" y="295308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词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2" descr=""/>
          <p:cNvPicPr/>
          <p:nvPr/>
        </p:nvPicPr>
        <p:blipFill>
          <a:blip r:embed="rId1"/>
          <a:stretch/>
        </p:blipFill>
        <p:spPr>
          <a:xfrm>
            <a:off x="479520" y="1916280"/>
            <a:ext cx="3240000" cy="3576600"/>
          </a:xfrm>
          <a:prstGeom prst="rect">
            <a:avLst/>
          </a:prstGeom>
          <a:ln w="76320">
            <a:solidFill>
              <a:srgbClr val="e6cf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5a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4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老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5784480" y="1784880"/>
            <a:ext cx="34722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自飘零水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种相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情无计可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才下眉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却上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5095080" y="3845160"/>
            <a:ext cx="4546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剪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清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5" descr=""/>
          <p:cNvPicPr/>
          <p:nvPr/>
        </p:nvPicPr>
        <p:blipFill>
          <a:blip r:embed="rId1"/>
          <a:srcRect l="10554" t="0" r="0" b="4802"/>
          <a:stretch/>
        </p:blipFill>
        <p:spPr>
          <a:xfrm>
            <a:off x="622440" y="2781360"/>
            <a:ext cx="4268520" cy="1976400"/>
          </a:xfrm>
          <a:prstGeom prst="rect">
            <a:avLst/>
          </a:prstGeom>
          <a:ln w="76320">
            <a:solidFill>
              <a:srgbClr val="e792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1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5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10232640" y="91080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睡別人老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4810320" y="1851840"/>
            <a:ext cx="4446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知妾有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赠妾双明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感君缠绵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系在红罗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妾家高楼连苑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良人执戟明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君用心如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事夫誓拟同生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还君明珠双泪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不相逢未嫁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4303080" y="2881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节妇吟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张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623880" y="2421000"/>
            <a:ext cx="3397320" cy="2016000"/>
          </a:xfrm>
          <a:prstGeom prst="rect">
            <a:avLst/>
          </a:prstGeom>
          <a:ln w="76320">
            <a:solidFill>
              <a:srgbClr val="8782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0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偷東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闻有狗盗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昼伏夜潜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摩弓拭箭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射不待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6463800" y="2665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箭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3" descr=""/>
          <p:cNvPicPr/>
          <p:nvPr/>
        </p:nvPicPr>
        <p:blipFill>
          <a:blip r:embed="rId1"/>
          <a:stretch/>
        </p:blipFill>
        <p:spPr>
          <a:xfrm>
            <a:off x="1774800" y="1844640"/>
            <a:ext cx="3116160" cy="3438720"/>
          </a:xfrm>
          <a:prstGeom prst="rect">
            <a:avLst/>
          </a:prstGeom>
          <a:ln w="76320">
            <a:solidFill>
              <a:srgbClr val="c7a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7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逛青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6333120" y="185256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魄江湖载酒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楚腰纤细掌中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年一觉扬州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赢得青楼薄幸名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莫待无花空折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5887440" y="3978720"/>
            <a:ext cx="454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遣怀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杜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7" descr=""/>
          <p:cNvPicPr/>
          <p:nvPr/>
        </p:nvPicPr>
        <p:blipFill>
          <a:blip r:embed="rId1"/>
          <a:stretch/>
        </p:blipFill>
        <p:spPr>
          <a:xfrm>
            <a:off x="3935520" y="170028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"/>
          <p:cNvPicPr/>
          <p:nvPr/>
        </p:nvPicPr>
        <p:blipFill>
          <a:blip r:embed="rId2"/>
          <a:stretch/>
        </p:blipFill>
        <p:spPr>
          <a:xfrm>
            <a:off x="766800" y="2421000"/>
            <a:ext cx="4753080" cy="2847960"/>
          </a:xfrm>
          <a:prstGeom prst="rect">
            <a:avLst/>
          </a:prstGeom>
          <a:ln w="76320">
            <a:solidFill>
              <a:srgbClr val="f390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4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睡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9" descr=""/>
          <p:cNvPicPr/>
          <p:nvPr/>
        </p:nvPicPr>
        <p:blipFill>
          <a:blip r:embed="rId1"/>
          <a:stretch/>
        </p:blipFill>
        <p:spPr>
          <a:xfrm>
            <a:off x="1771560" y="1668600"/>
            <a:ext cx="3537000" cy="3536640"/>
          </a:xfrm>
          <a:prstGeom prst="rect">
            <a:avLst/>
          </a:prstGeom>
          <a:ln w="0">
            <a:noFill/>
          </a:ln>
        </p:spPr>
      </p:pic>
      <p:sp>
        <p:nvSpPr>
          <p:cNvPr id="52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眠不觉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处处闻啼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风雨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落知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晓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孟浩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7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各種爬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"/>
          <p:cNvSpPr/>
          <p:nvPr/>
        </p:nvSpPr>
        <p:spPr>
          <a:xfrm>
            <a:off x="4731120" y="2060640"/>
            <a:ext cx="505908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无言独上西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如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寂寞梧桐深院锁清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剪不断，理还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是离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是一般滋味在心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花秋月何时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往事知多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昨夜又东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故国不堪回首月明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雕阑玉砌应犹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只是朱颜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长帘幕低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潇潇、无情风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揉损琼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3946320" y="1885320"/>
            <a:ext cx="72900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花谢了春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南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407880" y="2195640"/>
            <a:ext cx="3457800" cy="2828880"/>
          </a:xfrm>
          <a:prstGeom prst="rect">
            <a:avLst/>
          </a:prstGeom>
          <a:ln w="76320">
            <a:solidFill>
              <a:srgbClr val="f6f1e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3"/>
          <p:cNvSpPr/>
          <p:nvPr/>
        </p:nvSpPr>
        <p:spPr>
          <a:xfrm>
            <a:off x="1000008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拉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5206320" y="1497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郁金堂北画楼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换骨神方上药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露气暗连青桂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风声偏猎紫兰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筹未必输孙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香枣何劳问石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忆事怀人兼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翠衾归卧绣帘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447440" y="3429000"/>
            <a:ext cx="454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药转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商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8" descr=""/>
          <p:cNvPicPr/>
          <p:nvPr/>
        </p:nvPicPr>
        <p:blipFill>
          <a:blip r:embed="rId1"/>
          <a:stretch/>
        </p:blipFill>
        <p:spPr>
          <a:xfrm>
            <a:off x="839880" y="1341360"/>
            <a:ext cx="3200400" cy="4572000"/>
          </a:xfrm>
          <a:prstGeom prst="rect">
            <a:avLst/>
          </a:prstGeom>
          <a:ln w="76320">
            <a:solidFill>
              <a:srgbClr val="f5ea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189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197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2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5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698652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绿蚁新醅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红泥小火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晚来天欲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能饮一杯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问刘十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rcRect l="0" t="0" r="0" b="3479"/>
          <a:stretch/>
        </p:blipFill>
        <p:spPr>
          <a:xfrm>
            <a:off x="1343160" y="2270160"/>
            <a:ext cx="4047840" cy="2317680"/>
          </a:xfrm>
          <a:prstGeom prst="rect">
            <a:avLst/>
          </a:prstGeom>
          <a:ln w="76320">
            <a:solidFill>
              <a:srgbClr val="be7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3"/>
          <p:cNvSpPr/>
          <p:nvPr/>
        </p:nvSpPr>
        <p:spPr>
          <a:xfrm>
            <a:off x="1000008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4703040" y="1281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活水还须活火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自临钓石取深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瓢贮月归春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杓分江入夜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雪乳已翻煎处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松风忽作泻时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枯肠未晚禁三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生听荒城长短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"/>
          <p:cNvSpPr/>
          <p:nvPr/>
        </p:nvSpPr>
        <p:spPr>
          <a:xfrm>
            <a:off x="4158720" y="2936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汲江煎茶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苏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1415880" y="1114560"/>
            <a:ext cx="2287800" cy="4628880"/>
          </a:xfrm>
          <a:prstGeom prst="rect">
            <a:avLst/>
          </a:prstGeom>
          <a:ln w="76320">
            <a:solidFill>
              <a:srgbClr val="c0c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等人下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415560" y="9925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黄梅时节家家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青草池塘处处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有约不来过夜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敲棋子落灯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6535080" y="3025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约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赵师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" descr=""/>
          <p:cNvPicPr/>
          <p:nvPr/>
        </p:nvPicPr>
        <p:blipFill>
          <a:blip r:embed="rId1"/>
          <a:stretch/>
        </p:blipFill>
        <p:spPr>
          <a:xfrm>
            <a:off x="1339920" y="1623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7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看月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床前明月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疑是地上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头望明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低头思故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5958720" y="280872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静夜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1"/>
          <a:stretch/>
        </p:blipFill>
        <p:spPr>
          <a:xfrm>
            <a:off x="839880" y="2349360"/>
            <a:ext cx="4771800" cy="2791080"/>
          </a:xfrm>
          <a:prstGeom prst="rect">
            <a:avLst/>
          </a:prstGeom>
          <a:ln w="76320">
            <a:solidFill>
              <a:srgbClr val="8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8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3"/>
          <p:cNvSpPr/>
          <p:nvPr/>
        </p:nvSpPr>
        <p:spPr>
          <a:xfrm>
            <a:off x="992700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5958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塞下曲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卢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766800" y="2708280"/>
            <a:ext cx="4753080" cy="2324160"/>
          </a:xfrm>
          <a:prstGeom prst="rect">
            <a:avLst/>
          </a:prstGeom>
          <a:ln w="76320">
            <a:solidFill>
              <a:srgbClr val="6d73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5d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9927000" y="167472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黑雁飞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单于夜遁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欲将轻骑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雪满弓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1558800" y="1773360"/>
            <a:ext cx="2490840" cy="3546360"/>
          </a:xfrm>
          <a:prstGeom prst="rect">
            <a:avLst/>
          </a:prstGeom>
          <a:ln w="76320">
            <a:solidFill>
              <a:srgbClr val="a194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a2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發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人闲桂花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鸣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1" descr=""/>
          <p:cNvPicPr/>
          <p:nvPr/>
        </p:nvPicPr>
        <p:blipFill>
          <a:blip r:embed="rId1"/>
          <a:stretch/>
        </p:blipFill>
        <p:spPr>
          <a:xfrm>
            <a:off x="1843200" y="1839960"/>
            <a:ext cx="353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7-04-06T07:57:4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