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5.jpeg" ContentType="image/jpeg"/>
  <Override PartName="/ppt/media/image4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6FF9-59AD-48E7-9194-2D2C2A0C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1D1F-AA33-4B69-8809-0DE36A72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77A9-DEE6-4053-8869-B7BC46C4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8FF5-3E5B-400E-BD8F-B472F067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A3DB-9A7A-4D90-889C-44CF1125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E50A-A049-410B-BEF1-CB0BDEB9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4EBB-CE0D-4064-9831-F7699822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531E-0A82-4538-805D-A4ADD637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CA0B-CD43-4881-8664-C66DD127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124E-7A6B-4D06-8B49-AA9464F6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D034-767B-40DD-9707-B5E795C9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3501-D397-4EA4-80C7-95EC5CA9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5C7E-19E7-4A49-819C-A40B6FC8A6D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1695600" y="2565360"/>
            <a:ext cx="545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十四孝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1395360" y="3865680"/>
            <a:ext cx="663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www.zhongguofeng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0241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0242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组合 10243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26" name="组合 10244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2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Arial"/>
                    <a:ea typeface="仿宋_GB2312"/>
                  </a:rPr>
                  <a:t>乳姑不怠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10248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13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11265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1266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11267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36" name="组合 11268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3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卧冰求鲤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11272"/>
          <p:cNvGrpSpPr/>
          <p:nvPr/>
        </p:nvGrpSpPr>
        <p:grpSpPr>
          <a:xfrm>
            <a:off x="1258920" y="1052640"/>
            <a:ext cx="6912000" cy="4825800"/>
            <a:chOff x="1258920" y="1052640"/>
            <a:chExt cx="6912000" cy="4825800"/>
          </a:xfrm>
        </p:grpSpPr>
        <p:sp>
          <p:nvSpPr>
            <p:cNvPr id="141" name="圆角矩形 5"/>
            <p:cNvSpPr/>
            <p:nvPr/>
          </p:nvSpPr>
          <p:spPr>
            <a:xfrm>
              <a:off x="125892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圆角矩形 6"/>
            <p:cNvSpPr/>
            <p:nvPr/>
          </p:nvSpPr>
          <p:spPr>
            <a:xfrm>
              <a:off x="125892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12289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2290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12291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46" name="组合 12292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4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恣蚊饱血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12296"/>
          <p:cNvGrpSpPr/>
          <p:nvPr/>
        </p:nvGrpSpPr>
        <p:grpSpPr>
          <a:xfrm>
            <a:off x="1258920" y="1052640"/>
            <a:ext cx="6912000" cy="4825800"/>
            <a:chOff x="1258920" y="1052640"/>
            <a:chExt cx="6912000" cy="4825800"/>
          </a:xfrm>
        </p:grpSpPr>
        <p:sp>
          <p:nvSpPr>
            <p:cNvPr id="151" name="圆角矩形 5"/>
            <p:cNvSpPr/>
            <p:nvPr/>
          </p:nvSpPr>
          <p:spPr>
            <a:xfrm>
              <a:off x="125892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圆角矩形 6"/>
            <p:cNvSpPr/>
            <p:nvPr/>
          </p:nvSpPr>
          <p:spPr>
            <a:xfrm>
              <a:off x="125892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3313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3314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13315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56" name="组合 13316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5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扼虎救父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13320"/>
          <p:cNvGrpSpPr/>
          <p:nvPr/>
        </p:nvGrpSpPr>
        <p:grpSpPr>
          <a:xfrm>
            <a:off x="1116000" y="1052640"/>
            <a:ext cx="6912000" cy="4825800"/>
            <a:chOff x="1116000" y="1052640"/>
            <a:chExt cx="6912000" cy="4825800"/>
          </a:xfrm>
        </p:grpSpPr>
        <p:sp>
          <p:nvSpPr>
            <p:cNvPr id="161" name="圆角矩形 5"/>
            <p:cNvSpPr/>
            <p:nvPr/>
          </p:nvSpPr>
          <p:spPr>
            <a:xfrm>
              <a:off x="111600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圆角矩形 6"/>
            <p:cNvSpPr/>
            <p:nvPr/>
          </p:nvSpPr>
          <p:spPr>
            <a:xfrm>
              <a:off x="111600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14337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4338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4339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66" name="组合 14340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6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啮指痛心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14344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17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15361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5362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15363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76" name="组合 15364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7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哭竹生笋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5368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18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16385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16386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16387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86" name="组合 16388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8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尝粪忧心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16392"/>
          <p:cNvGrpSpPr/>
          <p:nvPr/>
        </p:nvGrpSpPr>
        <p:grpSpPr>
          <a:xfrm>
            <a:off x="1258920" y="1125360"/>
            <a:ext cx="6912000" cy="4826160"/>
            <a:chOff x="1258920" y="1125360"/>
            <a:chExt cx="6912000" cy="4826160"/>
          </a:xfrm>
        </p:grpSpPr>
        <p:sp>
          <p:nvSpPr>
            <p:cNvPr id="191" name="圆角矩形 5"/>
            <p:cNvSpPr/>
            <p:nvPr/>
          </p:nvSpPr>
          <p:spPr>
            <a:xfrm>
              <a:off x="1258920" y="1125360"/>
              <a:ext cx="6912000" cy="482616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圆角矩形 6"/>
            <p:cNvSpPr/>
            <p:nvPr/>
          </p:nvSpPr>
          <p:spPr>
            <a:xfrm>
              <a:off x="1258920" y="1259640"/>
              <a:ext cx="6912000" cy="455724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7409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7410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17411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96" name="组合 17412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9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弃官寻母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17416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0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18433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18434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组合 18435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06" name="组合 18436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0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涤亲溺器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18440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1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19457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9458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19459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16" name="组合 19460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1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百里负米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9464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2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2049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2050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2051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46" name="组合 2052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4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孝感动天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2056"/>
          <p:cNvGrpSpPr/>
          <p:nvPr/>
        </p:nvGrpSpPr>
        <p:grpSpPr>
          <a:xfrm>
            <a:off x="1116000" y="1052640"/>
            <a:ext cx="6912000" cy="4825800"/>
            <a:chOff x="1116000" y="1052640"/>
            <a:chExt cx="6912000" cy="4825800"/>
          </a:xfrm>
        </p:grpSpPr>
        <p:sp>
          <p:nvSpPr>
            <p:cNvPr id="51" name="圆角矩形 5"/>
            <p:cNvSpPr/>
            <p:nvPr/>
          </p:nvSpPr>
          <p:spPr>
            <a:xfrm>
              <a:off x="111600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圆角矩形 6"/>
            <p:cNvSpPr/>
            <p:nvPr/>
          </p:nvSpPr>
          <p:spPr>
            <a:xfrm>
              <a:off x="111600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20481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20482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20483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26" name="组合 20484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2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芦衣顺母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20488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3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矩形 21505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21506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21507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36" name="组合 21508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3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鹿乳奉亲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21512"/>
          <p:cNvGrpSpPr/>
          <p:nvPr/>
        </p:nvGrpSpPr>
        <p:grpSpPr>
          <a:xfrm>
            <a:off x="1187280" y="1125360"/>
            <a:ext cx="6912000" cy="4826160"/>
            <a:chOff x="1187280" y="1125360"/>
            <a:chExt cx="6912000" cy="4826160"/>
          </a:xfrm>
        </p:grpSpPr>
        <p:sp>
          <p:nvSpPr>
            <p:cNvPr id="241" name="圆角矩形 5"/>
            <p:cNvSpPr/>
            <p:nvPr/>
          </p:nvSpPr>
          <p:spPr>
            <a:xfrm>
              <a:off x="1187280" y="1125360"/>
              <a:ext cx="6912000" cy="482616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圆角矩形 6"/>
            <p:cNvSpPr/>
            <p:nvPr/>
          </p:nvSpPr>
          <p:spPr>
            <a:xfrm>
              <a:off x="1187280" y="1259640"/>
              <a:ext cx="6912000" cy="455724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22529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22530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22531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46" name="组合 22532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4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TextBox 33"/>
            <p:cNvSpPr/>
            <p:nvPr/>
          </p:nvSpPr>
          <p:spPr>
            <a:xfrm>
              <a:off x="1979280" y="64800"/>
              <a:ext cx="5474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戏彩娱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22536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5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23553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23554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23555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56" name="组合 23556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5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卖身葬父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23560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6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24577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4578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24579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66" name="组合 24580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6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刻木事亲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24584"/>
          <p:cNvGrpSpPr/>
          <p:nvPr/>
        </p:nvGrpSpPr>
        <p:grpSpPr>
          <a:xfrm>
            <a:off x="1187280" y="1125360"/>
            <a:ext cx="6912000" cy="4826160"/>
            <a:chOff x="1187280" y="1125360"/>
            <a:chExt cx="6912000" cy="4826160"/>
          </a:xfrm>
        </p:grpSpPr>
        <p:sp>
          <p:nvSpPr>
            <p:cNvPr id="271" name="圆角矩形 5"/>
            <p:cNvSpPr/>
            <p:nvPr/>
          </p:nvSpPr>
          <p:spPr>
            <a:xfrm>
              <a:off x="1187280" y="1125360"/>
              <a:ext cx="6912000" cy="482616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圆角矩形 6"/>
            <p:cNvSpPr/>
            <p:nvPr/>
          </p:nvSpPr>
          <p:spPr>
            <a:xfrm>
              <a:off x="1187280" y="1259640"/>
              <a:ext cx="6912000" cy="455724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矩形 25601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25602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25603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276" name="组合 25604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27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行佣供母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25608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28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284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292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2"/>
          <p:cNvSpPr/>
          <p:nvPr/>
        </p:nvSpPr>
        <p:spPr>
          <a:xfrm>
            <a:off x="3905280" y="2141640"/>
            <a:ext cx="38037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296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3073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3074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3075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56" name="组合 3076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5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亲尝汤药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3080"/>
          <p:cNvGrpSpPr/>
          <p:nvPr/>
        </p:nvGrpSpPr>
        <p:grpSpPr>
          <a:xfrm>
            <a:off x="1116000" y="1052640"/>
            <a:ext cx="6912000" cy="4825800"/>
            <a:chOff x="1116000" y="1052640"/>
            <a:chExt cx="6912000" cy="4825800"/>
          </a:xfrm>
        </p:grpSpPr>
        <p:sp>
          <p:nvSpPr>
            <p:cNvPr id="61" name="圆角矩形 5"/>
            <p:cNvSpPr/>
            <p:nvPr/>
          </p:nvSpPr>
          <p:spPr>
            <a:xfrm>
              <a:off x="111600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圆角矩形 6"/>
            <p:cNvSpPr/>
            <p:nvPr/>
          </p:nvSpPr>
          <p:spPr>
            <a:xfrm>
              <a:off x="111600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4097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098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4099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66" name="组合 4100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6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怀橘遗亲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4104"/>
          <p:cNvGrpSpPr/>
          <p:nvPr/>
        </p:nvGrpSpPr>
        <p:grpSpPr>
          <a:xfrm>
            <a:off x="1116000" y="1052640"/>
            <a:ext cx="6912000" cy="4825800"/>
            <a:chOff x="1116000" y="1052640"/>
            <a:chExt cx="6912000" cy="4825800"/>
          </a:xfrm>
        </p:grpSpPr>
        <p:sp>
          <p:nvSpPr>
            <p:cNvPr id="71" name="圆角矩形 5"/>
            <p:cNvSpPr/>
            <p:nvPr/>
          </p:nvSpPr>
          <p:spPr>
            <a:xfrm>
              <a:off x="111600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圆角矩形 6"/>
            <p:cNvSpPr/>
            <p:nvPr/>
          </p:nvSpPr>
          <p:spPr>
            <a:xfrm>
              <a:off x="111600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5121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5122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5123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76" name="组合 5124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7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埋儿奉母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5128"/>
          <p:cNvGrpSpPr/>
          <p:nvPr/>
        </p:nvGrpSpPr>
        <p:grpSpPr>
          <a:xfrm>
            <a:off x="1042920" y="1125360"/>
            <a:ext cx="6912000" cy="4826160"/>
            <a:chOff x="1042920" y="1125360"/>
            <a:chExt cx="6912000" cy="4826160"/>
          </a:xfrm>
        </p:grpSpPr>
        <p:sp>
          <p:nvSpPr>
            <p:cNvPr id="81" name="圆角矩形 5"/>
            <p:cNvSpPr/>
            <p:nvPr/>
          </p:nvSpPr>
          <p:spPr>
            <a:xfrm>
              <a:off x="1042920" y="1125360"/>
              <a:ext cx="6912000" cy="482616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圆角矩形 6"/>
            <p:cNvSpPr/>
            <p:nvPr/>
          </p:nvSpPr>
          <p:spPr>
            <a:xfrm>
              <a:off x="1042920" y="1259640"/>
              <a:ext cx="6912000" cy="455724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6145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46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6147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86" name="组合 6148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8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仿宋_GB2312"/>
                    <a:ea typeface="仿宋_GB2312"/>
                  </a:rPr>
                  <a:t>扇枕温衾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6152"/>
          <p:cNvGrpSpPr/>
          <p:nvPr/>
        </p:nvGrpSpPr>
        <p:grpSpPr>
          <a:xfrm>
            <a:off x="1187280" y="981000"/>
            <a:ext cx="6912000" cy="4826160"/>
            <a:chOff x="1187280" y="981000"/>
            <a:chExt cx="6912000" cy="4826160"/>
          </a:xfrm>
        </p:grpSpPr>
        <p:sp>
          <p:nvSpPr>
            <p:cNvPr id="91" name="圆角矩形 5"/>
            <p:cNvSpPr/>
            <p:nvPr/>
          </p:nvSpPr>
          <p:spPr>
            <a:xfrm>
              <a:off x="1187280" y="981000"/>
              <a:ext cx="6912000" cy="482616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圆角矩形 6"/>
            <p:cNvSpPr/>
            <p:nvPr/>
          </p:nvSpPr>
          <p:spPr>
            <a:xfrm>
              <a:off x="1187280" y="1115280"/>
              <a:ext cx="6912000" cy="455724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7169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7170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组合 7171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96" name="组合 7172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9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Arial"/>
                    <a:ea typeface="仿宋_GB2312"/>
                  </a:rPr>
                  <a:t>拾葚异器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7176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10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8193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8194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8195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06" name="组合 8196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0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Arial"/>
                    <a:ea typeface="仿宋_GB2312"/>
                  </a:rPr>
                  <a:t>涌泉跃鲤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8200"/>
          <p:cNvGrpSpPr/>
          <p:nvPr/>
        </p:nvGrpSpPr>
        <p:grpSpPr>
          <a:xfrm>
            <a:off x="1116000" y="1052640"/>
            <a:ext cx="6912000" cy="4825800"/>
            <a:chOff x="1116000" y="1052640"/>
            <a:chExt cx="6912000" cy="4825800"/>
          </a:xfrm>
        </p:grpSpPr>
        <p:sp>
          <p:nvSpPr>
            <p:cNvPr id="111" name="圆角矩形 5"/>
            <p:cNvSpPr/>
            <p:nvPr/>
          </p:nvSpPr>
          <p:spPr>
            <a:xfrm>
              <a:off x="111600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圆角矩形 6"/>
            <p:cNvSpPr/>
            <p:nvPr/>
          </p:nvSpPr>
          <p:spPr>
            <a:xfrm>
              <a:off x="111600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9217"/>
          <p:cNvSpPr/>
          <p:nvPr/>
        </p:nvSpPr>
        <p:spPr>
          <a:xfrm rot="18943800">
            <a:off x="-684000" y="476280"/>
            <a:ext cx="284328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9218"/>
          <p:cNvSpPr/>
          <p:nvPr/>
        </p:nvSpPr>
        <p:spPr>
          <a:xfrm rot="18943800">
            <a:off x="-612000" y="549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新宋体"/>
              </a:rPr>
              <a:t>二十四孝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9219"/>
          <p:cNvGrpSpPr/>
          <p:nvPr/>
        </p:nvGrpSpPr>
        <p:grpSpPr>
          <a:xfrm>
            <a:off x="1908000" y="0"/>
            <a:ext cx="5616720" cy="809640"/>
            <a:chOff x="1908000" y="0"/>
            <a:chExt cx="5616720" cy="809640"/>
          </a:xfrm>
        </p:grpSpPr>
        <p:grpSp>
          <p:nvGrpSpPr>
            <p:cNvPr id="116" name="组合 9220"/>
            <p:cNvGrpSpPr/>
            <p:nvPr/>
          </p:nvGrpSpPr>
          <p:grpSpPr>
            <a:xfrm>
              <a:off x="1908000" y="0"/>
              <a:ext cx="5616720" cy="809640"/>
              <a:chOff x="1908000" y="0"/>
              <a:chExt cx="5616720" cy="809640"/>
            </a:xfrm>
          </p:grpSpPr>
          <p:sp>
            <p:nvSpPr>
              <p:cNvPr id="117" name="圆角矩形 25"/>
              <p:cNvSpPr/>
              <p:nvPr/>
            </p:nvSpPr>
            <p:spPr>
              <a:xfrm>
                <a:off x="1908000" y="0"/>
                <a:ext cx="5616720" cy="809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圆角矩形 26"/>
              <p:cNvSpPr/>
              <p:nvPr/>
            </p:nvSpPr>
            <p:spPr>
              <a:xfrm>
                <a:off x="1908000" y="65160"/>
                <a:ext cx="5616720" cy="67896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Arial"/>
                    <a:ea typeface="仿宋_GB2312"/>
                  </a:rPr>
                  <a:t>闻雷泣墓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TextBox 33"/>
            <p:cNvSpPr/>
            <p:nvPr/>
          </p:nvSpPr>
          <p:spPr>
            <a:xfrm>
              <a:off x="1979280" y="64800"/>
              <a:ext cx="547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9224"/>
          <p:cNvGrpSpPr/>
          <p:nvPr/>
        </p:nvGrpSpPr>
        <p:grpSpPr>
          <a:xfrm>
            <a:off x="1187280" y="1052640"/>
            <a:ext cx="6912000" cy="4825800"/>
            <a:chOff x="1187280" y="1052640"/>
            <a:chExt cx="6912000" cy="4825800"/>
          </a:xfrm>
        </p:grpSpPr>
        <p:sp>
          <p:nvSpPr>
            <p:cNvPr id="121" name="圆角矩形 5"/>
            <p:cNvSpPr/>
            <p:nvPr/>
          </p:nvSpPr>
          <p:spPr>
            <a:xfrm>
              <a:off x="1187280" y="1052640"/>
              <a:ext cx="6912000" cy="4825800"/>
            </a:xfrm>
            <a:prstGeom prst="roundRect">
              <a:avLst>
                <a:gd name="adj" fmla="val 7949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圆角矩形 6"/>
            <p:cNvSpPr/>
            <p:nvPr/>
          </p:nvSpPr>
          <p:spPr>
            <a:xfrm>
              <a:off x="1187280" y="1186920"/>
              <a:ext cx="6912000" cy="4556880"/>
            </a:xfrm>
            <a:prstGeom prst="roundRect">
              <a:avLst>
                <a:gd name="adj" fmla="val 5653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1:07:17Z</dcterms:created>
  <dc:creator>HHghost</dc:creator>
  <dc:description/>
  <dc:language>en-US</dc:language>
  <cp:lastModifiedBy>Administrator</cp:lastModifiedBy>
  <dcterms:modified xsi:type="dcterms:W3CDTF">2017-04-10T07:37:50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