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6C3-E069-46F8-88B1-059AD35A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658-12B3-455B-9236-0B53B13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C81-1C7F-4FB2-A717-5CF3F4D2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3C9-1EE6-4ACF-9C5A-2960D8B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F64-7E42-4F43-8DAD-1C3471EF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90D-1CF9-4961-B459-6423D61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A06-C927-4F20-87EE-71E04B9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773-DC3C-48A4-980C-72720CA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BD-B8FC-432C-BE67-05114D1C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D40-B5AF-4131-BFBB-FEE2DAC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153-F9E7-44F5-B4DC-9A86EF7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622-116F-4E11-B955-DCDE386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157-4B35-4FEC-9E3B-FB6A15E187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695600" y="2565360"/>
            <a:ext cx="54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十四孝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395360" y="3865680"/>
            <a:ext cx="66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024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24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26" name="组合 1024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乳姑不怠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24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126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26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36" name="组合 1126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卧冰求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272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4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228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29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229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46" name="组合 1229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恣蚊饱血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296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5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331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31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331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56" name="组合 1331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扼虎救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32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433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3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433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66" name="组合 1434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啮指痛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34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7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536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36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76" name="组合 1536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哭竹生笋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36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638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638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86" name="组合 1638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尝粪忧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6392"/>
          <p:cNvGrpSpPr/>
          <p:nvPr/>
        </p:nvGrpSpPr>
        <p:grpSpPr>
          <a:xfrm>
            <a:off x="1258920" y="1125360"/>
            <a:ext cx="6912000" cy="4826160"/>
            <a:chOff x="1258920" y="1125360"/>
            <a:chExt cx="6912000" cy="4826160"/>
          </a:xfrm>
        </p:grpSpPr>
        <p:sp>
          <p:nvSpPr>
            <p:cNvPr id="191" name="圆角矩形 5"/>
            <p:cNvSpPr/>
            <p:nvPr/>
          </p:nvSpPr>
          <p:spPr>
            <a:xfrm>
              <a:off x="1258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6"/>
            <p:cNvSpPr/>
            <p:nvPr/>
          </p:nvSpPr>
          <p:spPr>
            <a:xfrm>
              <a:off x="1258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740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1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41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96" name="组合 1741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弃官寻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1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843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3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843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06" name="组合 1843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涤亲溺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844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1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945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5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45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16" name="组合 1946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百里负米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46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04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5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46" name="组合 205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孝感动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6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5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048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048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26" name="组合 2048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芦衣顺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048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0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50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150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36" name="组合 2150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鹿乳奉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1512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4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252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253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53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46" name="组合 2253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33"/>
            <p:cNvSpPr/>
            <p:nvPr/>
          </p:nvSpPr>
          <p:spPr>
            <a:xfrm>
              <a:off x="1979280" y="64800"/>
              <a:ext cx="547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戏彩娱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53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5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355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55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355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56" name="组合 2355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卖身葬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356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6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2457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7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457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66" name="组合 2458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刻木事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584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7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560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0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560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76" name="组合 2560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行佣供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560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8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9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3905280" y="2141640"/>
            <a:ext cx="38037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7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07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56" name="组合 307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亲尝汤药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8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09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09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09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66" name="组合 410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怀橘遗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104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7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12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2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12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76" name="组合 512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埋儿奉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128"/>
          <p:cNvGrpSpPr/>
          <p:nvPr/>
        </p:nvGrpSpPr>
        <p:grpSpPr>
          <a:xfrm>
            <a:off x="1042920" y="1125360"/>
            <a:ext cx="6912000" cy="4826160"/>
            <a:chOff x="1042920" y="1125360"/>
            <a:chExt cx="6912000" cy="4826160"/>
          </a:xfrm>
        </p:grpSpPr>
        <p:sp>
          <p:nvSpPr>
            <p:cNvPr id="81" name="圆角矩形 5"/>
            <p:cNvSpPr/>
            <p:nvPr/>
          </p:nvSpPr>
          <p:spPr>
            <a:xfrm>
              <a:off x="1042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"/>
            <p:cNvSpPr/>
            <p:nvPr/>
          </p:nvSpPr>
          <p:spPr>
            <a:xfrm>
              <a:off x="1042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14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4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86" name="组合 614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扇枕温衾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152"/>
          <p:cNvGrpSpPr/>
          <p:nvPr/>
        </p:nvGrpSpPr>
        <p:grpSpPr>
          <a:xfrm>
            <a:off x="1187280" y="981000"/>
            <a:ext cx="6912000" cy="4826160"/>
            <a:chOff x="1187280" y="981000"/>
            <a:chExt cx="6912000" cy="4826160"/>
          </a:xfrm>
        </p:grpSpPr>
        <p:sp>
          <p:nvSpPr>
            <p:cNvPr id="91" name="圆角矩形 5"/>
            <p:cNvSpPr/>
            <p:nvPr/>
          </p:nvSpPr>
          <p:spPr>
            <a:xfrm>
              <a:off x="1187280" y="98100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"/>
            <p:cNvSpPr/>
            <p:nvPr/>
          </p:nvSpPr>
          <p:spPr>
            <a:xfrm>
              <a:off x="1187280" y="111528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16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717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96" name="组合 717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拾葚异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717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19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819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06" name="组合 819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涌泉跃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20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1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921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1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1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16" name="组合 922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闻雷泣墓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22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7:17Z</dcterms:created>
  <dc:creator>HHghost</dc:creator>
  <dc:description/>
  <dc:language>en-US</dc:language>
  <cp:lastModifiedBy>Administrator</cp:lastModifiedBy>
  <dcterms:modified xsi:type="dcterms:W3CDTF">2017-04-10T07:37:5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