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jpeg" ContentType="image/jpeg"/>
  <Override PartName="/ppt/media/image4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1ADC-631B-44ED-8E87-C4A420DE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121A-ED91-4B2A-990E-429A4913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E63-0B61-40B7-BC5E-42B4B08B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9EB-8E30-46BE-84B7-F6CC79DF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5472-32DE-485E-A6FD-1FDEFD61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17F-7C91-4269-94FC-AC1C2186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EC1-AC42-4D38-9097-96E6FA96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7651-BFF6-4FAE-8F82-9A39554F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325-C3F7-4DAC-A342-27B29F6E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257-7E4C-4E5D-883D-49573A4B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10D1-4286-45D5-9EAD-36D683AA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FBC-6F38-495F-9ED8-FB45EF55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B783-2721-4B7D-86DA-FD099FD351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1695600" y="2565360"/>
            <a:ext cx="545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十四孝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1395360" y="3865680"/>
            <a:ext cx="663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www.zhongguofeng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024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024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组合 1024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26" name="组合 1024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2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乳姑不怠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10248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3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1265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1266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11267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36" name="组合 11268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3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卧冰求鲤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11272"/>
          <p:cNvGrpSpPr/>
          <p:nvPr/>
        </p:nvGrpSpPr>
        <p:grpSpPr>
          <a:xfrm>
            <a:off x="1258920" y="1052640"/>
            <a:ext cx="6912000" cy="4825800"/>
            <a:chOff x="1258920" y="1052640"/>
            <a:chExt cx="6912000" cy="4825800"/>
          </a:xfrm>
        </p:grpSpPr>
        <p:sp>
          <p:nvSpPr>
            <p:cNvPr id="141" name="圆角矩形 5"/>
            <p:cNvSpPr/>
            <p:nvPr/>
          </p:nvSpPr>
          <p:spPr>
            <a:xfrm>
              <a:off x="125892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圆角矩形 6"/>
            <p:cNvSpPr/>
            <p:nvPr/>
          </p:nvSpPr>
          <p:spPr>
            <a:xfrm>
              <a:off x="125892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1228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229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1229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46" name="组合 1229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4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恣蚊饱血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12296"/>
          <p:cNvGrpSpPr/>
          <p:nvPr/>
        </p:nvGrpSpPr>
        <p:grpSpPr>
          <a:xfrm>
            <a:off x="1258920" y="1052640"/>
            <a:ext cx="6912000" cy="4825800"/>
            <a:chOff x="1258920" y="1052640"/>
            <a:chExt cx="6912000" cy="4825800"/>
          </a:xfrm>
        </p:grpSpPr>
        <p:sp>
          <p:nvSpPr>
            <p:cNvPr id="151" name="圆角矩形 5"/>
            <p:cNvSpPr/>
            <p:nvPr/>
          </p:nvSpPr>
          <p:spPr>
            <a:xfrm>
              <a:off x="125892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圆角矩形 6"/>
            <p:cNvSpPr/>
            <p:nvPr/>
          </p:nvSpPr>
          <p:spPr>
            <a:xfrm>
              <a:off x="125892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331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331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1331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56" name="组合 1331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5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扼虎救父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13320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16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1433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433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433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66" name="组合 1434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6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啮指痛心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14344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7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536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36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1536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76" name="组合 1536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7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哭竹生笋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5368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8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16385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6386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6387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86" name="组合 16388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8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尝粪忧心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16392"/>
          <p:cNvGrpSpPr/>
          <p:nvPr/>
        </p:nvGrpSpPr>
        <p:grpSpPr>
          <a:xfrm>
            <a:off x="1258920" y="1125360"/>
            <a:ext cx="6912000" cy="4826160"/>
            <a:chOff x="1258920" y="1125360"/>
            <a:chExt cx="6912000" cy="4826160"/>
          </a:xfrm>
        </p:grpSpPr>
        <p:sp>
          <p:nvSpPr>
            <p:cNvPr id="191" name="圆角矩形 5"/>
            <p:cNvSpPr/>
            <p:nvPr/>
          </p:nvSpPr>
          <p:spPr>
            <a:xfrm>
              <a:off x="1258920" y="112536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圆角矩形 6"/>
            <p:cNvSpPr/>
            <p:nvPr/>
          </p:nvSpPr>
          <p:spPr>
            <a:xfrm>
              <a:off x="1258920" y="125964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740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741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741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96" name="组合 1741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9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弃官寻母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17416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0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1843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843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1843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06" name="组合 1843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0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涤亲溺器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18440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1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1945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945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1945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16" name="组合 1946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1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百里负米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9464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2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204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05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205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46" name="组合 205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4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孝感动天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2056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5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2048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2048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2048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26" name="组合 2048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2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芦衣顺母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20488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3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矩形 21505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21506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21507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36" name="组合 21508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3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鹿乳奉亲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21512"/>
          <p:cNvGrpSpPr/>
          <p:nvPr/>
        </p:nvGrpSpPr>
        <p:grpSpPr>
          <a:xfrm>
            <a:off x="1187280" y="1125360"/>
            <a:ext cx="6912000" cy="4826160"/>
            <a:chOff x="1187280" y="1125360"/>
            <a:chExt cx="6912000" cy="4826160"/>
          </a:xfrm>
        </p:grpSpPr>
        <p:sp>
          <p:nvSpPr>
            <p:cNvPr id="241" name="圆角矩形 5"/>
            <p:cNvSpPr/>
            <p:nvPr/>
          </p:nvSpPr>
          <p:spPr>
            <a:xfrm>
              <a:off x="1187280" y="112536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圆角矩形 6"/>
            <p:cNvSpPr/>
            <p:nvPr/>
          </p:nvSpPr>
          <p:spPr>
            <a:xfrm>
              <a:off x="1187280" y="125964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2252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2253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2253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46" name="组合 2253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4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Box 33"/>
            <p:cNvSpPr/>
            <p:nvPr/>
          </p:nvSpPr>
          <p:spPr>
            <a:xfrm>
              <a:off x="1979280" y="64800"/>
              <a:ext cx="5474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戏彩娱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22536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5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2355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355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2355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56" name="组合 2355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5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卖身葬父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23560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6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2457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457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2457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66" name="组合 2458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6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刻木事亲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4584"/>
          <p:cNvGrpSpPr/>
          <p:nvPr/>
        </p:nvGrpSpPr>
        <p:grpSpPr>
          <a:xfrm>
            <a:off x="1187280" y="1125360"/>
            <a:ext cx="6912000" cy="4826160"/>
            <a:chOff x="1187280" y="1125360"/>
            <a:chExt cx="6912000" cy="4826160"/>
          </a:xfrm>
        </p:grpSpPr>
        <p:sp>
          <p:nvSpPr>
            <p:cNvPr id="271" name="圆角矩形 5"/>
            <p:cNvSpPr/>
            <p:nvPr/>
          </p:nvSpPr>
          <p:spPr>
            <a:xfrm>
              <a:off x="1187280" y="112536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圆角矩形 6"/>
            <p:cNvSpPr/>
            <p:nvPr/>
          </p:nvSpPr>
          <p:spPr>
            <a:xfrm>
              <a:off x="1187280" y="125964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2560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560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2560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76" name="组合 2560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7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行佣供母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25608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8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284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292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2"/>
          <p:cNvSpPr/>
          <p:nvPr/>
        </p:nvSpPr>
        <p:spPr>
          <a:xfrm>
            <a:off x="3905280" y="2141640"/>
            <a:ext cx="38037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296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307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307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307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56" name="组合 307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5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亲尝汤药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3080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6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409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09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409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66" name="组合 410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6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怀橘遗亲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4104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7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512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12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512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76" name="组合 512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7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埋儿奉母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5128"/>
          <p:cNvGrpSpPr/>
          <p:nvPr/>
        </p:nvGrpSpPr>
        <p:grpSpPr>
          <a:xfrm>
            <a:off x="1042920" y="1125360"/>
            <a:ext cx="6912000" cy="4826160"/>
            <a:chOff x="1042920" y="1125360"/>
            <a:chExt cx="6912000" cy="4826160"/>
          </a:xfrm>
        </p:grpSpPr>
        <p:sp>
          <p:nvSpPr>
            <p:cNvPr id="81" name="圆角矩形 5"/>
            <p:cNvSpPr/>
            <p:nvPr/>
          </p:nvSpPr>
          <p:spPr>
            <a:xfrm>
              <a:off x="1042920" y="112536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圆角矩形 6"/>
            <p:cNvSpPr/>
            <p:nvPr/>
          </p:nvSpPr>
          <p:spPr>
            <a:xfrm>
              <a:off x="1042920" y="125964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6145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46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6147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86" name="组合 6148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8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扇枕温衾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6152"/>
          <p:cNvGrpSpPr/>
          <p:nvPr/>
        </p:nvGrpSpPr>
        <p:grpSpPr>
          <a:xfrm>
            <a:off x="1187280" y="981000"/>
            <a:ext cx="6912000" cy="4826160"/>
            <a:chOff x="1187280" y="981000"/>
            <a:chExt cx="6912000" cy="4826160"/>
          </a:xfrm>
        </p:grpSpPr>
        <p:sp>
          <p:nvSpPr>
            <p:cNvPr id="91" name="圆角矩形 5"/>
            <p:cNvSpPr/>
            <p:nvPr/>
          </p:nvSpPr>
          <p:spPr>
            <a:xfrm>
              <a:off x="1187280" y="98100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圆角矩形 6"/>
            <p:cNvSpPr/>
            <p:nvPr/>
          </p:nvSpPr>
          <p:spPr>
            <a:xfrm>
              <a:off x="1187280" y="111528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716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717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717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96" name="组合 717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9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拾葚异器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7176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0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819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19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819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06" name="组合 819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0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涌泉跃鲤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8200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11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921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921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921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16" name="组合 922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1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闻雷泣墓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9224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2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1:07:17Z</dcterms:created>
  <dc:creator>HHghost</dc:creator>
  <dc:description/>
  <dc:language>en-US</dc:language>
  <cp:lastModifiedBy>Administrator</cp:lastModifiedBy>
  <dcterms:modified xsi:type="dcterms:W3CDTF">2017-04-10T07:37:50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